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625760" y="304920"/>
            <a:ext cx="59180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énario  1: ordinateur à ordin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3882960" y="2197080"/>
            <a:ext cx="2152440" cy="1193760"/>
            <a:chOff x="3882960" y="2197080"/>
            <a:chExt cx="2152440" cy="1193760"/>
          </a:xfrm>
        </p:grpSpPr>
        <p:grpSp>
          <p:nvGrpSpPr>
            <p:cNvPr id="41" name=""/>
            <p:cNvGrpSpPr/>
            <p:nvPr/>
          </p:nvGrpSpPr>
          <p:grpSpPr>
            <a:xfrm>
              <a:off x="3882960" y="2197080"/>
              <a:ext cx="2152440" cy="1193760"/>
              <a:chOff x="3882960" y="2197080"/>
              <a:chExt cx="2152440" cy="1193760"/>
            </a:xfrm>
          </p:grpSpPr>
          <p:grpSp>
            <p:nvGrpSpPr>
              <p:cNvPr id="42" name=""/>
              <p:cNvGrpSpPr/>
              <p:nvPr/>
            </p:nvGrpSpPr>
            <p:grpSpPr>
              <a:xfrm>
                <a:off x="5140440" y="2306520"/>
                <a:ext cx="894960" cy="1028880"/>
                <a:chOff x="5140440" y="2306520"/>
                <a:chExt cx="894960" cy="1028880"/>
              </a:xfrm>
            </p:grpSpPr>
            <p:grpSp>
              <p:nvGrpSpPr>
                <p:cNvPr id="43" name=""/>
                <p:cNvGrpSpPr/>
                <p:nvPr/>
              </p:nvGrpSpPr>
              <p:grpSpPr>
                <a:xfrm>
                  <a:off x="5483160" y="2306520"/>
                  <a:ext cx="552240" cy="828720"/>
                  <a:chOff x="5483160" y="2306520"/>
                  <a:chExt cx="552240" cy="828720"/>
                </a:xfrm>
              </p:grpSpPr>
              <p:grpSp>
                <p:nvGrpSpPr>
                  <p:cNvPr id="44" name=""/>
                  <p:cNvGrpSpPr/>
                  <p:nvPr/>
                </p:nvGrpSpPr>
                <p:grpSpPr>
                  <a:xfrm>
                    <a:off x="5622840" y="2414520"/>
                    <a:ext cx="412560" cy="611280"/>
                    <a:chOff x="5622840" y="2414520"/>
                    <a:chExt cx="412560" cy="611280"/>
                  </a:xfrm>
                </p:grpSpPr>
                <p:grpSp>
                  <p:nvGrpSpPr>
                    <p:cNvPr id="45" name=""/>
                    <p:cNvGrpSpPr/>
                    <p:nvPr/>
                  </p:nvGrpSpPr>
                  <p:grpSpPr>
                    <a:xfrm>
                      <a:off x="5622840" y="2414520"/>
                      <a:ext cx="412560" cy="611280"/>
                      <a:chOff x="5622840" y="2414520"/>
                      <a:chExt cx="412560" cy="611280"/>
                    </a:xfrm>
                  </p:grpSpPr>
                  <p:grpSp>
                    <p:nvGrpSpPr>
                      <p:cNvPr id="46" name=""/>
                      <p:cNvGrpSpPr/>
                      <p:nvPr/>
                    </p:nvGrpSpPr>
                    <p:grpSpPr>
                      <a:xfrm>
                        <a:off x="5727600" y="2451240"/>
                        <a:ext cx="307800" cy="501480"/>
                        <a:chOff x="5727600" y="2451240"/>
                        <a:chExt cx="307800" cy="501480"/>
                      </a:xfrm>
                    </p:grpSpPr>
                    <p:grpSp>
                      <p:nvGrpSpPr>
                        <p:cNvPr id="47" name=""/>
                        <p:cNvGrpSpPr/>
                        <p:nvPr/>
                      </p:nvGrpSpPr>
                      <p:grpSpPr>
                        <a:xfrm>
                          <a:off x="5762520" y="2451240"/>
                          <a:ext cx="272880" cy="501480"/>
                          <a:chOff x="5762520" y="2451240"/>
                          <a:chExt cx="272880" cy="501480"/>
                        </a:xfrm>
                      </p:grpSpPr>
                      <p:sp>
                        <p:nvSpPr>
                          <p:cNvPr id="48" name=""/>
                          <p:cNvSpPr/>
                          <p:nvPr/>
                        </p:nvSpPr>
                        <p:spPr>
                          <a:xfrm>
                            <a:off x="5902200" y="2743200"/>
                            <a:ext cx="133200" cy="1364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" name=""/>
                          <p:cNvSpPr/>
                          <p:nvPr/>
                        </p:nvSpPr>
                        <p:spPr>
                          <a:xfrm>
                            <a:off x="5797440" y="2778120"/>
                            <a:ext cx="165240" cy="1746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>
                            <a:off x="5867280" y="2560680"/>
                            <a:ext cx="133200" cy="138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>
                            <a:off x="5762520" y="2451240"/>
                            <a:ext cx="166680" cy="1746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>
                            <a:off x="5875200" y="2567160"/>
                            <a:ext cx="106560" cy="2782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96" h="773">
                                <a:moveTo>
                                  <a:pt x="296" y="764"/>
                                </a:moveTo>
                                <a:lnTo>
                                  <a:pt x="168" y="773"/>
                                </a:lnTo>
                                <a:lnTo>
                                  <a:pt x="0" y="0"/>
                                </a:lnTo>
                                <a:lnTo>
                                  <a:pt x="186" y="57"/>
                                </a:lnTo>
                                <a:lnTo>
                                  <a:pt x="190" y="437"/>
                                </a:lnTo>
                                <a:lnTo>
                                  <a:pt x="296" y="76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5000" bIns="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3" name=""/>
                        <p:cNvSpPr/>
                        <p:nvPr/>
                      </p:nvSpPr>
                      <p:spPr>
                        <a:xfrm>
                          <a:off x="5727600" y="2597040"/>
                          <a:ext cx="236520" cy="2476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" name=""/>
                        <p:cNvSpPr/>
                        <p:nvPr/>
                      </p:nvSpPr>
                      <p:spPr>
                        <a:xfrm>
                          <a:off x="5727600" y="2743200"/>
                          <a:ext cx="166680" cy="174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" name=""/>
                        <p:cNvSpPr/>
                        <p:nvPr/>
                      </p:nvSpPr>
                      <p:spPr>
                        <a:xfrm>
                          <a:off x="5783400" y="2533680"/>
                          <a:ext cx="113040" cy="30204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314" h="839">
                              <a:moveTo>
                                <a:pt x="287" y="145"/>
                              </a:moveTo>
                              <a:lnTo>
                                <a:pt x="252" y="318"/>
                              </a:lnTo>
                              <a:lnTo>
                                <a:pt x="314" y="720"/>
                              </a:lnTo>
                              <a:lnTo>
                                <a:pt x="190" y="839"/>
                              </a:lnTo>
                              <a:lnTo>
                                <a:pt x="0" y="353"/>
                              </a:lnTo>
                              <a:lnTo>
                                <a:pt x="149" y="0"/>
                              </a:lnTo>
                              <a:lnTo>
                                <a:pt x="287" y="14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6" name=""/>
                      <p:cNvSpPr/>
                      <p:nvPr/>
                    </p:nvSpPr>
                    <p:spPr>
                      <a:xfrm>
                        <a:off x="5727600" y="2887560"/>
                        <a:ext cx="131760" cy="138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" name=""/>
                      <p:cNvSpPr/>
                      <p:nvPr/>
                    </p:nvSpPr>
                    <p:spPr>
                      <a:xfrm>
                        <a:off x="5622840" y="2414520"/>
                        <a:ext cx="166680" cy="1760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" name=""/>
                      <p:cNvSpPr/>
                      <p:nvPr/>
                    </p:nvSpPr>
                    <p:spPr>
                      <a:xfrm>
                        <a:off x="5772240" y="2860560"/>
                        <a:ext cx="79560" cy="543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21" h="151">
                            <a:moveTo>
                              <a:pt x="221" y="93"/>
                            </a:moveTo>
                            <a:lnTo>
                              <a:pt x="155" y="151"/>
                            </a:lnTo>
                            <a:lnTo>
                              <a:pt x="0" y="75"/>
                            </a:lnTo>
                            <a:lnTo>
                              <a:pt x="155" y="0"/>
                            </a:lnTo>
                            <a:lnTo>
                              <a:pt x="221" y="9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txBody>
                      <a:bodyPr lIns="90000" rIns="90000" tIns="9360" bIns="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9" name=""/>
                    <p:cNvSpPr/>
                    <p:nvPr/>
                  </p:nvSpPr>
                  <p:spPr>
                    <a:xfrm>
                      <a:off x="5757840" y="2500200"/>
                      <a:ext cx="43200" cy="90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20" h="252">
                          <a:moveTo>
                            <a:pt x="62" y="0"/>
                          </a:moveTo>
                          <a:lnTo>
                            <a:pt x="120" y="4"/>
                          </a:lnTo>
                          <a:lnTo>
                            <a:pt x="98" y="252"/>
                          </a:lnTo>
                          <a:lnTo>
                            <a:pt x="0" y="203"/>
                          </a:lnTo>
                          <a:lnTo>
                            <a:pt x="62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" name=""/>
                  <p:cNvGrpSpPr/>
                  <p:nvPr/>
                </p:nvGrpSpPr>
                <p:grpSpPr>
                  <a:xfrm>
                    <a:off x="5483160" y="2306520"/>
                    <a:ext cx="376200" cy="755640"/>
                    <a:chOff x="5483160" y="2306520"/>
                    <a:chExt cx="376200" cy="755640"/>
                  </a:xfrm>
                </p:grpSpPr>
                <p:sp>
                  <p:nvSpPr>
                    <p:cNvPr id="61" name=""/>
                    <p:cNvSpPr/>
                    <p:nvPr/>
                  </p:nvSpPr>
                  <p:spPr>
                    <a:xfrm>
                      <a:off x="5516640" y="2743200"/>
                      <a:ext cx="307800" cy="318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5551560" y="2523960"/>
                      <a:ext cx="307800" cy="320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5483160" y="2306520"/>
                      <a:ext cx="236520" cy="24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5622840" y="2451240"/>
                      <a:ext cx="130320" cy="138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5557680" y="2430360"/>
                      <a:ext cx="198720" cy="2703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52" h="751">
                          <a:moveTo>
                            <a:pt x="389" y="30"/>
                          </a:moveTo>
                          <a:lnTo>
                            <a:pt x="384" y="119"/>
                          </a:lnTo>
                          <a:lnTo>
                            <a:pt x="516" y="287"/>
                          </a:lnTo>
                          <a:lnTo>
                            <a:pt x="552" y="305"/>
                          </a:lnTo>
                          <a:lnTo>
                            <a:pt x="358" y="751"/>
                          </a:lnTo>
                          <a:lnTo>
                            <a:pt x="0" y="0"/>
                          </a:lnTo>
                          <a:lnTo>
                            <a:pt x="389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5656320" y="2806560"/>
                      <a:ext cx="125640" cy="73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49" h="204">
                          <a:moveTo>
                            <a:pt x="309" y="30"/>
                          </a:moveTo>
                          <a:lnTo>
                            <a:pt x="349" y="93"/>
                          </a:lnTo>
                          <a:lnTo>
                            <a:pt x="0" y="204"/>
                          </a:lnTo>
                          <a:lnTo>
                            <a:pt x="13" y="0"/>
                          </a:lnTo>
                          <a:lnTo>
                            <a:pt x="309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28440" bIns="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" name=""/>
                  <p:cNvSpPr/>
                  <p:nvPr/>
                </p:nvSpPr>
                <p:spPr>
                  <a:xfrm>
                    <a:off x="5483160" y="2960640"/>
                    <a:ext cx="166680" cy="174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5597640" y="2948040"/>
                    <a:ext cx="81360" cy="87840"/>
                  </a:xfrm>
                  <a:custGeom>
                    <a:avLst/>
                    <a:gdLst/>
                    <a:ahLst/>
                    <a:rect l="0" t="0" r="r" b="b"/>
                    <a:pathLst>
                      <a:path w="226" h="244">
                        <a:moveTo>
                          <a:pt x="93" y="244"/>
                        </a:moveTo>
                        <a:lnTo>
                          <a:pt x="226" y="159"/>
                        </a:lnTo>
                        <a:lnTo>
                          <a:pt x="71" y="0"/>
                        </a:lnTo>
                        <a:lnTo>
                          <a:pt x="0" y="89"/>
                        </a:lnTo>
                        <a:lnTo>
                          <a:pt x="93" y="24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" name=""/>
                <p:cNvSpPr/>
                <p:nvPr/>
              </p:nvSpPr>
              <p:spPr>
                <a:xfrm>
                  <a:off x="5140440" y="3125880"/>
                  <a:ext cx="201600" cy="2095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5307120" y="3125880"/>
                  <a:ext cx="168120" cy="174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403960" y="3067200"/>
                  <a:ext cx="166680" cy="1731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268960" y="3044880"/>
                  <a:ext cx="329040" cy="227520"/>
                </a:xfrm>
                <a:custGeom>
                  <a:avLst/>
                  <a:gdLst/>
                  <a:ahLst/>
                  <a:rect l="0" t="0" r="r" b="b"/>
                  <a:pathLst>
                    <a:path w="914" h="632">
                      <a:moveTo>
                        <a:pt x="853" y="186"/>
                      </a:moveTo>
                      <a:lnTo>
                        <a:pt x="764" y="225"/>
                      </a:lnTo>
                      <a:lnTo>
                        <a:pt x="516" y="478"/>
                      </a:lnTo>
                      <a:lnTo>
                        <a:pt x="459" y="584"/>
                      </a:lnTo>
                      <a:lnTo>
                        <a:pt x="189" y="584"/>
                      </a:lnTo>
                      <a:lnTo>
                        <a:pt x="136" y="632"/>
                      </a:lnTo>
                      <a:lnTo>
                        <a:pt x="0" y="446"/>
                      </a:lnTo>
                      <a:lnTo>
                        <a:pt x="618" y="0"/>
                      </a:lnTo>
                      <a:lnTo>
                        <a:pt x="914" y="101"/>
                      </a:lnTo>
                      <a:lnTo>
                        <a:pt x="853" y="18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3882960" y="2313000"/>
                <a:ext cx="538200" cy="714240"/>
                <a:chOff x="3882960" y="2313000"/>
                <a:chExt cx="538200" cy="714240"/>
              </a:xfrm>
            </p:grpSpPr>
            <p:grpSp>
              <p:nvGrpSpPr>
                <p:cNvPr id="74" name=""/>
                <p:cNvGrpSpPr/>
                <p:nvPr/>
              </p:nvGrpSpPr>
              <p:grpSpPr>
                <a:xfrm>
                  <a:off x="3882960" y="2414520"/>
                  <a:ext cx="292320" cy="430200"/>
                  <a:chOff x="3882960" y="2414520"/>
                  <a:chExt cx="292320" cy="43020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3882960" y="2560680"/>
                    <a:ext cx="130320" cy="13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3905280" y="2670120"/>
                    <a:ext cx="166680" cy="174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3938760" y="2414520"/>
                    <a:ext cx="236520" cy="247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3927600" y="2581200"/>
                    <a:ext cx="79560" cy="128880"/>
                  </a:xfrm>
                  <a:custGeom>
                    <a:avLst/>
                    <a:gdLst/>
                    <a:ahLst/>
                    <a:rect l="0" t="0" r="r" b="b"/>
                    <a:pathLst>
                      <a:path w="221" h="358">
                        <a:moveTo>
                          <a:pt x="128" y="0"/>
                        </a:moveTo>
                        <a:lnTo>
                          <a:pt x="0" y="70"/>
                        </a:lnTo>
                        <a:lnTo>
                          <a:pt x="4" y="287"/>
                        </a:lnTo>
                        <a:lnTo>
                          <a:pt x="48" y="358"/>
                        </a:lnTo>
                        <a:lnTo>
                          <a:pt x="221" y="287"/>
                        </a:lnTo>
                        <a:lnTo>
                          <a:pt x="12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" name=""/>
                <p:cNvGrpSpPr/>
                <p:nvPr/>
              </p:nvGrpSpPr>
              <p:grpSpPr>
                <a:xfrm>
                  <a:off x="3973680" y="2313000"/>
                  <a:ext cx="447480" cy="714240"/>
                  <a:chOff x="3973680" y="2313000"/>
                  <a:chExt cx="447480" cy="714240"/>
                </a:xfrm>
              </p:grpSpPr>
              <p:sp>
                <p:nvSpPr>
                  <p:cNvPr id="80" name=""/>
                  <p:cNvSpPr/>
                  <p:nvPr/>
                </p:nvSpPr>
                <p:spPr>
                  <a:xfrm>
                    <a:off x="4114800" y="2343240"/>
                    <a:ext cx="306360" cy="318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3973680" y="2560680"/>
                    <a:ext cx="168120" cy="174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4010040" y="2670120"/>
                    <a:ext cx="237960" cy="247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4079880" y="2778120"/>
                    <a:ext cx="236520" cy="249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4097160" y="2492280"/>
                    <a:ext cx="210960" cy="21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4273560" y="2313000"/>
                    <a:ext cx="130320" cy="136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4167360" y="2455920"/>
                    <a:ext cx="143280" cy="103680"/>
                  </a:xfrm>
                  <a:custGeom>
                    <a:avLst/>
                    <a:gdLst/>
                    <a:ahLst/>
                    <a:rect l="0" t="0" r="r" b="b"/>
                    <a:pathLst>
                      <a:path w="398" h="288">
                        <a:moveTo>
                          <a:pt x="0" y="80"/>
                        </a:moveTo>
                        <a:lnTo>
                          <a:pt x="48" y="212"/>
                        </a:lnTo>
                        <a:lnTo>
                          <a:pt x="398" y="288"/>
                        </a:lnTo>
                        <a:lnTo>
                          <a:pt x="398" y="111"/>
                        </a:lnTo>
                        <a:lnTo>
                          <a:pt x="26" y="0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4025880" y="2643120"/>
                    <a:ext cx="163800" cy="213120"/>
                  </a:xfrm>
                  <a:custGeom>
                    <a:avLst/>
                    <a:gdLst/>
                    <a:ahLst/>
                    <a:rect l="0" t="0" r="r" b="b"/>
                    <a:pathLst>
                      <a:path w="455" h="592">
                        <a:moveTo>
                          <a:pt x="283" y="0"/>
                        </a:moveTo>
                        <a:lnTo>
                          <a:pt x="0" y="150"/>
                        </a:lnTo>
                        <a:lnTo>
                          <a:pt x="119" y="265"/>
                        </a:lnTo>
                        <a:lnTo>
                          <a:pt x="132" y="557"/>
                        </a:lnTo>
                        <a:lnTo>
                          <a:pt x="198" y="592"/>
                        </a:lnTo>
                        <a:lnTo>
                          <a:pt x="437" y="406"/>
                        </a:lnTo>
                        <a:lnTo>
                          <a:pt x="455" y="57"/>
                        </a:lnTo>
                        <a:lnTo>
                          <a:pt x="28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" name=""/>
                <p:cNvSpPr/>
                <p:nvPr/>
              </p:nvSpPr>
              <p:spPr>
                <a:xfrm>
                  <a:off x="4268880" y="2394000"/>
                  <a:ext cx="84600" cy="98640"/>
                </a:xfrm>
                <a:custGeom>
                  <a:avLst/>
                  <a:gdLst/>
                  <a:ahLst/>
                  <a:rect l="0" t="0" r="r" b="b"/>
                  <a:pathLst>
                    <a:path w="235" h="274">
                      <a:moveTo>
                        <a:pt x="0" y="150"/>
                      </a:moveTo>
                      <a:lnTo>
                        <a:pt x="102" y="0"/>
                      </a:lnTo>
                      <a:lnTo>
                        <a:pt x="235" y="150"/>
                      </a:lnTo>
                      <a:lnTo>
                        <a:pt x="124" y="274"/>
                      </a:lnTo>
                      <a:lnTo>
                        <a:pt x="0" y="15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4149720" y="2197080"/>
                <a:ext cx="1570320" cy="1193760"/>
                <a:chOff x="4149720" y="2197080"/>
                <a:chExt cx="1570320" cy="11937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4640400" y="2233440"/>
                  <a:ext cx="378000" cy="392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4956120" y="2197080"/>
                  <a:ext cx="306360" cy="318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237280" y="2523960"/>
                  <a:ext cx="482760" cy="503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324320" y="2743200"/>
                  <a:ext cx="552600" cy="57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5097600" y="2814480"/>
                  <a:ext cx="411120" cy="428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184640" y="2852640"/>
                  <a:ext cx="306360" cy="318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149720" y="2597040"/>
                  <a:ext cx="306360" cy="318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4289400" y="2306520"/>
                  <a:ext cx="484200" cy="501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711680" y="2887560"/>
                  <a:ext cx="482760" cy="503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307120" y="2343240"/>
                  <a:ext cx="378000" cy="392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200560" y="2197080"/>
                  <a:ext cx="343080" cy="355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280040" y="2295360"/>
                  <a:ext cx="1349640" cy="937080"/>
                </a:xfrm>
                <a:custGeom>
                  <a:avLst/>
                  <a:gdLst/>
                  <a:ahLst/>
                  <a:rect l="0" t="0" r="r" b="b"/>
                  <a:pathLst>
                    <a:path w="3749" h="2603">
                      <a:moveTo>
                        <a:pt x="1155" y="260"/>
                      </a:moveTo>
                      <a:lnTo>
                        <a:pt x="1314" y="74"/>
                      </a:lnTo>
                      <a:lnTo>
                        <a:pt x="2016" y="88"/>
                      </a:lnTo>
                      <a:lnTo>
                        <a:pt x="2510" y="0"/>
                      </a:lnTo>
                      <a:lnTo>
                        <a:pt x="3131" y="308"/>
                      </a:lnTo>
                      <a:lnTo>
                        <a:pt x="3449" y="220"/>
                      </a:lnTo>
                      <a:lnTo>
                        <a:pt x="3612" y="260"/>
                      </a:lnTo>
                      <a:lnTo>
                        <a:pt x="3652" y="1037"/>
                      </a:lnTo>
                      <a:lnTo>
                        <a:pt x="3749" y="1156"/>
                      </a:lnTo>
                      <a:lnTo>
                        <a:pt x="3462" y="1756"/>
                      </a:lnTo>
                      <a:lnTo>
                        <a:pt x="3145" y="1350"/>
                      </a:lnTo>
                      <a:lnTo>
                        <a:pt x="3056" y="1557"/>
                      </a:lnTo>
                      <a:lnTo>
                        <a:pt x="2615" y="2383"/>
                      </a:lnTo>
                      <a:lnTo>
                        <a:pt x="1133" y="2603"/>
                      </a:lnTo>
                      <a:lnTo>
                        <a:pt x="361" y="2440"/>
                      </a:lnTo>
                      <a:lnTo>
                        <a:pt x="119" y="1932"/>
                      </a:lnTo>
                      <a:lnTo>
                        <a:pt x="119" y="1412"/>
                      </a:lnTo>
                      <a:lnTo>
                        <a:pt x="0" y="971"/>
                      </a:lnTo>
                      <a:lnTo>
                        <a:pt x="1155" y="2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"/>
            <p:cNvSpPr txBox="1"/>
            <p:nvPr/>
          </p:nvSpPr>
          <p:spPr>
            <a:xfrm>
              <a:off x="4416480" y="2673360"/>
              <a:ext cx="1403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éseau IP publ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357200" y="2244600"/>
            <a:ext cx="708480" cy="854640"/>
            <a:chOff x="1357200" y="2244600"/>
            <a:chExt cx="708480" cy="854640"/>
          </a:xfrm>
        </p:grpSpPr>
        <p:grpSp>
          <p:nvGrpSpPr>
            <p:cNvPr id="104" name=""/>
            <p:cNvGrpSpPr/>
            <p:nvPr/>
          </p:nvGrpSpPr>
          <p:grpSpPr>
            <a:xfrm>
              <a:off x="1357200" y="2463840"/>
              <a:ext cx="708480" cy="635400"/>
              <a:chOff x="1357200" y="2463840"/>
              <a:chExt cx="708480" cy="6354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1382760" y="2859120"/>
                <a:ext cx="642960" cy="192240"/>
                <a:chOff x="1382760" y="2859120"/>
                <a:chExt cx="642960" cy="19224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382760" y="2859120"/>
                  <a:ext cx="642960" cy="192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744560" y="2894040"/>
                  <a:ext cx="217440" cy="842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1357200" y="2970360"/>
                <a:ext cx="708480" cy="128880"/>
                <a:chOff x="1357200" y="2970360"/>
                <a:chExt cx="708480" cy="1288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357200" y="2970360"/>
                  <a:ext cx="708480" cy="128880"/>
                </a:xfrm>
                <a:custGeom>
                  <a:avLst/>
                  <a:gdLst/>
                  <a:ahLst/>
                  <a:rect l="0" t="0" r="r" b="b"/>
                  <a:pathLst>
                    <a:path w="1968" h="358">
                      <a:moveTo>
                        <a:pt x="246" y="0"/>
                      </a:moveTo>
                      <a:lnTo>
                        <a:pt x="1730" y="0"/>
                      </a:lnTo>
                      <a:lnTo>
                        <a:pt x="1964" y="322"/>
                      </a:lnTo>
                      <a:lnTo>
                        <a:pt x="1968" y="336"/>
                      </a:lnTo>
                      <a:lnTo>
                        <a:pt x="1959" y="349"/>
                      </a:lnTo>
                      <a:lnTo>
                        <a:pt x="1946" y="358"/>
                      </a:lnTo>
                      <a:lnTo>
                        <a:pt x="26" y="358"/>
                      </a:lnTo>
                      <a:lnTo>
                        <a:pt x="13" y="344"/>
                      </a:lnTo>
                      <a:lnTo>
                        <a:pt x="0" y="336"/>
                      </a:lnTo>
                      <a:lnTo>
                        <a:pt x="4" y="314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397160" y="2997360"/>
                  <a:ext cx="470160" cy="82800"/>
                </a:xfrm>
                <a:custGeom>
                  <a:avLst/>
                  <a:gdLst/>
                  <a:ahLst/>
                  <a:rect l="0" t="0" r="r" b="b"/>
                  <a:pathLst>
                    <a:path w="1306" h="230">
                      <a:moveTo>
                        <a:pt x="176" y="0"/>
                      </a:moveTo>
                      <a:lnTo>
                        <a:pt x="1248" y="0"/>
                      </a:lnTo>
                      <a:lnTo>
                        <a:pt x="1306" y="230"/>
                      </a:lnTo>
                      <a:lnTo>
                        <a:pt x="0" y="230"/>
                      </a:lnTo>
                      <a:lnTo>
                        <a:pt x="17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882800" y="2997360"/>
                  <a:ext cx="143280" cy="82800"/>
                </a:xfrm>
                <a:custGeom>
                  <a:avLst/>
                  <a:gdLst/>
                  <a:ahLst/>
                  <a:rect l="0" t="0" r="r" b="b"/>
                  <a:pathLst>
                    <a:path w="398" h="230">
                      <a:moveTo>
                        <a:pt x="0" y="0"/>
                      </a:moveTo>
                      <a:lnTo>
                        <a:pt x="234" y="0"/>
                      </a:lnTo>
                      <a:lnTo>
                        <a:pt x="398" y="230"/>
                      </a:lnTo>
                      <a:lnTo>
                        <a:pt x="74" y="2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1473120" y="2463840"/>
                <a:ext cx="463680" cy="382680"/>
                <a:chOff x="1473120" y="2463840"/>
                <a:chExt cx="463680" cy="3826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1473120" y="2463840"/>
                  <a:ext cx="463680" cy="382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503360" y="2495520"/>
                  <a:ext cx="403200" cy="322200"/>
                </a:xfrm>
                <a:prstGeom prst="rect">
                  <a:avLst/>
                </a:prstGeom>
                <a:solidFill>
                  <a:srgbClr val="1050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855800" y="2495520"/>
                  <a:ext cx="49320" cy="322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870200" y="2513160"/>
                  <a:ext cx="25560" cy="25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871640" y="2655720"/>
                  <a:ext cx="25560" cy="25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871640" y="2714760"/>
                  <a:ext cx="25560" cy="25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871640" y="2773440"/>
                  <a:ext cx="25560" cy="25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" name=""/>
            <p:cNvSpPr/>
            <p:nvPr/>
          </p:nvSpPr>
          <p:spPr>
            <a:xfrm>
              <a:off x="1447920" y="2244600"/>
              <a:ext cx="1843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629160" y="2652840"/>
            <a:ext cx="280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996240" y="4606920"/>
            <a:ext cx="708480" cy="854280"/>
            <a:chOff x="6996240" y="4606920"/>
            <a:chExt cx="708480" cy="854280"/>
          </a:xfrm>
        </p:grpSpPr>
        <p:grpSp>
          <p:nvGrpSpPr>
            <p:cNvPr id="123" name=""/>
            <p:cNvGrpSpPr/>
            <p:nvPr/>
          </p:nvGrpSpPr>
          <p:grpSpPr>
            <a:xfrm>
              <a:off x="6996240" y="4826160"/>
              <a:ext cx="708480" cy="635040"/>
              <a:chOff x="6996240" y="4826160"/>
              <a:chExt cx="708480" cy="63504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7021440" y="5221440"/>
                <a:ext cx="642960" cy="192240"/>
                <a:chOff x="7021440" y="5221440"/>
                <a:chExt cx="642960" cy="19224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7021440" y="5221440"/>
                  <a:ext cx="642960" cy="192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383600" y="5256360"/>
                  <a:ext cx="217440" cy="842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6996240" y="5332320"/>
                <a:ext cx="708480" cy="128880"/>
                <a:chOff x="6996240" y="5332320"/>
                <a:chExt cx="708480" cy="1288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6996240" y="5332320"/>
                  <a:ext cx="708480" cy="128880"/>
                </a:xfrm>
                <a:custGeom>
                  <a:avLst/>
                  <a:gdLst/>
                  <a:ahLst/>
                  <a:rect l="0" t="0" r="r" b="b"/>
                  <a:pathLst>
                    <a:path w="1968" h="358">
                      <a:moveTo>
                        <a:pt x="246" y="0"/>
                      </a:moveTo>
                      <a:lnTo>
                        <a:pt x="1730" y="0"/>
                      </a:lnTo>
                      <a:lnTo>
                        <a:pt x="1964" y="322"/>
                      </a:lnTo>
                      <a:lnTo>
                        <a:pt x="1968" y="336"/>
                      </a:lnTo>
                      <a:lnTo>
                        <a:pt x="1959" y="349"/>
                      </a:lnTo>
                      <a:lnTo>
                        <a:pt x="1946" y="358"/>
                      </a:lnTo>
                      <a:lnTo>
                        <a:pt x="26" y="358"/>
                      </a:lnTo>
                      <a:lnTo>
                        <a:pt x="13" y="344"/>
                      </a:lnTo>
                      <a:lnTo>
                        <a:pt x="0" y="336"/>
                      </a:lnTo>
                      <a:lnTo>
                        <a:pt x="4" y="314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035840" y="5359320"/>
                  <a:ext cx="470160" cy="82800"/>
                </a:xfrm>
                <a:custGeom>
                  <a:avLst/>
                  <a:gdLst/>
                  <a:ahLst/>
                  <a:rect l="0" t="0" r="r" b="b"/>
                  <a:pathLst>
                    <a:path w="1306" h="230">
                      <a:moveTo>
                        <a:pt x="176" y="0"/>
                      </a:moveTo>
                      <a:lnTo>
                        <a:pt x="1248" y="0"/>
                      </a:lnTo>
                      <a:lnTo>
                        <a:pt x="1306" y="230"/>
                      </a:lnTo>
                      <a:lnTo>
                        <a:pt x="0" y="230"/>
                      </a:lnTo>
                      <a:lnTo>
                        <a:pt x="17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521480" y="5359320"/>
                  <a:ext cx="143280" cy="82800"/>
                </a:xfrm>
                <a:custGeom>
                  <a:avLst/>
                  <a:gdLst/>
                  <a:ahLst/>
                  <a:rect l="0" t="0" r="r" b="b"/>
                  <a:pathLst>
                    <a:path w="398" h="230">
                      <a:moveTo>
                        <a:pt x="0" y="0"/>
                      </a:moveTo>
                      <a:lnTo>
                        <a:pt x="234" y="0"/>
                      </a:lnTo>
                      <a:lnTo>
                        <a:pt x="398" y="230"/>
                      </a:lnTo>
                      <a:lnTo>
                        <a:pt x="74" y="2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7112160" y="4826160"/>
                <a:ext cx="463680" cy="382680"/>
                <a:chOff x="7112160" y="4826160"/>
                <a:chExt cx="463680" cy="3826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7112160" y="4826160"/>
                  <a:ext cx="463680" cy="382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142040" y="4857840"/>
                  <a:ext cx="403200" cy="322200"/>
                </a:xfrm>
                <a:prstGeom prst="rect">
                  <a:avLst/>
                </a:prstGeom>
                <a:solidFill>
                  <a:srgbClr val="1050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494480" y="4857840"/>
                  <a:ext cx="49320" cy="322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508880" y="4875120"/>
                  <a:ext cx="25560" cy="25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510320" y="5018040"/>
                  <a:ext cx="25560" cy="25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510320" y="5076720"/>
                  <a:ext cx="25560" cy="25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510320" y="5135400"/>
                  <a:ext cx="25560" cy="25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" name=""/>
            <p:cNvSpPr/>
            <p:nvPr/>
          </p:nvSpPr>
          <p:spPr>
            <a:xfrm>
              <a:off x="7086600" y="4606920"/>
              <a:ext cx="1843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715000" y="3048120"/>
            <a:ext cx="15228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135240" y="1927080"/>
            <a:ext cx="641520" cy="1156320"/>
            <a:chOff x="3135240" y="1927080"/>
            <a:chExt cx="641520" cy="1156320"/>
          </a:xfrm>
        </p:grpSpPr>
        <p:grpSp>
          <p:nvGrpSpPr>
            <p:cNvPr id="142" name=""/>
            <p:cNvGrpSpPr/>
            <p:nvPr/>
          </p:nvGrpSpPr>
          <p:grpSpPr>
            <a:xfrm>
              <a:off x="3363840" y="2259000"/>
              <a:ext cx="321120" cy="824400"/>
              <a:chOff x="3363840" y="2259000"/>
              <a:chExt cx="321120" cy="82440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3363840" y="2967120"/>
                <a:ext cx="321120" cy="116280"/>
                <a:chOff x="3363840" y="2967120"/>
                <a:chExt cx="321120" cy="11628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363840" y="2967120"/>
                  <a:ext cx="49680" cy="116280"/>
                </a:xfrm>
                <a:custGeom>
                  <a:avLst/>
                  <a:gdLst/>
                  <a:ahLst/>
                  <a:rect l="0" t="0" r="r" b="b"/>
                  <a:pathLst>
                    <a:path w="138" h="323">
                      <a:moveTo>
                        <a:pt x="121" y="239"/>
                      </a:moveTo>
                      <a:lnTo>
                        <a:pt x="0" y="323"/>
                      </a:lnTo>
                      <a:lnTo>
                        <a:pt x="53" y="48"/>
                      </a:lnTo>
                      <a:lnTo>
                        <a:pt x="138" y="0"/>
                      </a:lnTo>
                      <a:lnTo>
                        <a:pt x="121" y="239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637080" y="2968560"/>
                  <a:ext cx="47880" cy="113040"/>
                </a:xfrm>
                <a:custGeom>
                  <a:avLst/>
                  <a:gdLst/>
                  <a:ahLst/>
                  <a:rect l="0" t="0" r="r" b="b"/>
                  <a:pathLst>
                    <a:path w="133" h="314">
                      <a:moveTo>
                        <a:pt x="0" y="212"/>
                      </a:moveTo>
                      <a:lnTo>
                        <a:pt x="133" y="314"/>
                      </a:lnTo>
                      <a:lnTo>
                        <a:pt x="84" y="48"/>
                      </a:lnTo>
                      <a:lnTo>
                        <a:pt x="4" y="0"/>
                      </a:lnTo>
                      <a:lnTo>
                        <a:pt x="0" y="212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363840" y="3052800"/>
                  <a:ext cx="321120" cy="30600"/>
                </a:xfrm>
                <a:custGeom>
                  <a:avLst/>
                  <a:gdLst/>
                  <a:ahLst/>
                  <a:rect l="0" t="0" r="r" b="b"/>
                  <a:pathLst>
                    <a:path w="892" h="85">
                      <a:moveTo>
                        <a:pt x="0" y="81"/>
                      </a:moveTo>
                      <a:lnTo>
                        <a:pt x="892" y="85"/>
                      </a:lnTo>
                      <a:lnTo>
                        <a:pt x="782" y="0"/>
                      </a:lnTo>
                      <a:lnTo>
                        <a:pt x="123" y="0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400560" y="3046320"/>
                  <a:ext cx="254520" cy="25920"/>
                </a:xfrm>
                <a:custGeom>
                  <a:avLst/>
                  <a:gdLst/>
                  <a:ahLst/>
                  <a:rect l="0" t="0" r="r" b="b"/>
                  <a:pathLst>
                    <a:path w="707" h="72">
                      <a:moveTo>
                        <a:pt x="0" y="0"/>
                      </a:moveTo>
                      <a:lnTo>
                        <a:pt x="22" y="72"/>
                      </a:lnTo>
                      <a:lnTo>
                        <a:pt x="689" y="72"/>
                      </a:lnTo>
                      <a:lnTo>
                        <a:pt x="7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>
                <a:off x="3402000" y="2262240"/>
                <a:ext cx="252360" cy="785880"/>
              </a:xfrm>
              <a:prstGeom prst="rect">
                <a:avLst/>
              </a:prstGeom>
              <a:solidFill>
                <a:srgbClr val="a0a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430440" y="2284560"/>
                <a:ext cx="190800" cy="35280"/>
              </a:xfrm>
              <a:custGeom>
                <a:avLst/>
                <a:gdLst/>
                <a:ahLst/>
                <a:rect l="0" t="0" r="r" b="b"/>
                <a:pathLst>
                  <a:path w="530" h="98">
                    <a:moveTo>
                      <a:pt x="0" y="0"/>
                    </a:moveTo>
                    <a:lnTo>
                      <a:pt x="530" y="0"/>
                    </a:lnTo>
                    <a:lnTo>
                      <a:pt x="530" y="98"/>
                    </a:lnTo>
                    <a:lnTo>
                      <a:pt x="0" y="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432240" y="2367000"/>
                <a:ext cx="189360" cy="33840"/>
              </a:xfrm>
              <a:custGeom>
                <a:avLst/>
                <a:gdLst/>
                <a:ahLst/>
                <a:rect l="0" t="0" r="r" b="b"/>
                <a:pathLst>
                  <a:path w="526" h="94">
                    <a:moveTo>
                      <a:pt x="0" y="0"/>
                    </a:moveTo>
                    <a:lnTo>
                      <a:pt x="526" y="0"/>
                    </a:lnTo>
                    <a:lnTo>
                      <a:pt x="526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3433680" y="2319480"/>
                <a:ext cx="186120" cy="60480"/>
                <a:chOff x="3433680" y="2319480"/>
                <a:chExt cx="186120" cy="604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433680" y="2319480"/>
                  <a:ext cx="186120" cy="46440"/>
                </a:xfrm>
                <a:custGeom>
                  <a:avLst/>
                  <a:gdLst/>
                  <a:ahLst/>
                  <a:rect l="0" t="0" r="r" b="b"/>
                  <a:pathLst>
                    <a:path w="517" h="129">
                      <a:moveTo>
                        <a:pt x="0" y="0"/>
                      </a:moveTo>
                      <a:lnTo>
                        <a:pt x="517" y="0"/>
                      </a:lnTo>
                      <a:lnTo>
                        <a:pt x="517" y="129"/>
                      </a:lnTo>
                      <a:lnTo>
                        <a:pt x="0" y="1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573360" y="2320920"/>
                  <a:ext cx="42840" cy="41400"/>
                </a:xfrm>
                <a:prstGeom prst="round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578400" y="2325600"/>
                  <a:ext cx="33480" cy="31680"/>
                </a:xfrm>
                <a:prstGeom prst="rect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594240" y="2347920"/>
                  <a:ext cx="25560" cy="25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579840" y="2327400"/>
                  <a:ext cx="31680" cy="255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436920" y="2322360"/>
                  <a:ext cx="36360" cy="39600"/>
                </a:xfrm>
                <a:prstGeom prst="rect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473280" y="2322360"/>
                  <a:ext cx="36360" cy="39600"/>
                </a:xfrm>
                <a:prstGeom prst="rect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511440" y="2320920"/>
                  <a:ext cx="28440" cy="41400"/>
                </a:xfrm>
                <a:prstGeom prst="rect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540240" y="2320920"/>
                  <a:ext cx="30240" cy="41400"/>
                </a:xfrm>
                <a:prstGeom prst="rect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446640" y="2341440"/>
                  <a:ext cx="25560" cy="25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438360" y="2322360"/>
                  <a:ext cx="34920" cy="2556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473280" y="2322360"/>
                  <a:ext cx="36360" cy="2556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510000" y="2320920"/>
                  <a:ext cx="30240" cy="2556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540240" y="2320920"/>
                  <a:ext cx="30240" cy="2556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498840" y="2333520"/>
                  <a:ext cx="25560" cy="255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498840" y="2343240"/>
                  <a:ext cx="25560" cy="255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498840" y="2354400"/>
                  <a:ext cx="25560" cy="255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514680" y="234144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543480" y="234144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430440" y="2641680"/>
                <a:ext cx="211680" cy="25920"/>
                <a:chOff x="3430440" y="2641680"/>
                <a:chExt cx="211680" cy="259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430440" y="26416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2600">
                  <a:solidFill>
                    <a:srgbClr val="202020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436920" y="26416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2600">
                  <a:solidFill>
                    <a:srgbClr val="202020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443400" y="26416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2600">
                  <a:solidFill>
                    <a:srgbClr val="202020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449520" y="26416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2600">
                  <a:solidFill>
                    <a:srgbClr val="202020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6" name=""/>
                <p:cNvGrpSpPr/>
                <p:nvPr/>
              </p:nvGrpSpPr>
              <p:grpSpPr>
                <a:xfrm>
                  <a:off x="3457440" y="2641680"/>
                  <a:ext cx="46800" cy="25920"/>
                  <a:chOff x="3457440" y="2641680"/>
                  <a:chExt cx="46800" cy="2592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>
                    <a:off x="3457440" y="264168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67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3462480" y="264168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67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3470400" y="264168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67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3478320" y="264168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67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3483000" y="2641680"/>
                  <a:ext cx="73440" cy="25920"/>
                  <a:chOff x="3483000" y="2641680"/>
                  <a:chExt cx="73440" cy="25920"/>
                </a:xfrm>
              </p:grpSpPr>
              <p:grpSp>
                <p:nvGrpSpPr>
                  <p:cNvPr id="182" name=""/>
                  <p:cNvGrpSpPr/>
                  <p:nvPr/>
                </p:nvGrpSpPr>
                <p:grpSpPr>
                  <a:xfrm>
                    <a:off x="3483000" y="2641680"/>
                    <a:ext cx="45000" cy="25920"/>
                    <a:chOff x="3483000" y="2641680"/>
                    <a:chExt cx="45000" cy="25920"/>
                  </a:xfrm>
                </p:grpSpPr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3483000" y="264168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3489480" y="264168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3495600" y="264168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3502080" y="264168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" name=""/>
                  <p:cNvGrpSpPr/>
                  <p:nvPr/>
                </p:nvGrpSpPr>
                <p:grpSpPr>
                  <a:xfrm>
                    <a:off x="3511440" y="2641680"/>
                    <a:ext cx="45000" cy="25920"/>
                    <a:chOff x="3511440" y="2641680"/>
                    <a:chExt cx="45000" cy="25920"/>
                  </a:xfrm>
                </p:grpSpPr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3511440" y="264168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3516480" y="264168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3522600" y="264168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3530520" y="264168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3535200" y="2641680"/>
                  <a:ext cx="72000" cy="25920"/>
                  <a:chOff x="3535200" y="2641680"/>
                  <a:chExt cx="72000" cy="25920"/>
                </a:xfrm>
              </p:grpSpPr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3535200" y="2641680"/>
                    <a:ext cx="46800" cy="25920"/>
                    <a:chOff x="3535200" y="2641680"/>
                    <a:chExt cx="46800" cy="2592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3535200" y="264168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3541680" y="264168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3549600" y="264168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3556080" y="264168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3564000" y="2641680"/>
                    <a:ext cx="43200" cy="25920"/>
                    <a:chOff x="3564000" y="2641680"/>
                    <a:chExt cx="43200" cy="259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3564000" y="264168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3568680" y="264168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3575160" y="264168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3581280" y="264168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3587760" y="2641680"/>
                  <a:ext cx="46440" cy="25920"/>
                  <a:chOff x="3587760" y="2641680"/>
                  <a:chExt cx="46440" cy="259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3587760" y="264168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595680" y="264168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602160" y="264168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3608280" y="264168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8" name=""/>
                <p:cNvSpPr/>
                <p:nvPr/>
              </p:nvSpPr>
              <p:spPr>
                <a:xfrm>
                  <a:off x="3616200" y="26416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2600">
                  <a:solidFill>
                    <a:srgbClr val="202020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3429000" y="2665440"/>
                <a:ext cx="195120" cy="239760"/>
                <a:chOff x="3429000" y="2665440"/>
                <a:chExt cx="195120" cy="2397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3429000" y="2665440"/>
                  <a:ext cx="195120" cy="2397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451320" y="2690640"/>
                  <a:ext cx="41400" cy="41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3430440" y="2521080"/>
                <a:ext cx="193680" cy="119160"/>
                <a:chOff x="3430440" y="2521080"/>
                <a:chExt cx="193680" cy="1191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3430440" y="2521080"/>
                  <a:ext cx="192240" cy="1191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433680" y="2579760"/>
                  <a:ext cx="190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3427560" y="2905200"/>
                <a:ext cx="213120" cy="143280"/>
                <a:chOff x="3427560" y="2905200"/>
                <a:chExt cx="213120" cy="143280"/>
              </a:xfrm>
            </p:grpSpPr>
            <p:grpSp>
              <p:nvGrpSpPr>
                <p:cNvPr id="216" name=""/>
                <p:cNvGrpSpPr/>
                <p:nvPr/>
              </p:nvGrpSpPr>
              <p:grpSpPr>
                <a:xfrm>
                  <a:off x="3432240" y="3022560"/>
                  <a:ext cx="208440" cy="25920"/>
                  <a:chOff x="3432240" y="3022560"/>
                  <a:chExt cx="208440" cy="2592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3432240" y="302256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438360" y="302256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444840" y="302256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451320" y="302256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3457440" y="3022560"/>
                    <a:ext cx="46800" cy="25920"/>
                    <a:chOff x="3457440" y="3022560"/>
                    <a:chExt cx="46800" cy="2592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3457440" y="30225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3465360" y="30225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3471840" y="30225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3478320" y="30225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6" name=""/>
                  <p:cNvGrpSpPr/>
                  <p:nvPr/>
                </p:nvGrpSpPr>
                <p:grpSpPr>
                  <a:xfrm>
                    <a:off x="3484440" y="3022560"/>
                    <a:ext cx="70560" cy="25920"/>
                    <a:chOff x="3484440" y="3022560"/>
                    <a:chExt cx="70560" cy="25920"/>
                  </a:xfrm>
                </p:grpSpPr>
                <p:grpSp>
                  <p:nvGrpSpPr>
                    <p:cNvPr id="227" name=""/>
                    <p:cNvGrpSpPr/>
                    <p:nvPr/>
                  </p:nvGrpSpPr>
                  <p:grpSpPr>
                    <a:xfrm>
                      <a:off x="3484440" y="3022560"/>
                      <a:ext cx="43560" cy="25920"/>
                      <a:chOff x="3484440" y="3022560"/>
                      <a:chExt cx="43560" cy="25920"/>
                    </a:xfrm>
                  </p:grpSpPr>
                  <p:sp>
                    <p:nvSpPr>
                      <p:cNvPr id="228" name=""/>
                      <p:cNvSpPr/>
                      <p:nvPr/>
                    </p:nvSpPr>
                    <p:spPr>
                      <a:xfrm>
                        <a:off x="3484440" y="302256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9" name=""/>
                      <p:cNvSpPr/>
                      <p:nvPr/>
                    </p:nvSpPr>
                    <p:spPr>
                      <a:xfrm>
                        <a:off x="3489480" y="302256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0" name=""/>
                      <p:cNvSpPr/>
                      <p:nvPr/>
                    </p:nvSpPr>
                    <p:spPr>
                      <a:xfrm>
                        <a:off x="3495600" y="302256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1" name=""/>
                      <p:cNvSpPr/>
                      <p:nvPr/>
                    </p:nvSpPr>
                    <p:spPr>
                      <a:xfrm>
                        <a:off x="3502080" y="302256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2" name=""/>
                    <p:cNvGrpSpPr/>
                    <p:nvPr/>
                  </p:nvGrpSpPr>
                  <p:grpSpPr>
                    <a:xfrm>
                      <a:off x="3511440" y="3022560"/>
                      <a:ext cx="43560" cy="25920"/>
                      <a:chOff x="3511440" y="3022560"/>
                      <a:chExt cx="43560" cy="25920"/>
                    </a:xfrm>
                  </p:grpSpPr>
                  <p:sp>
                    <p:nvSpPr>
                      <p:cNvPr id="233" name=""/>
                      <p:cNvSpPr/>
                      <p:nvPr/>
                    </p:nvSpPr>
                    <p:spPr>
                      <a:xfrm>
                        <a:off x="3511440" y="302256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67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4" name=""/>
                      <p:cNvSpPr/>
                      <p:nvPr/>
                    </p:nvSpPr>
                    <p:spPr>
                      <a:xfrm>
                        <a:off x="3516480" y="302256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67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5" name=""/>
                      <p:cNvSpPr/>
                      <p:nvPr/>
                    </p:nvSpPr>
                    <p:spPr>
                      <a:xfrm>
                        <a:off x="3522600" y="302256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67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6" name=""/>
                      <p:cNvSpPr/>
                      <p:nvPr/>
                    </p:nvSpPr>
                    <p:spPr>
                      <a:xfrm>
                        <a:off x="3529080" y="302256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67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3535200" y="3022560"/>
                    <a:ext cx="72000" cy="25920"/>
                    <a:chOff x="3535200" y="3022560"/>
                    <a:chExt cx="72000" cy="25920"/>
                  </a:xfrm>
                </p:grpSpPr>
                <p:grpSp>
                  <p:nvGrpSpPr>
                    <p:cNvPr id="238" name=""/>
                    <p:cNvGrpSpPr/>
                    <p:nvPr/>
                  </p:nvGrpSpPr>
                  <p:grpSpPr>
                    <a:xfrm>
                      <a:off x="3535200" y="3022560"/>
                      <a:ext cx="46800" cy="25920"/>
                      <a:chOff x="3535200" y="3022560"/>
                      <a:chExt cx="46800" cy="25920"/>
                    </a:xfrm>
                  </p:grpSpPr>
                  <p:sp>
                    <p:nvSpPr>
                      <p:cNvPr id="239" name=""/>
                      <p:cNvSpPr/>
                      <p:nvPr/>
                    </p:nvSpPr>
                    <p:spPr>
                      <a:xfrm>
                        <a:off x="3535200" y="302256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0" name=""/>
                      <p:cNvSpPr/>
                      <p:nvPr/>
                    </p:nvSpPr>
                    <p:spPr>
                      <a:xfrm>
                        <a:off x="3541680" y="302256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1" name=""/>
                      <p:cNvSpPr/>
                      <p:nvPr/>
                    </p:nvSpPr>
                    <p:spPr>
                      <a:xfrm>
                        <a:off x="3549600" y="302256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2" name=""/>
                      <p:cNvSpPr/>
                      <p:nvPr/>
                    </p:nvSpPr>
                    <p:spPr>
                      <a:xfrm>
                        <a:off x="3556080" y="302256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43" name=""/>
                    <p:cNvGrpSpPr/>
                    <p:nvPr/>
                  </p:nvGrpSpPr>
                  <p:grpSpPr>
                    <a:xfrm>
                      <a:off x="3562200" y="3022560"/>
                      <a:ext cx="45000" cy="25920"/>
                      <a:chOff x="3562200" y="3022560"/>
                      <a:chExt cx="45000" cy="25920"/>
                    </a:xfrm>
                  </p:grpSpPr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3562200" y="302256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67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>
                        <a:off x="3568680" y="302256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67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3575160" y="302256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67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>
                        <a:off x="3581280" y="302256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67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3587760" y="3022560"/>
                    <a:ext cx="45000" cy="25920"/>
                    <a:chOff x="3587760" y="3022560"/>
                    <a:chExt cx="45000" cy="259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3587760" y="30225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3594240" y="30225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3600360" y="30225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3606840" y="30225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3614760" y="302256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3427560" y="2905200"/>
                  <a:ext cx="200520" cy="138600"/>
                  <a:chOff x="3427560" y="2905200"/>
                  <a:chExt cx="200520" cy="13860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3427560" y="2916360"/>
                    <a:ext cx="2005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7" h="72">
                        <a:moveTo>
                          <a:pt x="0" y="45"/>
                        </a:moveTo>
                        <a:lnTo>
                          <a:pt x="8" y="72"/>
                        </a:lnTo>
                        <a:lnTo>
                          <a:pt x="544" y="72"/>
                        </a:lnTo>
                        <a:lnTo>
                          <a:pt x="557" y="45"/>
                        </a:lnTo>
                        <a:lnTo>
                          <a:pt x="544" y="0"/>
                        </a:lnTo>
                        <a:lnTo>
                          <a:pt x="4" y="0"/>
                        </a:lnTo>
                        <a:lnTo>
                          <a:pt x="0" y="45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3427560" y="2944800"/>
                    <a:ext cx="2005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7" h="72">
                        <a:moveTo>
                          <a:pt x="0" y="31"/>
                        </a:moveTo>
                        <a:lnTo>
                          <a:pt x="8" y="72"/>
                        </a:lnTo>
                        <a:lnTo>
                          <a:pt x="548" y="72"/>
                        </a:lnTo>
                        <a:lnTo>
                          <a:pt x="557" y="31"/>
                        </a:lnTo>
                        <a:lnTo>
                          <a:pt x="548" y="0"/>
                        </a:lnTo>
                        <a:lnTo>
                          <a:pt x="8" y="0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3427560" y="2970360"/>
                    <a:ext cx="2005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7" h="72">
                        <a:moveTo>
                          <a:pt x="0" y="45"/>
                        </a:moveTo>
                        <a:lnTo>
                          <a:pt x="8" y="72"/>
                        </a:lnTo>
                        <a:lnTo>
                          <a:pt x="544" y="72"/>
                        </a:lnTo>
                        <a:lnTo>
                          <a:pt x="557" y="45"/>
                        </a:lnTo>
                        <a:lnTo>
                          <a:pt x="544" y="0"/>
                        </a:lnTo>
                        <a:lnTo>
                          <a:pt x="4" y="0"/>
                        </a:lnTo>
                        <a:lnTo>
                          <a:pt x="0" y="45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3427560" y="2998800"/>
                    <a:ext cx="2005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7" h="72">
                        <a:moveTo>
                          <a:pt x="0" y="36"/>
                        </a:moveTo>
                        <a:lnTo>
                          <a:pt x="8" y="72"/>
                        </a:lnTo>
                        <a:lnTo>
                          <a:pt x="544" y="72"/>
                        </a:lnTo>
                        <a:lnTo>
                          <a:pt x="557" y="36"/>
                        </a:lnTo>
                        <a:lnTo>
                          <a:pt x="544" y="0"/>
                        </a:lnTo>
                        <a:lnTo>
                          <a:pt x="4" y="0"/>
                        </a:lnTo>
                        <a:lnTo>
                          <a:pt x="0" y="36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3427560" y="2924280"/>
                    <a:ext cx="198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72">
                        <a:moveTo>
                          <a:pt x="8" y="72"/>
                        </a:moveTo>
                        <a:lnTo>
                          <a:pt x="0" y="0"/>
                        </a:lnTo>
                        <a:lnTo>
                          <a:pt x="552" y="0"/>
                        </a:lnTo>
                        <a:lnTo>
                          <a:pt x="543" y="72"/>
                        </a:lnTo>
                        <a:lnTo>
                          <a:pt x="8" y="7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3427560" y="2949480"/>
                    <a:ext cx="2005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7" h="72">
                        <a:moveTo>
                          <a:pt x="8" y="72"/>
                        </a:moveTo>
                        <a:lnTo>
                          <a:pt x="0" y="0"/>
                        </a:lnTo>
                        <a:lnTo>
                          <a:pt x="557" y="0"/>
                        </a:lnTo>
                        <a:lnTo>
                          <a:pt x="548" y="72"/>
                        </a:lnTo>
                        <a:lnTo>
                          <a:pt x="8" y="7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427560" y="2978280"/>
                    <a:ext cx="198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72">
                        <a:moveTo>
                          <a:pt x="8" y="72"/>
                        </a:moveTo>
                        <a:lnTo>
                          <a:pt x="0" y="0"/>
                        </a:lnTo>
                        <a:lnTo>
                          <a:pt x="552" y="0"/>
                        </a:lnTo>
                        <a:lnTo>
                          <a:pt x="543" y="72"/>
                        </a:lnTo>
                        <a:lnTo>
                          <a:pt x="8" y="7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427560" y="3003480"/>
                    <a:ext cx="198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72">
                        <a:moveTo>
                          <a:pt x="8" y="72"/>
                        </a:moveTo>
                        <a:lnTo>
                          <a:pt x="0" y="0"/>
                        </a:lnTo>
                        <a:lnTo>
                          <a:pt x="552" y="0"/>
                        </a:lnTo>
                        <a:lnTo>
                          <a:pt x="543" y="72"/>
                        </a:lnTo>
                        <a:lnTo>
                          <a:pt x="8" y="7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3427560" y="2905200"/>
                    <a:ext cx="2005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7" h="72">
                        <a:moveTo>
                          <a:pt x="4" y="0"/>
                        </a:moveTo>
                        <a:lnTo>
                          <a:pt x="0" y="72"/>
                        </a:lnTo>
                        <a:lnTo>
                          <a:pt x="557" y="72"/>
                        </a:lnTo>
                        <a:lnTo>
                          <a:pt x="548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3427560" y="3017880"/>
                    <a:ext cx="1972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48" h="72">
                        <a:moveTo>
                          <a:pt x="4" y="72"/>
                        </a:moveTo>
                        <a:lnTo>
                          <a:pt x="0" y="0"/>
                        </a:lnTo>
                        <a:lnTo>
                          <a:pt x="548" y="0"/>
                        </a:lnTo>
                        <a:lnTo>
                          <a:pt x="544" y="72"/>
                        </a:lnTo>
                        <a:lnTo>
                          <a:pt x="4" y="7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427560" y="2930400"/>
                    <a:ext cx="198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72">
                        <a:moveTo>
                          <a:pt x="8" y="0"/>
                        </a:moveTo>
                        <a:lnTo>
                          <a:pt x="0" y="72"/>
                        </a:lnTo>
                        <a:lnTo>
                          <a:pt x="552" y="72"/>
                        </a:lnTo>
                        <a:lnTo>
                          <a:pt x="543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3429000" y="2957400"/>
                    <a:ext cx="198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72">
                        <a:moveTo>
                          <a:pt x="4" y="0"/>
                        </a:moveTo>
                        <a:lnTo>
                          <a:pt x="0" y="72"/>
                        </a:lnTo>
                        <a:lnTo>
                          <a:pt x="552" y="72"/>
                        </a:lnTo>
                        <a:lnTo>
                          <a:pt x="543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427560" y="2984400"/>
                    <a:ext cx="198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72">
                        <a:moveTo>
                          <a:pt x="8" y="0"/>
                        </a:moveTo>
                        <a:lnTo>
                          <a:pt x="0" y="72"/>
                        </a:lnTo>
                        <a:lnTo>
                          <a:pt x="552" y="53"/>
                        </a:lnTo>
                        <a:lnTo>
                          <a:pt x="543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427560" y="3009960"/>
                    <a:ext cx="198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72">
                        <a:moveTo>
                          <a:pt x="4" y="0"/>
                        </a:moveTo>
                        <a:lnTo>
                          <a:pt x="0" y="72"/>
                        </a:lnTo>
                        <a:lnTo>
                          <a:pt x="552" y="72"/>
                        </a:lnTo>
                        <a:lnTo>
                          <a:pt x="543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3429000" y="2963880"/>
                    <a:ext cx="198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72">
                        <a:moveTo>
                          <a:pt x="4" y="72"/>
                        </a:moveTo>
                        <a:lnTo>
                          <a:pt x="0" y="0"/>
                        </a:lnTo>
                        <a:lnTo>
                          <a:pt x="552" y="0"/>
                        </a:lnTo>
                        <a:lnTo>
                          <a:pt x="543" y="72"/>
                        </a:lnTo>
                        <a:lnTo>
                          <a:pt x="4" y="72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3427560" y="2990880"/>
                    <a:ext cx="198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72">
                        <a:moveTo>
                          <a:pt x="4" y="72"/>
                        </a:moveTo>
                        <a:lnTo>
                          <a:pt x="0" y="0"/>
                        </a:lnTo>
                        <a:lnTo>
                          <a:pt x="552" y="0"/>
                        </a:lnTo>
                        <a:lnTo>
                          <a:pt x="543" y="72"/>
                        </a:lnTo>
                        <a:lnTo>
                          <a:pt x="4" y="72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429000" y="2935440"/>
                    <a:ext cx="1972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48" h="72">
                        <a:moveTo>
                          <a:pt x="4" y="72"/>
                        </a:moveTo>
                        <a:lnTo>
                          <a:pt x="0" y="0"/>
                        </a:lnTo>
                        <a:lnTo>
                          <a:pt x="548" y="0"/>
                        </a:lnTo>
                        <a:lnTo>
                          <a:pt x="544" y="72"/>
                        </a:lnTo>
                        <a:lnTo>
                          <a:pt x="4" y="72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3427560" y="2909880"/>
                    <a:ext cx="198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72">
                        <a:moveTo>
                          <a:pt x="8" y="72"/>
                        </a:moveTo>
                        <a:lnTo>
                          <a:pt x="0" y="0"/>
                        </a:lnTo>
                        <a:lnTo>
                          <a:pt x="552" y="0"/>
                        </a:lnTo>
                        <a:lnTo>
                          <a:pt x="543" y="72"/>
                        </a:lnTo>
                        <a:lnTo>
                          <a:pt x="8" y="72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3" name=""/>
              <p:cNvGrpSpPr/>
              <p:nvPr/>
            </p:nvGrpSpPr>
            <p:grpSpPr>
              <a:xfrm>
                <a:off x="3430440" y="2400480"/>
                <a:ext cx="192240" cy="123840"/>
                <a:chOff x="3430440" y="2400480"/>
                <a:chExt cx="192240" cy="123840"/>
              </a:xfrm>
            </p:grpSpPr>
            <p:grpSp>
              <p:nvGrpSpPr>
                <p:cNvPr id="274" name=""/>
                <p:cNvGrpSpPr/>
                <p:nvPr/>
              </p:nvGrpSpPr>
              <p:grpSpPr>
                <a:xfrm>
                  <a:off x="3430440" y="2400480"/>
                  <a:ext cx="192240" cy="120600"/>
                  <a:chOff x="3430440" y="2400480"/>
                  <a:chExt cx="192240" cy="12060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3430440" y="2400480"/>
                    <a:ext cx="192240" cy="120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3432240" y="2459160"/>
                    <a:ext cx="190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3436920" y="2408400"/>
                  <a:ext cx="182520" cy="115920"/>
                  <a:chOff x="3436920" y="2408400"/>
                  <a:chExt cx="182520" cy="11592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3508200" y="2408400"/>
                    <a:ext cx="58680" cy="44280"/>
                  </a:xfrm>
                  <a:prstGeom prst="rect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3436920" y="2422440"/>
                    <a:ext cx="182520" cy="25560"/>
                  </a:xfrm>
                  <a:prstGeom prst="rect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3508200" y="2408400"/>
                    <a:ext cx="576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72">
                        <a:moveTo>
                          <a:pt x="0" y="62"/>
                        </a:moveTo>
                        <a:lnTo>
                          <a:pt x="17" y="21"/>
                        </a:lnTo>
                        <a:lnTo>
                          <a:pt x="143" y="21"/>
                        </a:lnTo>
                        <a:lnTo>
                          <a:pt x="160" y="72"/>
                        </a:lnTo>
                        <a:lnTo>
                          <a:pt x="160" y="0"/>
                        </a:lnTo>
                        <a:lnTo>
                          <a:pt x="0" y="0"/>
                        </a:lnTo>
                        <a:lnTo>
                          <a:pt x="0" y="62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3444840" y="2409840"/>
                    <a:ext cx="25560" cy="25560"/>
                  </a:xfrm>
                  <a:prstGeom prst="rect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3459240" y="2471760"/>
                    <a:ext cx="135000" cy="349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3465360" y="2471760"/>
                    <a:ext cx="1195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332" h="72">
                        <a:moveTo>
                          <a:pt x="98" y="0"/>
                        </a:moveTo>
                        <a:lnTo>
                          <a:pt x="221" y="0"/>
                        </a:lnTo>
                        <a:lnTo>
                          <a:pt x="225" y="31"/>
                        </a:lnTo>
                        <a:lnTo>
                          <a:pt x="332" y="31"/>
                        </a:lnTo>
                        <a:lnTo>
                          <a:pt x="332" y="72"/>
                        </a:lnTo>
                        <a:lnTo>
                          <a:pt x="0" y="72"/>
                        </a:lnTo>
                        <a:lnTo>
                          <a:pt x="0" y="31"/>
                        </a:lnTo>
                        <a:lnTo>
                          <a:pt x="93" y="31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3479760" y="2498760"/>
                    <a:ext cx="25560" cy="25560"/>
                  </a:xfrm>
                  <a:prstGeom prst="rect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3494160" y="2487600"/>
                    <a:ext cx="63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77" h="72">
                        <a:moveTo>
                          <a:pt x="39" y="0"/>
                        </a:moveTo>
                        <a:lnTo>
                          <a:pt x="137" y="0"/>
                        </a:lnTo>
                        <a:lnTo>
                          <a:pt x="177" y="72"/>
                        </a:lnTo>
                        <a:lnTo>
                          <a:pt x="0" y="72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3560760" y="2490840"/>
                    <a:ext cx="25560" cy="25560"/>
                  </a:xfrm>
                  <a:prstGeom prst="rect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3567240" y="2408400"/>
                    <a:ext cx="44640" cy="27360"/>
                    <a:chOff x="3567240" y="2408400"/>
                    <a:chExt cx="44640" cy="273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3567240" y="2408400"/>
                      <a:ext cx="2556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560" bIns="-25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3576600" y="2409840"/>
                      <a:ext cx="3528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8" h="72">
                          <a:moveTo>
                            <a:pt x="4" y="24"/>
                          </a:moveTo>
                          <a:lnTo>
                            <a:pt x="98" y="0"/>
                          </a:lnTo>
                          <a:lnTo>
                            <a:pt x="98" y="24"/>
                          </a:lnTo>
                          <a:lnTo>
                            <a:pt x="0" y="72"/>
                          </a:lnTo>
                          <a:lnTo>
                            <a:pt x="4" y="24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"/>
                  <p:cNvGrpSpPr/>
                  <p:nvPr/>
                </p:nvGrpSpPr>
                <p:grpSpPr>
                  <a:xfrm>
                    <a:off x="3568680" y="2408400"/>
                    <a:ext cx="43200" cy="25920"/>
                    <a:chOff x="3568680" y="2408400"/>
                    <a:chExt cx="43200" cy="25920"/>
                  </a:xfrm>
                </p:grpSpPr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3568680" y="2408400"/>
                      <a:ext cx="25560" cy="2556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3576600" y="2408400"/>
                      <a:ext cx="3528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8" h="72">
                          <a:moveTo>
                            <a:pt x="4" y="24"/>
                          </a:moveTo>
                          <a:lnTo>
                            <a:pt x="98" y="0"/>
                          </a:lnTo>
                          <a:lnTo>
                            <a:pt x="98" y="24"/>
                          </a:lnTo>
                          <a:lnTo>
                            <a:pt x="0" y="72"/>
                          </a:lnTo>
                          <a:lnTo>
                            <a:pt x="4" y="24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3" name=""/>
              <p:cNvGrpSpPr/>
              <p:nvPr/>
            </p:nvGrpSpPr>
            <p:grpSpPr>
              <a:xfrm>
                <a:off x="3402000" y="2259000"/>
                <a:ext cx="252360" cy="29160"/>
                <a:chOff x="3402000" y="2259000"/>
                <a:chExt cx="252360" cy="29160"/>
              </a:xfrm>
            </p:grpSpPr>
            <p:grpSp>
              <p:nvGrpSpPr>
                <p:cNvPr id="294" name=""/>
                <p:cNvGrpSpPr/>
                <p:nvPr/>
              </p:nvGrpSpPr>
              <p:grpSpPr>
                <a:xfrm>
                  <a:off x="3430440" y="2262240"/>
                  <a:ext cx="210240" cy="25920"/>
                  <a:chOff x="3430440" y="2262240"/>
                  <a:chExt cx="210240" cy="2592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>
                    <a:off x="3430440" y="226224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3436920" y="226224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3443400" y="226224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3449520" y="226224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3456000" y="2262240"/>
                    <a:ext cx="46440" cy="25920"/>
                    <a:chOff x="3456000" y="2262240"/>
                    <a:chExt cx="46440" cy="25920"/>
                  </a:xfrm>
                </p:grpSpPr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3456000" y="226224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3462480" y="226224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3470400" y="226224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3476520" y="226224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483000" y="2262240"/>
                    <a:ext cx="72000" cy="25920"/>
                    <a:chOff x="3483000" y="2262240"/>
                    <a:chExt cx="72000" cy="25920"/>
                  </a:xfrm>
                </p:grpSpPr>
                <p:grpSp>
                  <p:nvGrpSpPr>
                    <p:cNvPr id="305" name=""/>
                    <p:cNvGrpSpPr/>
                    <p:nvPr/>
                  </p:nvGrpSpPr>
                  <p:grpSpPr>
                    <a:xfrm>
                      <a:off x="3483000" y="2262240"/>
                      <a:ext cx="45000" cy="25920"/>
                      <a:chOff x="3483000" y="2262240"/>
                      <a:chExt cx="45000" cy="25920"/>
                    </a:xfrm>
                  </p:grpSpPr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3483000" y="22622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7" name=""/>
                      <p:cNvSpPr/>
                      <p:nvPr/>
                    </p:nvSpPr>
                    <p:spPr>
                      <a:xfrm>
                        <a:off x="3489480" y="22622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8" name=""/>
                      <p:cNvSpPr/>
                      <p:nvPr/>
                    </p:nvSpPr>
                    <p:spPr>
                      <a:xfrm>
                        <a:off x="3495600" y="22622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3502080" y="22622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10" name=""/>
                    <p:cNvGrpSpPr/>
                    <p:nvPr/>
                  </p:nvGrpSpPr>
                  <p:grpSpPr>
                    <a:xfrm>
                      <a:off x="3510000" y="2262240"/>
                      <a:ext cx="45000" cy="25920"/>
                      <a:chOff x="3510000" y="2262240"/>
                      <a:chExt cx="45000" cy="25920"/>
                    </a:xfrm>
                  </p:grpSpPr>
                  <p:sp>
                    <p:nvSpPr>
                      <p:cNvPr id="311" name=""/>
                      <p:cNvSpPr/>
                      <p:nvPr/>
                    </p:nvSpPr>
                    <p:spPr>
                      <a:xfrm>
                        <a:off x="3510000" y="22622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2" name=""/>
                      <p:cNvSpPr/>
                      <p:nvPr/>
                    </p:nvSpPr>
                    <p:spPr>
                      <a:xfrm>
                        <a:off x="3516480" y="22622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3" name=""/>
                      <p:cNvSpPr/>
                      <p:nvPr/>
                    </p:nvSpPr>
                    <p:spPr>
                      <a:xfrm>
                        <a:off x="3522600" y="22622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3529080" y="22622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3535200" y="2262240"/>
                    <a:ext cx="72000" cy="25920"/>
                    <a:chOff x="3535200" y="2262240"/>
                    <a:chExt cx="72000" cy="25920"/>
                  </a:xfrm>
                </p:grpSpPr>
                <p:grpSp>
                  <p:nvGrpSpPr>
                    <p:cNvPr id="316" name=""/>
                    <p:cNvGrpSpPr/>
                    <p:nvPr/>
                  </p:nvGrpSpPr>
                  <p:grpSpPr>
                    <a:xfrm>
                      <a:off x="3535200" y="2262240"/>
                      <a:ext cx="46800" cy="25920"/>
                      <a:chOff x="3535200" y="2262240"/>
                      <a:chExt cx="46800" cy="25920"/>
                    </a:xfrm>
                  </p:grpSpPr>
                  <p:sp>
                    <p:nvSpPr>
                      <p:cNvPr id="317" name=""/>
                      <p:cNvSpPr/>
                      <p:nvPr/>
                    </p:nvSpPr>
                    <p:spPr>
                      <a:xfrm>
                        <a:off x="3535200" y="22622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8" name=""/>
                      <p:cNvSpPr/>
                      <p:nvPr/>
                    </p:nvSpPr>
                    <p:spPr>
                      <a:xfrm>
                        <a:off x="3541680" y="22622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" name=""/>
                      <p:cNvSpPr/>
                      <p:nvPr/>
                    </p:nvSpPr>
                    <p:spPr>
                      <a:xfrm>
                        <a:off x="3549600" y="22622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0" name=""/>
                      <p:cNvSpPr/>
                      <p:nvPr/>
                    </p:nvSpPr>
                    <p:spPr>
                      <a:xfrm>
                        <a:off x="3556080" y="22622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21" name=""/>
                    <p:cNvGrpSpPr/>
                    <p:nvPr/>
                  </p:nvGrpSpPr>
                  <p:grpSpPr>
                    <a:xfrm>
                      <a:off x="3562200" y="2262240"/>
                      <a:ext cx="45000" cy="25920"/>
                      <a:chOff x="3562200" y="2262240"/>
                      <a:chExt cx="45000" cy="25920"/>
                    </a:xfrm>
                  </p:grpSpPr>
                  <p:sp>
                    <p:nvSpPr>
                      <p:cNvPr id="322" name=""/>
                      <p:cNvSpPr/>
                      <p:nvPr/>
                    </p:nvSpPr>
                    <p:spPr>
                      <a:xfrm>
                        <a:off x="3562200" y="22622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3" name=""/>
                      <p:cNvSpPr/>
                      <p:nvPr/>
                    </p:nvSpPr>
                    <p:spPr>
                      <a:xfrm>
                        <a:off x="3568680" y="22622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4" name=""/>
                      <p:cNvSpPr/>
                      <p:nvPr/>
                    </p:nvSpPr>
                    <p:spPr>
                      <a:xfrm>
                        <a:off x="3575160" y="22622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5" name=""/>
                      <p:cNvSpPr/>
                      <p:nvPr/>
                    </p:nvSpPr>
                    <p:spPr>
                      <a:xfrm>
                        <a:off x="3581280" y="22622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26" name=""/>
                  <p:cNvGrpSpPr/>
                  <p:nvPr/>
                </p:nvGrpSpPr>
                <p:grpSpPr>
                  <a:xfrm>
                    <a:off x="3587760" y="2262240"/>
                    <a:ext cx="46440" cy="25920"/>
                    <a:chOff x="3587760" y="2262240"/>
                    <a:chExt cx="46440" cy="25920"/>
                  </a:xfrm>
                </p:grpSpPr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3587760" y="226224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3595680" y="226224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3602160" y="226224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3608280" y="226224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1" name=""/>
                  <p:cNvSpPr/>
                  <p:nvPr/>
                </p:nvSpPr>
                <p:spPr>
                  <a:xfrm>
                    <a:off x="3614760" y="226224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2" name=""/>
                <p:cNvSpPr/>
                <p:nvPr/>
              </p:nvSpPr>
              <p:spPr>
                <a:xfrm>
                  <a:off x="3402000" y="2259000"/>
                  <a:ext cx="252360" cy="255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3" name=""/>
            <p:cNvSpPr/>
            <p:nvPr/>
          </p:nvSpPr>
          <p:spPr>
            <a:xfrm>
              <a:off x="3135240" y="1927080"/>
              <a:ext cx="6415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573880" y="3270240"/>
            <a:ext cx="549720" cy="1108440"/>
            <a:chOff x="5573880" y="3270240"/>
            <a:chExt cx="549720" cy="1108440"/>
          </a:xfrm>
        </p:grpSpPr>
        <p:grpSp>
          <p:nvGrpSpPr>
            <p:cNvPr id="335" name=""/>
            <p:cNvGrpSpPr/>
            <p:nvPr/>
          </p:nvGrpSpPr>
          <p:grpSpPr>
            <a:xfrm>
              <a:off x="5802480" y="3554280"/>
              <a:ext cx="321120" cy="824400"/>
              <a:chOff x="5802480" y="3554280"/>
              <a:chExt cx="321120" cy="824400"/>
            </a:xfrm>
          </p:grpSpPr>
          <p:grpSp>
            <p:nvGrpSpPr>
              <p:cNvPr id="336" name=""/>
              <p:cNvGrpSpPr/>
              <p:nvPr/>
            </p:nvGrpSpPr>
            <p:grpSpPr>
              <a:xfrm>
                <a:off x="5802480" y="4262400"/>
                <a:ext cx="321120" cy="116280"/>
                <a:chOff x="5802480" y="4262400"/>
                <a:chExt cx="321120" cy="1162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5802480" y="4262400"/>
                  <a:ext cx="49680" cy="116280"/>
                </a:xfrm>
                <a:custGeom>
                  <a:avLst/>
                  <a:gdLst/>
                  <a:ahLst/>
                  <a:rect l="0" t="0" r="r" b="b"/>
                  <a:pathLst>
                    <a:path w="138" h="323">
                      <a:moveTo>
                        <a:pt x="121" y="239"/>
                      </a:moveTo>
                      <a:lnTo>
                        <a:pt x="0" y="323"/>
                      </a:lnTo>
                      <a:lnTo>
                        <a:pt x="53" y="48"/>
                      </a:lnTo>
                      <a:lnTo>
                        <a:pt x="138" y="0"/>
                      </a:lnTo>
                      <a:lnTo>
                        <a:pt x="121" y="239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075360" y="4264200"/>
                  <a:ext cx="47880" cy="113040"/>
                </a:xfrm>
                <a:custGeom>
                  <a:avLst/>
                  <a:gdLst/>
                  <a:ahLst/>
                  <a:rect l="0" t="0" r="r" b="b"/>
                  <a:pathLst>
                    <a:path w="133" h="314">
                      <a:moveTo>
                        <a:pt x="0" y="212"/>
                      </a:moveTo>
                      <a:lnTo>
                        <a:pt x="133" y="314"/>
                      </a:lnTo>
                      <a:lnTo>
                        <a:pt x="84" y="48"/>
                      </a:lnTo>
                      <a:lnTo>
                        <a:pt x="4" y="0"/>
                      </a:lnTo>
                      <a:lnTo>
                        <a:pt x="0" y="212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802480" y="4348080"/>
                  <a:ext cx="321120" cy="30600"/>
                </a:xfrm>
                <a:custGeom>
                  <a:avLst/>
                  <a:gdLst/>
                  <a:ahLst/>
                  <a:rect l="0" t="0" r="r" b="b"/>
                  <a:pathLst>
                    <a:path w="892" h="85">
                      <a:moveTo>
                        <a:pt x="0" y="81"/>
                      </a:moveTo>
                      <a:lnTo>
                        <a:pt x="892" y="85"/>
                      </a:lnTo>
                      <a:lnTo>
                        <a:pt x="782" y="0"/>
                      </a:lnTo>
                      <a:lnTo>
                        <a:pt x="123" y="0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838840" y="4341960"/>
                  <a:ext cx="254520" cy="25920"/>
                </a:xfrm>
                <a:custGeom>
                  <a:avLst/>
                  <a:gdLst/>
                  <a:ahLst/>
                  <a:rect l="0" t="0" r="r" b="b"/>
                  <a:pathLst>
                    <a:path w="707" h="72">
                      <a:moveTo>
                        <a:pt x="0" y="0"/>
                      </a:moveTo>
                      <a:lnTo>
                        <a:pt x="22" y="72"/>
                      </a:lnTo>
                      <a:lnTo>
                        <a:pt x="689" y="72"/>
                      </a:lnTo>
                      <a:lnTo>
                        <a:pt x="7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5840280" y="3557520"/>
                <a:ext cx="252360" cy="785880"/>
              </a:xfrm>
              <a:prstGeom prst="rect">
                <a:avLst/>
              </a:prstGeom>
              <a:solidFill>
                <a:srgbClr val="a0a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869080" y="3579840"/>
                <a:ext cx="190800" cy="35280"/>
              </a:xfrm>
              <a:custGeom>
                <a:avLst/>
                <a:gdLst/>
                <a:ahLst/>
                <a:rect l="0" t="0" r="r" b="b"/>
                <a:pathLst>
                  <a:path w="530" h="98">
                    <a:moveTo>
                      <a:pt x="0" y="0"/>
                    </a:moveTo>
                    <a:lnTo>
                      <a:pt x="530" y="0"/>
                    </a:lnTo>
                    <a:lnTo>
                      <a:pt x="530" y="98"/>
                    </a:lnTo>
                    <a:lnTo>
                      <a:pt x="0" y="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870520" y="3662280"/>
                <a:ext cx="189360" cy="33840"/>
              </a:xfrm>
              <a:custGeom>
                <a:avLst/>
                <a:gdLst/>
                <a:ahLst/>
                <a:rect l="0" t="0" r="r" b="b"/>
                <a:pathLst>
                  <a:path w="526" h="94">
                    <a:moveTo>
                      <a:pt x="0" y="0"/>
                    </a:moveTo>
                    <a:lnTo>
                      <a:pt x="526" y="0"/>
                    </a:lnTo>
                    <a:lnTo>
                      <a:pt x="526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5872320" y="3614760"/>
                <a:ext cx="186120" cy="60480"/>
                <a:chOff x="5872320" y="3614760"/>
                <a:chExt cx="186120" cy="604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5872320" y="3614760"/>
                  <a:ext cx="186120" cy="46440"/>
                </a:xfrm>
                <a:custGeom>
                  <a:avLst/>
                  <a:gdLst/>
                  <a:ahLst/>
                  <a:rect l="0" t="0" r="r" b="b"/>
                  <a:pathLst>
                    <a:path w="517" h="129">
                      <a:moveTo>
                        <a:pt x="0" y="0"/>
                      </a:moveTo>
                      <a:lnTo>
                        <a:pt x="517" y="0"/>
                      </a:lnTo>
                      <a:lnTo>
                        <a:pt x="517" y="129"/>
                      </a:lnTo>
                      <a:lnTo>
                        <a:pt x="0" y="1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012000" y="3616200"/>
                  <a:ext cx="42840" cy="41400"/>
                </a:xfrm>
                <a:prstGeom prst="round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016680" y="3621240"/>
                  <a:ext cx="33480" cy="31680"/>
                </a:xfrm>
                <a:prstGeom prst="rect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032520" y="3643200"/>
                  <a:ext cx="25560" cy="25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018120" y="3622680"/>
                  <a:ext cx="31680" cy="255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875200" y="3618000"/>
                  <a:ext cx="36360" cy="39600"/>
                </a:xfrm>
                <a:prstGeom prst="rect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911920" y="3618000"/>
                  <a:ext cx="36360" cy="39600"/>
                </a:xfrm>
                <a:prstGeom prst="rect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950080" y="3616200"/>
                  <a:ext cx="28440" cy="41400"/>
                </a:xfrm>
                <a:prstGeom prst="rect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5978520" y="3616200"/>
                  <a:ext cx="30240" cy="41400"/>
                </a:xfrm>
                <a:prstGeom prst="rect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884920" y="3637080"/>
                  <a:ext cx="25560" cy="25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877000" y="3618000"/>
                  <a:ext cx="34920" cy="2556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5911920" y="3618000"/>
                  <a:ext cx="36360" cy="2556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948280" y="3616200"/>
                  <a:ext cx="30240" cy="2556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978520" y="3616200"/>
                  <a:ext cx="30240" cy="2556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937120" y="3629160"/>
                  <a:ext cx="25560" cy="255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937120" y="3638520"/>
                  <a:ext cx="25560" cy="255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937120" y="3649680"/>
                  <a:ext cx="25560" cy="255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952960" y="363708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981760" y="363708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5869080" y="3936960"/>
                <a:ext cx="211680" cy="25920"/>
                <a:chOff x="5869080" y="3936960"/>
                <a:chExt cx="211680" cy="259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5869080" y="39369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2600">
                  <a:solidFill>
                    <a:srgbClr val="202020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875200" y="39369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2600">
                  <a:solidFill>
                    <a:srgbClr val="202020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881680" y="39369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2600">
                  <a:solidFill>
                    <a:srgbClr val="202020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888160" y="39369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2600">
                  <a:solidFill>
                    <a:srgbClr val="202020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9" name=""/>
                <p:cNvGrpSpPr/>
                <p:nvPr/>
              </p:nvGrpSpPr>
              <p:grpSpPr>
                <a:xfrm>
                  <a:off x="5896080" y="3936960"/>
                  <a:ext cx="46440" cy="25920"/>
                  <a:chOff x="5896080" y="3936960"/>
                  <a:chExt cx="46440" cy="2592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>
                    <a:off x="5896080" y="393696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67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5900760" y="393696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67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5908680" y="393696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67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5916600" y="393696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67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5921280" y="3936960"/>
                  <a:ext cx="73800" cy="25920"/>
                  <a:chOff x="5921280" y="3936960"/>
                  <a:chExt cx="73800" cy="25920"/>
                </a:xfrm>
              </p:grpSpPr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921280" y="3936960"/>
                    <a:ext cx="45000" cy="25920"/>
                    <a:chOff x="5921280" y="3936960"/>
                    <a:chExt cx="45000" cy="2592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5921280" y="39369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5927760" y="39369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5934240" y="39369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5940360" y="39369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5950080" y="3936960"/>
                    <a:ext cx="45000" cy="25920"/>
                    <a:chOff x="5950080" y="3936960"/>
                    <a:chExt cx="45000" cy="2592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>
                      <a:off x="5950080" y="39369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5954760" y="39369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5961240" y="39369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5969160" y="39369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5973840" y="3936960"/>
                  <a:ext cx="72000" cy="25920"/>
                  <a:chOff x="5973840" y="3936960"/>
                  <a:chExt cx="72000" cy="25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5973840" y="3936960"/>
                    <a:ext cx="46440" cy="25920"/>
                    <a:chOff x="5973840" y="3936960"/>
                    <a:chExt cx="46440" cy="2592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5973840" y="39369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5979960" y="39369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5987880" y="39369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5994360" y="39369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6002280" y="3936960"/>
                    <a:ext cx="43560" cy="25920"/>
                    <a:chOff x="6002280" y="3936960"/>
                    <a:chExt cx="43560" cy="2592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6002280" y="39369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6006960" y="39369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6013440" y="39369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6019920" y="39369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6026040" y="3936960"/>
                  <a:ext cx="46800" cy="25920"/>
                  <a:chOff x="6026040" y="3936960"/>
                  <a:chExt cx="46800" cy="2592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>
                    <a:off x="6026040" y="393696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6033960" y="393696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6040440" y="393696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6046920" y="393696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"/>
                <p:cNvSpPr/>
                <p:nvPr/>
              </p:nvSpPr>
              <p:spPr>
                <a:xfrm>
                  <a:off x="6054840" y="39369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2600">
                  <a:solidFill>
                    <a:srgbClr val="202020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867280" y="3960720"/>
                <a:ext cx="195120" cy="239760"/>
                <a:chOff x="5867280" y="3960720"/>
                <a:chExt cx="195120" cy="23976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867280" y="3960720"/>
                  <a:ext cx="195120" cy="2397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889600" y="3986280"/>
                  <a:ext cx="41400" cy="41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5869080" y="3816360"/>
                <a:ext cx="193680" cy="119160"/>
                <a:chOff x="5869080" y="3816360"/>
                <a:chExt cx="193680" cy="11916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5869080" y="3816360"/>
                  <a:ext cx="192240" cy="1191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872320" y="3875040"/>
                  <a:ext cx="190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5865840" y="4200480"/>
                <a:ext cx="213120" cy="143280"/>
                <a:chOff x="5865840" y="4200480"/>
                <a:chExt cx="213120" cy="143280"/>
              </a:xfrm>
            </p:grpSpPr>
            <p:grpSp>
              <p:nvGrpSpPr>
                <p:cNvPr id="409" name=""/>
                <p:cNvGrpSpPr/>
                <p:nvPr/>
              </p:nvGrpSpPr>
              <p:grpSpPr>
                <a:xfrm>
                  <a:off x="5870520" y="4317840"/>
                  <a:ext cx="208440" cy="25920"/>
                  <a:chOff x="5870520" y="4317840"/>
                  <a:chExt cx="208440" cy="2592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5870520" y="431784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5877000" y="431784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5883120" y="431784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5889600" y="431784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5896080" y="4317840"/>
                    <a:ext cx="46440" cy="25920"/>
                    <a:chOff x="5896080" y="4317840"/>
                    <a:chExt cx="46440" cy="2592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5896080" y="431784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5904000" y="431784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5910120" y="431784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5916600" y="431784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5923080" y="4317840"/>
                    <a:ext cx="70200" cy="25920"/>
                    <a:chOff x="5923080" y="4317840"/>
                    <a:chExt cx="70200" cy="25920"/>
                  </a:xfrm>
                </p:grpSpPr>
                <p:grpSp>
                  <p:nvGrpSpPr>
                    <p:cNvPr id="420" name=""/>
                    <p:cNvGrpSpPr/>
                    <p:nvPr/>
                  </p:nvGrpSpPr>
                  <p:grpSpPr>
                    <a:xfrm>
                      <a:off x="5923080" y="4317840"/>
                      <a:ext cx="43200" cy="25920"/>
                      <a:chOff x="5923080" y="4317840"/>
                      <a:chExt cx="43200" cy="25920"/>
                    </a:xfrm>
                  </p:grpSpPr>
                  <p:sp>
                    <p:nvSpPr>
                      <p:cNvPr id="421" name=""/>
                      <p:cNvSpPr/>
                      <p:nvPr/>
                    </p:nvSpPr>
                    <p:spPr>
                      <a:xfrm>
                        <a:off x="5923080" y="43178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2" name=""/>
                      <p:cNvSpPr/>
                      <p:nvPr/>
                    </p:nvSpPr>
                    <p:spPr>
                      <a:xfrm>
                        <a:off x="5927760" y="43178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3" name=""/>
                      <p:cNvSpPr/>
                      <p:nvPr/>
                    </p:nvSpPr>
                    <p:spPr>
                      <a:xfrm>
                        <a:off x="5934240" y="43178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4" name=""/>
                      <p:cNvSpPr/>
                      <p:nvPr/>
                    </p:nvSpPr>
                    <p:spPr>
                      <a:xfrm>
                        <a:off x="5940360" y="43178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25" name=""/>
                    <p:cNvGrpSpPr/>
                    <p:nvPr/>
                  </p:nvGrpSpPr>
                  <p:grpSpPr>
                    <a:xfrm>
                      <a:off x="5950080" y="4317840"/>
                      <a:ext cx="43200" cy="25920"/>
                      <a:chOff x="5950080" y="4317840"/>
                      <a:chExt cx="43200" cy="25920"/>
                    </a:xfrm>
                  </p:grpSpPr>
                  <p:sp>
                    <p:nvSpPr>
                      <p:cNvPr id="426" name=""/>
                      <p:cNvSpPr/>
                      <p:nvPr/>
                    </p:nvSpPr>
                    <p:spPr>
                      <a:xfrm>
                        <a:off x="5950080" y="43178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67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7" name=""/>
                      <p:cNvSpPr/>
                      <p:nvPr/>
                    </p:nvSpPr>
                    <p:spPr>
                      <a:xfrm>
                        <a:off x="5954760" y="43178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67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8" name=""/>
                      <p:cNvSpPr/>
                      <p:nvPr/>
                    </p:nvSpPr>
                    <p:spPr>
                      <a:xfrm>
                        <a:off x="5961240" y="43178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67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9" name=""/>
                      <p:cNvSpPr/>
                      <p:nvPr/>
                    </p:nvSpPr>
                    <p:spPr>
                      <a:xfrm>
                        <a:off x="5967360" y="43178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67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5973840" y="4317840"/>
                    <a:ext cx="72000" cy="25920"/>
                    <a:chOff x="5973840" y="4317840"/>
                    <a:chExt cx="72000" cy="25920"/>
                  </a:xfrm>
                </p:grpSpPr>
                <p:grpSp>
                  <p:nvGrpSpPr>
                    <p:cNvPr id="431" name=""/>
                    <p:cNvGrpSpPr/>
                    <p:nvPr/>
                  </p:nvGrpSpPr>
                  <p:grpSpPr>
                    <a:xfrm>
                      <a:off x="5973840" y="4317840"/>
                      <a:ext cx="46440" cy="25920"/>
                      <a:chOff x="5973840" y="4317840"/>
                      <a:chExt cx="46440" cy="25920"/>
                    </a:xfrm>
                  </p:grpSpPr>
                  <p:sp>
                    <p:nvSpPr>
                      <p:cNvPr id="432" name=""/>
                      <p:cNvSpPr/>
                      <p:nvPr/>
                    </p:nvSpPr>
                    <p:spPr>
                      <a:xfrm>
                        <a:off x="5973840" y="43178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3" name=""/>
                      <p:cNvSpPr/>
                      <p:nvPr/>
                    </p:nvSpPr>
                    <p:spPr>
                      <a:xfrm>
                        <a:off x="5979960" y="43178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4" name=""/>
                      <p:cNvSpPr/>
                      <p:nvPr/>
                    </p:nvSpPr>
                    <p:spPr>
                      <a:xfrm>
                        <a:off x="5987880" y="43178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5" name=""/>
                      <p:cNvSpPr/>
                      <p:nvPr/>
                    </p:nvSpPr>
                    <p:spPr>
                      <a:xfrm>
                        <a:off x="5994360" y="43178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36" name=""/>
                    <p:cNvGrpSpPr/>
                    <p:nvPr/>
                  </p:nvGrpSpPr>
                  <p:grpSpPr>
                    <a:xfrm>
                      <a:off x="6000840" y="4317840"/>
                      <a:ext cx="45000" cy="25920"/>
                      <a:chOff x="6000840" y="4317840"/>
                      <a:chExt cx="45000" cy="25920"/>
                    </a:xfrm>
                  </p:grpSpPr>
                  <p:sp>
                    <p:nvSpPr>
                      <p:cNvPr id="437" name=""/>
                      <p:cNvSpPr/>
                      <p:nvPr/>
                    </p:nvSpPr>
                    <p:spPr>
                      <a:xfrm>
                        <a:off x="6000840" y="43178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67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8" name=""/>
                      <p:cNvSpPr/>
                      <p:nvPr/>
                    </p:nvSpPr>
                    <p:spPr>
                      <a:xfrm>
                        <a:off x="6006960" y="43178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67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9" name=""/>
                      <p:cNvSpPr/>
                      <p:nvPr/>
                    </p:nvSpPr>
                    <p:spPr>
                      <a:xfrm>
                        <a:off x="6013440" y="43178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67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"/>
                      <p:cNvSpPr/>
                      <p:nvPr/>
                    </p:nvSpPr>
                    <p:spPr>
                      <a:xfrm>
                        <a:off x="6019920" y="43178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67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41" name=""/>
                  <p:cNvGrpSpPr/>
                  <p:nvPr/>
                </p:nvGrpSpPr>
                <p:grpSpPr>
                  <a:xfrm>
                    <a:off x="6026040" y="4317840"/>
                    <a:ext cx="45000" cy="25920"/>
                    <a:chOff x="6026040" y="4317840"/>
                    <a:chExt cx="45000" cy="25920"/>
                  </a:xfrm>
                </p:grpSpPr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6026040" y="431784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6032520" y="431784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6039000" y="431784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6045120" y="431784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6" name=""/>
                  <p:cNvSpPr/>
                  <p:nvPr/>
                </p:nvSpPr>
                <p:spPr>
                  <a:xfrm>
                    <a:off x="6053040" y="431784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7" name=""/>
                <p:cNvGrpSpPr/>
                <p:nvPr/>
              </p:nvGrpSpPr>
              <p:grpSpPr>
                <a:xfrm>
                  <a:off x="5865840" y="4200480"/>
                  <a:ext cx="200520" cy="138600"/>
                  <a:chOff x="5865840" y="4200480"/>
                  <a:chExt cx="200520" cy="13860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>
                    <a:off x="5865840" y="4211640"/>
                    <a:ext cx="2005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7" h="72">
                        <a:moveTo>
                          <a:pt x="0" y="45"/>
                        </a:moveTo>
                        <a:lnTo>
                          <a:pt x="8" y="72"/>
                        </a:lnTo>
                        <a:lnTo>
                          <a:pt x="544" y="72"/>
                        </a:lnTo>
                        <a:lnTo>
                          <a:pt x="557" y="45"/>
                        </a:lnTo>
                        <a:lnTo>
                          <a:pt x="544" y="0"/>
                        </a:lnTo>
                        <a:lnTo>
                          <a:pt x="4" y="0"/>
                        </a:lnTo>
                        <a:lnTo>
                          <a:pt x="0" y="45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5865840" y="4240080"/>
                    <a:ext cx="2005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7" h="72">
                        <a:moveTo>
                          <a:pt x="0" y="31"/>
                        </a:moveTo>
                        <a:lnTo>
                          <a:pt x="8" y="72"/>
                        </a:lnTo>
                        <a:lnTo>
                          <a:pt x="548" y="72"/>
                        </a:lnTo>
                        <a:lnTo>
                          <a:pt x="557" y="31"/>
                        </a:lnTo>
                        <a:lnTo>
                          <a:pt x="548" y="0"/>
                        </a:lnTo>
                        <a:lnTo>
                          <a:pt x="8" y="0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5865840" y="4265640"/>
                    <a:ext cx="2005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7" h="72">
                        <a:moveTo>
                          <a:pt x="0" y="45"/>
                        </a:moveTo>
                        <a:lnTo>
                          <a:pt x="8" y="72"/>
                        </a:lnTo>
                        <a:lnTo>
                          <a:pt x="544" y="72"/>
                        </a:lnTo>
                        <a:lnTo>
                          <a:pt x="557" y="45"/>
                        </a:lnTo>
                        <a:lnTo>
                          <a:pt x="544" y="0"/>
                        </a:lnTo>
                        <a:lnTo>
                          <a:pt x="4" y="0"/>
                        </a:lnTo>
                        <a:lnTo>
                          <a:pt x="0" y="45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5865840" y="4294080"/>
                    <a:ext cx="2005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7" h="72">
                        <a:moveTo>
                          <a:pt x="0" y="36"/>
                        </a:moveTo>
                        <a:lnTo>
                          <a:pt x="8" y="72"/>
                        </a:lnTo>
                        <a:lnTo>
                          <a:pt x="544" y="72"/>
                        </a:lnTo>
                        <a:lnTo>
                          <a:pt x="557" y="36"/>
                        </a:lnTo>
                        <a:lnTo>
                          <a:pt x="544" y="0"/>
                        </a:lnTo>
                        <a:lnTo>
                          <a:pt x="4" y="0"/>
                        </a:lnTo>
                        <a:lnTo>
                          <a:pt x="0" y="36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5865840" y="4219560"/>
                    <a:ext cx="198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72">
                        <a:moveTo>
                          <a:pt x="8" y="72"/>
                        </a:moveTo>
                        <a:lnTo>
                          <a:pt x="0" y="0"/>
                        </a:lnTo>
                        <a:lnTo>
                          <a:pt x="552" y="0"/>
                        </a:lnTo>
                        <a:lnTo>
                          <a:pt x="543" y="72"/>
                        </a:lnTo>
                        <a:lnTo>
                          <a:pt x="8" y="7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5865840" y="4245120"/>
                    <a:ext cx="2005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7" h="72">
                        <a:moveTo>
                          <a:pt x="8" y="72"/>
                        </a:moveTo>
                        <a:lnTo>
                          <a:pt x="0" y="0"/>
                        </a:lnTo>
                        <a:lnTo>
                          <a:pt x="557" y="0"/>
                        </a:lnTo>
                        <a:lnTo>
                          <a:pt x="548" y="72"/>
                        </a:lnTo>
                        <a:lnTo>
                          <a:pt x="8" y="7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5865840" y="4273560"/>
                    <a:ext cx="198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72">
                        <a:moveTo>
                          <a:pt x="8" y="72"/>
                        </a:moveTo>
                        <a:lnTo>
                          <a:pt x="0" y="0"/>
                        </a:lnTo>
                        <a:lnTo>
                          <a:pt x="552" y="0"/>
                        </a:lnTo>
                        <a:lnTo>
                          <a:pt x="543" y="72"/>
                        </a:lnTo>
                        <a:lnTo>
                          <a:pt x="8" y="7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5865840" y="4299120"/>
                    <a:ext cx="198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72">
                        <a:moveTo>
                          <a:pt x="8" y="72"/>
                        </a:moveTo>
                        <a:lnTo>
                          <a:pt x="0" y="0"/>
                        </a:lnTo>
                        <a:lnTo>
                          <a:pt x="552" y="0"/>
                        </a:lnTo>
                        <a:lnTo>
                          <a:pt x="543" y="72"/>
                        </a:lnTo>
                        <a:lnTo>
                          <a:pt x="8" y="7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5865840" y="4200480"/>
                    <a:ext cx="2005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7" h="72">
                        <a:moveTo>
                          <a:pt x="4" y="0"/>
                        </a:moveTo>
                        <a:lnTo>
                          <a:pt x="0" y="72"/>
                        </a:lnTo>
                        <a:lnTo>
                          <a:pt x="557" y="72"/>
                        </a:lnTo>
                        <a:lnTo>
                          <a:pt x="548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5865840" y="4313160"/>
                    <a:ext cx="1972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48" h="72">
                        <a:moveTo>
                          <a:pt x="4" y="72"/>
                        </a:moveTo>
                        <a:lnTo>
                          <a:pt x="0" y="0"/>
                        </a:lnTo>
                        <a:lnTo>
                          <a:pt x="548" y="0"/>
                        </a:lnTo>
                        <a:lnTo>
                          <a:pt x="544" y="72"/>
                        </a:lnTo>
                        <a:lnTo>
                          <a:pt x="4" y="7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5865840" y="4226040"/>
                    <a:ext cx="198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72">
                        <a:moveTo>
                          <a:pt x="8" y="0"/>
                        </a:moveTo>
                        <a:lnTo>
                          <a:pt x="0" y="72"/>
                        </a:lnTo>
                        <a:lnTo>
                          <a:pt x="552" y="72"/>
                        </a:lnTo>
                        <a:lnTo>
                          <a:pt x="543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5867280" y="4253040"/>
                    <a:ext cx="198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72">
                        <a:moveTo>
                          <a:pt x="4" y="0"/>
                        </a:moveTo>
                        <a:lnTo>
                          <a:pt x="0" y="72"/>
                        </a:lnTo>
                        <a:lnTo>
                          <a:pt x="552" y="72"/>
                        </a:lnTo>
                        <a:lnTo>
                          <a:pt x="543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5865840" y="4280040"/>
                    <a:ext cx="198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72">
                        <a:moveTo>
                          <a:pt x="8" y="0"/>
                        </a:moveTo>
                        <a:lnTo>
                          <a:pt x="0" y="72"/>
                        </a:lnTo>
                        <a:lnTo>
                          <a:pt x="552" y="53"/>
                        </a:lnTo>
                        <a:lnTo>
                          <a:pt x="543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5865840" y="4305240"/>
                    <a:ext cx="198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72">
                        <a:moveTo>
                          <a:pt x="4" y="0"/>
                        </a:moveTo>
                        <a:lnTo>
                          <a:pt x="0" y="72"/>
                        </a:lnTo>
                        <a:lnTo>
                          <a:pt x="552" y="72"/>
                        </a:lnTo>
                        <a:lnTo>
                          <a:pt x="543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5867280" y="4259160"/>
                    <a:ext cx="198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72">
                        <a:moveTo>
                          <a:pt x="4" y="72"/>
                        </a:moveTo>
                        <a:lnTo>
                          <a:pt x="0" y="0"/>
                        </a:lnTo>
                        <a:lnTo>
                          <a:pt x="552" y="0"/>
                        </a:lnTo>
                        <a:lnTo>
                          <a:pt x="543" y="72"/>
                        </a:lnTo>
                        <a:lnTo>
                          <a:pt x="4" y="72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5865840" y="4286160"/>
                    <a:ext cx="198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72">
                        <a:moveTo>
                          <a:pt x="4" y="72"/>
                        </a:moveTo>
                        <a:lnTo>
                          <a:pt x="0" y="0"/>
                        </a:lnTo>
                        <a:lnTo>
                          <a:pt x="552" y="0"/>
                        </a:lnTo>
                        <a:lnTo>
                          <a:pt x="543" y="72"/>
                        </a:lnTo>
                        <a:lnTo>
                          <a:pt x="4" y="72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5867280" y="4230720"/>
                    <a:ext cx="1972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48" h="72">
                        <a:moveTo>
                          <a:pt x="4" y="72"/>
                        </a:moveTo>
                        <a:lnTo>
                          <a:pt x="0" y="0"/>
                        </a:lnTo>
                        <a:lnTo>
                          <a:pt x="548" y="0"/>
                        </a:lnTo>
                        <a:lnTo>
                          <a:pt x="544" y="72"/>
                        </a:lnTo>
                        <a:lnTo>
                          <a:pt x="4" y="72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5865840" y="4205160"/>
                    <a:ext cx="198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72">
                        <a:moveTo>
                          <a:pt x="8" y="72"/>
                        </a:moveTo>
                        <a:lnTo>
                          <a:pt x="0" y="0"/>
                        </a:lnTo>
                        <a:lnTo>
                          <a:pt x="552" y="0"/>
                        </a:lnTo>
                        <a:lnTo>
                          <a:pt x="543" y="72"/>
                        </a:lnTo>
                        <a:lnTo>
                          <a:pt x="8" y="72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6" name=""/>
              <p:cNvGrpSpPr/>
              <p:nvPr/>
            </p:nvGrpSpPr>
            <p:grpSpPr>
              <a:xfrm>
                <a:off x="5869080" y="3695760"/>
                <a:ext cx="192240" cy="123840"/>
                <a:chOff x="5869080" y="3695760"/>
                <a:chExt cx="192240" cy="123840"/>
              </a:xfrm>
            </p:grpSpPr>
            <p:grpSp>
              <p:nvGrpSpPr>
                <p:cNvPr id="467" name=""/>
                <p:cNvGrpSpPr/>
                <p:nvPr/>
              </p:nvGrpSpPr>
              <p:grpSpPr>
                <a:xfrm>
                  <a:off x="5869080" y="3695760"/>
                  <a:ext cx="192240" cy="120600"/>
                  <a:chOff x="5869080" y="3695760"/>
                  <a:chExt cx="192240" cy="12060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>
                    <a:off x="5869080" y="3695760"/>
                    <a:ext cx="192240" cy="120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5870520" y="3754440"/>
                    <a:ext cx="190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5875200" y="3703680"/>
                  <a:ext cx="182520" cy="115920"/>
                  <a:chOff x="5875200" y="3703680"/>
                  <a:chExt cx="182520" cy="1159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>
                    <a:off x="5946840" y="3703680"/>
                    <a:ext cx="58680" cy="44280"/>
                  </a:xfrm>
                  <a:prstGeom prst="rect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5875200" y="3718080"/>
                    <a:ext cx="182520" cy="25560"/>
                  </a:xfrm>
                  <a:prstGeom prst="rect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5946840" y="3703680"/>
                    <a:ext cx="576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72">
                        <a:moveTo>
                          <a:pt x="0" y="62"/>
                        </a:moveTo>
                        <a:lnTo>
                          <a:pt x="17" y="21"/>
                        </a:lnTo>
                        <a:lnTo>
                          <a:pt x="143" y="21"/>
                        </a:lnTo>
                        <a:lnTo>
                          <a:pt x="160" y="72"/>
                        </a:lnTo>
                        <a:lnTo>
                          <a:pt x="160" y="0"/>
                        </a:lnTo>
                        <a:lnTo>
                          <a:pt x="0" y="0"/>
                        </a:lnTo>
                        <a:lnTo>
                          <a:pt x="0" y="62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5883120" y="3705120"/>
                    <a:ext cx="25560" cy="25560"/>
                  </a:xfrm>
                  <a:prstGeom prst="rect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5897520" y="3767040"/>
                    <a:ext cx="135000" cy="349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5904000" y="3767040"/>
                    <a:ext cx="1195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332" h="72">
                        <a:moveTo>
                          <a:pt x="98" y="0"/>
                        </a:moveTo>
                        <a:lnTo>
                          <a:pt x="221" y="0"/>
                        </a:lnTo>
                        <a:lnTo>
                          <a:pt x="225" y="31"/>
                        </a:lnTo>
                        <a:lnTo>
                          <a:pt x="332" y="31"/>
                        </a:lnTo>
                        <a:lnTo>
                          <a:pt x="332" y="72"/>
                        </a:lnTo>
                        <a:lnTo>
                          <a:pt x="0" y="72"/>
                        </a:lnTo>
                        <a:lnTo>
                          <a:pt x="0" y="31"/>
                        </a:lnTo>
                        <a:lnTo>
                          <a:pt x="93" y="31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5918040" y="3794040"/>
                    <a:ext cx="25560" cy="25560"/>
                  </a:xfrm>
                  <a:prstGeom prst="rect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5932440" y="3782880"/>
                    <a:ext cx="63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77" h="72">
                        <a:moveTo>
                          <a:pt x="39" y="0"/>
                        </a:moveTo>
                        <a:lnTo>
                          <a:pt x="137" y="0"/>
                        </a:lnTo>
                        <a:lnTo>
                          <a:pt x="177" y="72"/>
                        </a:lnTo>
                        <a:lnTo>
                          <a:pt x="0" y="72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5999040" y="3786120"/>
                    <a:ext cx="25560" cy="25560"/>
                  </a:xfrm>
                  <a:prstGeom prst="rect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0" name=""/>
                  <p:cNvGrpSpPr/>
                  <p:nvPr/>
                </p:nvGrpSpPr>
                <p:grpSpPr>
                  <a:xfrm>
                    <a:off x="6005520" y="3703680"/>
                    <a:ext cx="44640" cy="27360"/>
                    <a:chOff x="6005520" y="3703680"/>
                    <a:chExt cx="44640" cy="27360"/>
                  </a:xfrm>
                </p:grpSpPr>
                <p:sp>
                  <p:nvSpPr>
                    <p:cNvPr id="481" name=""/>
                    <p:cNvSpPr/>
                    <p:nvPr/>
                  </p:nvSpPr>
                  <p:spPr>
                    <a:xfrm>
                      <a:off x="6005520" y="3703680"/>
                      <a:ext cx="2556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560" bIns="-25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>
                      <a:off x="6014880" y="3705120"/>
                      <a:ext cx="3528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8" h="72">
                          <a:moveTo>
                            <a:pt x="4" y="24"/>
                          </a:moveTo>
                          <a:lnTo>
                            <a:pt x="98" y="0"/>
                          </a:lnTo>
                          <a:lnTo>
                            <a:pt x="98" y="24"/>
                          </a:lnTo>
                          <a:lnTo>
                            <a:pt x="0" y="72"/>
                          </a:lnTo>
                          <a:lnTo>
                            <a:pt x="4" y="24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6006960" y="3703680"/>
                    <a:ext cx="43200" cy="25920"/>
                    <a:chOff x="6006960" y="3703680"/>
                    <a:chExt cx="43200" cy="25920"/>
                  </a:xfrm>
                </p:grpSpPr>
                <p:sp>
                  <p:nvSpPr>
                    <p:cNvPr id="484" name=""/>
                    <p:cNvSpPr/>
                    <p:nvPr/>
                  </p:nvSpPr>
                  <p:spPr>
                    <a:xfrm>
                      <a:off x="6006960" y="3703680"/>
                      <a:ext cx="25560" cy="2556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6014880" y="3703680"/>
                      <a:ext cx="3528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8" h="72">
                          <a:moveTo>
                            <a:pt x="4" y="24"/>
                          </a:moveTo>
                          <a:lnTo>
                            <a:pt x="98" y="0"/>
                          </a:lnTo>
                          <a:lnTo>
                            <a:pt x="98" y="24"/>
                          </a:lnTo>
                          <a:lnTo>
                            <a:pt x="0" y="72"/>
                          </a:lnTo>
                          <a:lnTo>
                            <a:pt x="4" y="24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86" name=""/>
              <p:cNvGrpSpPr/>
              <p:nvPr/>
            </p:nvGrpSpPr>
            <p:grpSpPr>
              <a:xfrm>
                <a:off x="5840280" y="3554280"/>
                <a:ext cx="252360" cy="29160"/>
                <a:chOff x="5840280" y="3554280"/>
                <a:chExt cx="252360" cy="29160"/>
              </a:xfrm>
            </p:grpSpPr>
            <p:grpSp>
              <p:nvGrpSpPr>
                <p:cNvPr id="487" name=""/>
                <p:cNvGrpSpPr/>
                <p:nvPr/>
              </p:nvGrpSpPr>
              <p:grpSpPr>
                <a:xfrm>
                  <a:off x="5869080" y="3557520"/>
                  <a:ext cx="209880" cy="25920"/>
                  <a:chOff x="5869080" y="3557520"/>
                  <a:chExt cx="209880" cy="2592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>
                    <a:off x="5869080" y="355752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5875200" y="355752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5881680" y="355752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5888160" y="355752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5894280" y="3557520"/>
                    <a:ext cx="46800" cy="25920"/>
                    <a:chOff x="5894280" y="3557520"/>
                    <a:chExt cx="46800" cy="2592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5894280" y="355752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>
                      <a:off x="5900760" y="355752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>
                      <a:off x="5908680" y="355752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>
                      <a:off x="5915160" y="355752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7" name=""/>
                  <p:cNvGrpSpPr/>
                  <p:nvPr/>
                </p:nvGrpSpPr>
                <p:grpSpPr>
                  <a:xfrm>
                    <a:off x="5921280" y="3557520"/>
                    <a:ext cx="72000" cy="25920"/>
                    <a:chOff x="5921280" y="3557520"/>
                    <a:chExt cx="72000" cy="25920"/>
                  </a:xfrm>
                </p:grpSpPr>
                <p:grpSp>
                  <p:nvGrpSpPr>
                    <p:cNvPr id="498" name=""/>
                    <p:cNvGrpSpPr/>
                    <p:nvPr/>
                  </p:nvGrpSpPr>
                  <p:grpSpPr>
                    <a:xfrm>
                      <a:off x="5921280" y="3557520"/>
                      <a:ext cx="45000" cy="25920"/>
                      <a:chOff x="5921280" y="3557520"/>
                      <a:chExt cx="45000" cy="25920"/>
                    </a:xfrm>
                  </p:grpSpPr>
                  <p:sp>
                    <p:nvSpPr>
                      <p:cNvPr id="499" name=""/>
                      <p:cNvSpPr/>
                      <p:nvPr/>
                    </p:nvSpPr>
                    <p:spPr>
                      <a:xfrm>
                        <a:off x="5921280" y="35575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0" name=""/>
                      <p:cNvSpPr/>
                      <p:nvPr/>
                    </p:nvSpPr>
                    <p:spPr>
                      <a:xfrm>
                        <a:off x="5927760" y="35575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1" name=""/>
                      <p:cNvSpPr/>
                      <p:nvPr/>
                    </p:nvSpPr>
                    <p:spPr>
                      <a:xfrm>
                        <a:off x="5934240" y="35575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2" name=""/>
                      <p:cNvSpPr/>
                      <p:nvPr/>
                    </p:nvSpPr>
                    <p:spPr>
                      <a:xfrm>
                        <a:off x="5940360" y="35575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3" name=""/>
                    <p:cNvGrpSpPr/>
                    <p:nvPr/>
                  </p:nvGrpSpPr>
                  <p:grpSpPr>
                    <a:xfrm>
                      <a:off x="5948280" y="3557520"/>
                      <a:ext cx="45000" cy="25920"/>
                      <a:chOff x="5948280" y="3557520"/>
                      <a:chExt cx="45000" cy="25920"/>
                    </a:xfrm>
                  </p:grpSpPr>
                  <p:sp>
                    <p:nvSpPr>
                      <p:cNvPr id="504" name=""/>
                      <p:cNvSpPr/>
                      <p:nvPr/>
                    </p:nvSpPr>
                    <p:spPr>
                      <a:xfrm>
                        <a:off x="5948280" y="35575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5" name=""/>
                      <p:cNvSpPr/>
                      <p:nvPr/>
                    </p:nvSpPr>
                    <p:spPr>
                      <a:xfrm>
                        <a:off x="5954760" y="35575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6" name=""/>
                      <p:cNvSpPr/>
                      <p:nvPr/>
                    </p:nvSpPr>
                    <p:spPr>
                      <a:xfrm>
                        <a:off x="5961240" y="35575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7" name=""/>
                      <p:cNvSpPr/>
                      <p:nvPr/>
                    </p:nvSpPr>
                    <p:spPr>
                      <a:xfrm>
                        <a:off x="5967360" y="35575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08" name=""/>
                  <p:cNvGrpSpPr/>
                  <p:nvPr/>
                </p:nvGrpSpPr>
                <p:grpSpPr>
                  <a:xfrm>
                    <a:off x="5973840" y="3557520"/>
                    <a:ext cx="72000" cy="25920"/>
                    <a:chOff x="5973840" y="3557520"/>
                    <a:chExt cx="72000" cy="25920"/>
                  </a:xfrm>
                </p:grpSpPr>
                <p:grpSp>
                  <p:nvGrpSpPr>
                    <p:cNvPr id="509" name=""/>
                    <p:cNvGrpSpPr/>
                    <p:nvPr/>
                  </p:nvGrpSpPr>
                  <p:grpSpPr>
                    <a:xfrm>
                      <a:off x="5973840" y="3557520"/>
                      <a:ext cx="46440" cy="25920"/>
                      <a:chOff x="5973840" y="3557520"/>
                      <a:chExt cx="46440" cy="25920"/>
                    </a:xfrm>
                  </p:grpSpPr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5973840" y="35575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"/>
                      <p:cNvSpPr/>
                      <p:nvPr/>
                    </p:nvSpPr>
                    <p:spPr>
                      <a:xfrm>
                        <a:off x="5979960" y="35575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5987880" y="35575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5994360" y="35575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4" name=""/>
                    <p:cNvGrpSpPr/>
                    <p:nvPr/>
                  </p:nvGrpSpPr>
                  <p:grpSpPr>
                    <a:xfrm>
                      <a:off x="6000840" y="3557520"/>
                      <a:ext cx="45000" cy="25920"/>
                      <a:chOff x="6000840" y="3557520"/>
                      <a:chExt cx="45000" cy="25920"/>
                    </a:xfrm>
                  </p:grpSpPr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6000840" y="35575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6006960" y="35575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6013440" y="35575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"/>
                      <p:cNvSpPr/>
                      <p:nvPr/>
                    </p:nvSpPr>
                    <p:spPr>
                      <a:xfrm>
                        <a:off x="6019920" y="35575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19" name=""/>
                  <p:cNvGrpSpPr/>
                  <p:nvPr/>
                </p:nvGrpSpPr>
                <p:grpSpPr>
                  <a:xfrm>
                    <a:off x="6026040" y="3557520"/>
                    <a:ext cx="46800" cy="25920"/>
                    <a:chOff x="6026040" y="3557520"/>
                    <a:chExt cx="46800" cy="25920"/>
                  </a:xfrm>
                </p:grpSpPr>
                <p:sp>
                  <p:nvSpPr>
                    <p:cNvPr id="520" name=""/>
                    <p:cNvSpPr/>
                    <p:nvPr/>
                  </p:nvSpPr>
                  <p:spPr>
                    <a:xfrm>
                      <a:off x="6026040" y="355752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6033960" y="355752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6040440" y="355752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6046920" y="355752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24" name=""/>
                  <p:cNvSpPr/>
                  <p:nvPr/>
                </p:nvSpPr>
                <p:spPr>
                  <a:xfrm>
                    <a:off x="6053040" y="355752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5" name=""/>
                <p:cNvSpPr/>
                <p:nvPr/>
              </p:nvSpPr>
              <p:spPr>
                <a:xfrm>
                  <a:off x="5840280" y="3554280"/>
                  <a:ext cx="252360" cy="255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6" name=""/>
            <p:cNvSpPr/>
            <p:nvPr/>
          </p:nvSpPr>
          <p:spPr>
            <a:xfrm>
              <a:off x="5573880" y="3270240"/>
              <a:ext cx="1843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"/>
          <p:cNvSpPr txBox="1"/>
          <p:nvPr/>
        </p:nvSpPr>
        <p:spPr>
          <a:xfrm>
            <a:off x="5927760" y="3108240"/>
            <a:ext cx="67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1905120" y="2438280"/>
            <a:ext cx="1143000" cy="482760"/>
            <a:chOff x="1905120" y="2438280"/>
            <a:chExt cx="1143000" cy="482760"/>
          </a:xfrm>
        </p:grpSpPr>
        <p:sp>
          <p:nvSpPr>
            <p:cNvPr id="529" name=""/>
            <p:cNvSpPr/>
            <p:nvPr/>
          </p:nvSpPr>
          <p:spPr>
            <a:xfrm>
              <a:off x="1905120" y="2706840"/>
              <a:ext cx="296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92400" y="2438280"/>
              <a:ext cx="855720" cy="48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2152800" y="2516040"/>
              <a:ext cx="326880" cy="389160"/>
              <a:chOff x="2152800" y="2516040"/>
              <a:chExt cx="326880" cy="389160"/>
            </a:xfrm>
          </p:grpSpPr>
          <p:sp>
            <p:nvSpPr>
              <p:cNvPr id="532" name=""/>
              <p:cNvSpPr/>
              <p:nvPr/>
            </p:nvSpPr>
            <p:spPr>
              <a:xfrm>
                <a:off x="2284560" y="2516040"/>
                <a:ext cx="195120" cy="208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152800" y="2644920"/>
                <a:ext cx="16200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4" name=""/>
          <p:cNvSpPr/>
          <p:nvPr/>
        </p:nvSpPr>
        <p:spPr>
          <a:xfrm>
            <a:off x="3048120" y="26668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2117880" y="2865600"/>
            <a:ext cx="992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seau accè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324480" y="3886200"/>
            <a:ext cx="76212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095880" y="3962520"/>
            <a:ext cx="2286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010280" y="44197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080040" y="4465800"/>
            <a:ext cx="992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seau accè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38080" y="137160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38080" y="617220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38080" y="137160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8153280" y="137160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032280" y="1812960"/>
            <a:ext cx="67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1219320" y="1066680"/>
            <a:ext cx="670572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914400" y="38088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énario 2: d’ordinateur à téléphone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 de téléphone à ordin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017960" y="4761000"/>
            <a:ext cx="2152800" cy="1193760"/>
            <a:chOff x="4017960" y="4761000"/>
            <a:chExt cx="2152800" cy="1193760"/>
          </a:xfrm>
        </p:grpSpPr>
        <p:grpSp>
          <p:nvGrpSpPr>
            <p:cNvPr id="548" name=""/>
            <p:cNvGrpSpPr/>
            <p:nvPr/>
          </p:nvGrpSpPr>
          <p:grpSpPr>
            <a:xfrm>
              <a:off x="4017960" y="4761000"/>
              <a:ext cx="2152800" cy="1193760"/>
              <a:chOff x="4017960" y="4761000"/>
              <a:chExt cx="2152800" cy="119376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5275440" y="4870440"/>
                <a:ext cx="895320" cy="1028520"/>
                <a:chOff x="5275440" y="4870440"/>
                <a:chExt cx="895320" cy="1028520"/>
              </a:xfrm>
            </p:grpSpPr>
            <p:grpSp>
              <p:nvGrpSpPr>
                <p:cNvPr id="550" name=""/>
                <p:cNvGrpSpPr/>
                <p:nvPr/>
              </p:nvGrpSpPr>
              <p:grpSpPr>
                <a:xfrm>
                  <a:off x="5618160" y="4870440"/>
                  <a:ext cx="552600" cy="828720"/>
                  <a:chOff x="5618160" y="4870440"/>
                  <a:chExt cx="552600" cy="828720"/>
                </a:xfrm>
              </p:grpSpPr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5757840" y="4978440"/>
                    <a:ext cx="412920" cy="611280"/>
                    <a:chOff x="5757840" y="4978440"/>
                    <a:chExt cx="412920" cy="611280"/>
                  </a:xfrm>
                </p:grpSpPr>
                <p:grpSp>
                  <p:nvGrpSpPr>
                    <p:cNvPr id="552" name=""/>
                    <p:cNvGrpSpPr/>
                    <p:nvPr/>
                  </p:nvGrpSpPr>
                  <p:grpSpPr>
                    <a:xfrm>
                      <a:off x="5757840" y="4978440"/>
                      <a:ext cx="412920" cy="611280"/>
                      <a:chOff x="5757840" y="4978440"/>
                      <a:chExt cx="412920" cy="611280"/>
                    </a:xfrm>
                  </p:grpSpPr>
                  <p:grpSp>
                    <p:nvGrpSpPr>
                      <p:cNvPr id="553" name=""/>
                      <p:cNvGrpSpPr/>
                      <p:nvPr/>
                    </p:nvGrpSpPr>
                    <p:grpSpPr>
                      <a:xfrm>
                        <a:off x="5862600" y="5014800"/>
                        <a:ext cx="308160" cy="501840"/>
                        <a:chOff x="5862600" y="5014800"/>
                        <a:chExt cx="308160" cy="501840"/>
                      </a:xfrm>
                    </p:grpSpPr>
                    <p:grpSp>
                      <p:nvGrpSpPr>
                        <p:cNvPr id="554" name=""/>
                        <p:cNvGrpSpPr/>
                        <p:nvPr/>
                      </p:nvGrpSpPr>
                      <p:grpSpPr>
                        <a:xfrm>
                          <a:off x="5899320" y="5014800"/>
                          <a:ext cx="271440" cy="501840"/>
                          <a:chOff x="5899320" y="5014800"/>
                          <a:chExt cx="271440" cy="501840"/>
                        </a:xfrm>
                      </p:grpSpPr>
                      <p:sp>
                        <p:nvSpPr>
                          <p:cNvPr id="555" name=""/>
                          <p:cNvSpPr/>
                          <p:nvPr/>
                        </p:nvSpPr>
                        <p:spPr>
                          <a:xfrm>
                            <a:off x="6039000" y="5307120"/>
                            <a:ext cx="131760" cy="1364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6" name=""/>
                          <p:cNvSpPr/>
                          <p:nvPr/>
                        </p:nvSpPr>
                        <p:spPr>
                          <a:xfrm>
                            <a:off x="5932440" y="5342040"/>
                            <a:ext cx="166680" cy="1746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7" name=""/>
                          <p:cNvSpPr/>
                          <p:nvPr/>
                        </p:nvSpPr>
                        <p:spPr>
                          <a:xfrm>
                            <a:off x="6002280" y="5124600"/>
                            <a:ext cx="133200" cy="138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8" name=""/>
                          <p:cNvSpPr/>
                          <p:nvPr/>
                        </p:nvSpPr>
                        <p:spPr>
                          <a:xfrm>
                            <a:off x="5899320" y="5014800"/>
                            <a:ext cx="165240" cy="1746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9" name=""/>
                          <p:cNvSpPr/>
                          <p:nvPr/>
                        </p:nvSpPr>
                        <p:spPr>
                          <a:xfrm>
                            <a:off x="6010200" y="5129280"/>
                            <a:ext cx="106560" cy="2797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96" h="777">
                                <a:moveTo>
                                  <a:pt x="296" y="768"/>
                                </a:moveTo>
                                <a:lnTo>
                                  <a:pt x="168" y="777"/>
                                </a:lnTo>
                                <a:lnTo>
                                  <a:pt x="0" y="0"/>
                                </a:lnTo>
                                <a:lnTo>
                                  <a:pt x="186" y="61"/>
                                </a:lnTo>
                                <a:lnTo>
                                  <a:pt x="190" y="441"/>
                                </a:lnTo>
                                <a:lnTo>
                                  <a:pt x="296" y="76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5000" bIns="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60" name=""/>
                        <p:cNvSpPr/>
                        <p:nvPr/>
                      </p:nvSpPr>
                      <p:spPr>
                        <a:xfrm>
                          <a:off x="5862600" y="5160960"/>
                          <a:ext cx="237960" cy="2476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1" name=""/>
                        <p:cNvSpPr/>
                        <p:nvPr/>
                      </p:nvSpPr>
                      <p:spPr>
                        <a:xfrm>
                          <a:off x="5862600" y="5307120"/>
                          <a:ext cx="166680" cy="174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2" name=""/>
                        <p:cNvSpPr/>
                        <p:nvPr/>
                      </p:nvSpPr>
                      <p:spPr>
                        <a:xfrm>
                          <a:off x="5918040" y="5097600"/>
                          <a:ext cx="113040" cy="30024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314" h="834">
                              <a:moveTo>
                                <a:pt x="287" y="145"/>
                              </a:moveTo>
                              <a:lnTo>
                                <a:pt x="252" y="317"/>
                              </a:lnTo>
                              <a:lnTo>
                                <a:pt x="314" y="719"/>
                              </a:lnTo>
                              <a:lnTo>
                                <a:pt x="190" y="834"/>
                              </a:lnTo>
                              <a:lnTo>
                                <a:pt x="0" y="352"/>
                              </a:lnTo>
                              <a:lnTo>
                                <a:pt x="149" y="0"/>
                              </a:lnTo>
                              <a:lnTo>
                                <a:pt x="287" y="14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63" name=""/>
                      <p:cNvSpPr/>
                      <p:nvPr/>
                    </p:nvSpPr>
                    <p:spPr>
                      <a:xfrm>
                        <a:off x="5862600" y="5451480"/>
                        <a:ext cx="131760" cy="138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4" name=""/>
                      <p:cNvSpPr/>
                      <p:nvPr/>
                    </p:nvSpPr>
                    <p:spPr>
                      <a:xfrm>
                        <a:off x="5757840" y="4978440"/>
                        <a:ext cx="168120" cy="174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5" name=""/>
                      <p:cNvSpPr/>
                      <p:nvPr/>
                    </p:nvSpPr>
                    <p:spPr>
                      <a:xfrm>
                        <a:off x="5907240" y="5424480"/>
                        <a:ext cx="81360" cy="543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26" h="151">
                            <a:moveTo>
                              <a:pt x="226" y="93"/>
                            </a:moveTo>
                            <a:lnTo>
                              <a:pt x="155" y="151"/>
                            </a:lnTo>
                            <a:lnTo>
                              <a:pt x="0" y="75"/>
                            </a:lnTo>
                            <a:lnTo>
                              <a:pt x="155" y="0"/>
                            </a:lnTo>
                            <a:lnTo>
                              <a:pt x="226" y="9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txBody>
                      <a:bodyPr lIns="90000" rIns="90000" tIns="9360" bIns="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66" name=""/>
                    <p:cNvSpPr/>
                    <p:nvPr/>
                  </p:nvSpPr>
                  <p:spPr>
                    <a:xfrm>
                      <a:off x="5892840" y="5064120"/>
                      <a:ext cx="44640" cy="892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24" h="248">
                          <a:moveTo>
                            <a:pt x="61" y="0"/>
                          </a:moveTo>
                          <a:lnTo>
                            <a:pt x="124" y="4"/>
                          </a:lnTo>
                          <a:lnTo>
                            <a:pt x="102" y="248"/>
                          </a:lnTo>
                          <a:lnTo>
                            <a:pt x="0" y="204"/>
                          </a:lnTo>
                          <a:lnTo>
                            <a:pt x="61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4280" bIns="44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7" name=""/>
                  <p:cNvGrpSpPr/>
                  <p:nvPr/>
                </p:nvGrpSpPr>
                <p:grpSpPr>
                  <a:xfrm>
                    <a:off x="5618160" y="4870440"/>
                    <a:ext cx="376200" cy="755640"/>
                    <a:chOff x="5618160" y="4870440"/>
                    <a:chExt cx="376200" cy="755640"/>
                  </a:xfrm>
                </p:grpSpPr>
                <p:sp>
                  <p:nvSpPr>
                    <p:cNvPr id="568" name=""/>
                    <p:cNvSpPr/>
                    <p:nvPr/>
                  </p:nvSpPr>
                  <p:spPr>
                    <a:xfrm>
                      <a:off x="5651640" y="5307120"/>
                      <a:ext cx="307800" cy="318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>
                      <a:off x="5688000" y="5087880"/>
                      <a:ext cx="306360" cy="320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>
                      <a:off x="5618160" y="4870440"/>
                      <a:ext cx="236520" cy="246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>
                      <a:off x="5757840" y="5014800"/>
                      <a:ext cx="130320" cy="136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2" name=""/>
                    <p:cNvSpPr/>
                    <p:nvPr/>
                  </p:nvSpPr>
                  <p:spPr>
                    <a:xfrm>
                      <a:off x="5692680" y="4992840"/>
                      <a:ext cx="198720" cy="2703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52" h="751">
                          <a:moveTo>
                            <a:pt x="389" y="35"/>
                          </a:moveTo>
                          <a:lnTo>
                            <a:pt x="384" y="123"/>
                          </a:lnTo>
                          <a:lnTo>
                            <a:pt x="516" y="292"/>
                          </a:lnTo>
                          <a:lnTo>
                            <a:pt x="552" y="309"/>
                          </a:lnTo>
                          <a:lnTo>
                            <a:pt x="358" y="751"/>
                          </a:lnTo>
                          <a:lnTo>
                            <a:pt x="0" y="0"/>
                          </a:lnTo>
                          <a:lnTo>
                            <a:pt x="389" y="3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>
                      <a:off x="5791320" y="5370480"/>
                      <a:ext cx="125640" cy="73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49" h="204">
                          <a:moveTo>
                            <a:pt x="309" y="30"/>
                          </a:moveTo>
                          <a:lnTo>
                            <a:pt x="349" y="93"/>
                          </a:lnTo>
                          <a:lnTo>
                            <a:pt x="0" y="204"/>
                          </a:lnTo>
                          <a:lnTo>
                            <a:pt x="13" y="0"/>
                          </a:lnTo>
                          <a:lnTo>
                            <a:pt x="309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28440" bIns="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4" name=""/>
                  <p:cNvSpPr/>
                  <p:nvPr/>
                </p:nvSpPr>
                <p:spPr>
                  <a:xfrm>
                    <a:off x="5618160" y="5524560"/>
                    <a:ext cx="166680" cy="174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5732640" y="5511960"/>
                    <a:ext cx="81360" cy="87840"/>
                  </a:xfrm>
                  <a:custGeom>
                    <a:avLst/>
                    <a:gdLst/>
                    <a:ahLst/>
                    <a:rect l="0" t="0" r="r" b="b"/>
                    <a:pathLst>
                      <a:path w="226" h="244">
                        <a:moveTo>
                          <a:pt x="93" y="244"/>
                        </a:moveTo>
                        <a:lnTo>
                          <a:pt x="226" y="159"/>
                        </a:lnTo>
                        <a:lnTo>
                          <a:pt x="71" y="0"/>
                        </a:lnTo>
                        <a:lnTo>
                          <a:pt x="0" y="89"/>
                        </a:lnTo>
                        <a:lnTo>
                          <a:pt x="93" y="24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6" name=""/>
                <p:cNvSpPr/>
                <p:nvPr/>
              </p:nvSpPr>
              <p:spPr>
                <a:xfrm>
                  <a:off x="5275440" y="5689440"/>
                  <a:ext cx="201600" cy="2095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442120" y="5689440"/>
                  <a:ext cx="168120" cy="1731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5538960" y="5630760"/>
                  <a:ext cx="166680" cy="1731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403960" y="5607000"/>
                  <a:ext cx="329040" cy="228960"/>
                </a:xfrm>
                <a:custGeom>
                  <a:avLst/>
                  <a:gdLst/>
                  <a:ahLst/>
                  <a:rect l="0" t="0" r="r" b="b"/>
                  <a:pathLst>
                    <a:path w="914" h="636">
                      <a:moveTo>
                        <a:pt x="853" y="189"/>
                      </a:moveTo>
                      <a:lnTo>
                        <a:pt x="764" y="224"/>
                      </a:lnTo>
                      <a:lnTo>
                        <a:pt x="521" y="481"/>
                      </a:lnTo>
                      <a:lnTo>
                        <a:pt x="459" y="587"/>
                      </a:lnTo>
                      <a:lnTo>
                        <a:pt x="189" y="587"/>
                      </a:lnTo>
                      <a:lnTo>
                        <a:pt x="136" y="636"/>
                      </a:lnTo>
                      <a:lnTo>
                        <a:pt x="0" y="446"/>
                      </a:lnTo>
                      <a:lnTo>
                        <a:pt x="618" y="0"/>
                      </a:lnTo>
                      <a:lnTo>
                        <a:pt x="914" y="105"/>
                      </a:lnTo>
                      <a:lnTo>
                        <a:pt x="853" y="18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4017960" y="4876920"/>
                <a:ext cx="538200" cy="714240"/>
                <a:chOff x="4017960" y="4876920"/>
                <a:chExt cx="538200" cy="714240"/>
              </a:xfrm>
            </p:grpSpPr>
            <p:grpSp>
              <p:nvGrpSpPr>
                <p:cNvPr id="581" name=""/>
                <p:cNvGrpSpPr/>
                <p:nvPr/>
              </p:nvGrpSpPr>
              <p:grpSpPr>
                <a:xfrm>
                  <a:off x="4017960" y="4978440"/>
                  <a:ext cx="291960" cy="430200"/>
                  <a:chOff x="4017960" y="4978440"/>
                  <a:chExt cx="291960" cy="43020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>
                    <a:off x="4017960" y="5124600"/>
                    <a:ext cx="130320" cy="13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4040280" y="5234040"/>
                    <a:ext cx="166680" cy="174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4073400" y="4978440"/>
                    <a:ext cx="236520" cy="247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4062240" y="5145120"/>
                    <a:ext cx="79560" cy="128880"/>
                  </a:xfrm>
                  <a:custGeom>
                    <a:avLst/>
                    <a:gdLst/>
                    <a:ahLst/>
                    <a:rect l="0" t="0" r="r" b="b"/>
                    <a:pathLst>
                      <a:path w="221" h="358">
                        <a:moveTo>
                          <a:pt x="128" y="0"/>
                        </a:moveTo>
                        <a:lnTo>
                          <a:pt x="0" y="70"/>
                        </a:lnTo>
                        <a:lnTo>
                          <a:pt x="4" y="287"/>
                        </a:lnTo>
                        <a:lnTo>
                          <a:pt x="48" y="358"/>
                        </a:lnTo>
                        <a:lnTo>
                          <a:pt x="221" y="287"/>
                        </a:lnTo>
                        <a:lnTo>
                          <a:pt x="12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6" name=""/>
                <p:cNvGrpSpPr/>
                <p:nvPr/>
              </p:nvGrpSpPr>
              <p:grpSpPr>
                <a:xfrm>
                  <a:off x="4110120" y="4876920"/>
                  <a:ext cx="446040" cy="714240"/>
                  <a:chOff x="4110120" y="4876920"/>
                  <a:chExt cx="446040" cy="714240"/>
                </a:xfrm>
              </p:grpSpPr>
              <p:sp>
                <p:nvSpPr>
                  <p:cNvPr id="587" name=""/>
                  <p:cNvSpPr/>
                  <p:nvPr/>
                </p:nvSpPr>
                <p:spPr>
                  <a:xfrm>
                    <a:off x="4249800" y="4906800"/>
                    <a:ext cx="306360" cy="318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4110120" y="5124600"/>
                    <a:ext cx="166680" cy="174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4145040" y="5234040"/>
                    <a:ext cx="237960" cy="247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4214880" y="5342040"/>
                    <a:ext cx="236520" cy="249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4232160" y="5056200"/>
                    <a:ext cx="210960" cy="21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4408560" y="4876920"/>
                    <a:ext cx="130320" cy="136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4302000" y="5019840"/>
                    <a:ext cx="143280" cy="103680"/>
                  </a:xfrm>
                  <a:custGeom>
                    <a:avLst/>
                    <a:gdLst/>
                    <a:ahLst/>
                    <a:rect l="0" t="0" r="r" b="b"/>
                    <a:pathLst>
                      <a:path w="398" h="288">
                        <a:moveTo>
                          <a:pt x="0" y="80"/>
                        </a:moveTo>
                        <a:lnTo>
                          <a:pt x="52" y="212"/>
                        </a:lnTo>
                        <a:lnTo>
                          <a:pt x="398" y="288"/>
                        </a:lnTo>
                        <a:lnTo>
                          <a:pt x="398" y="111"/>
                        </a:lnTo>
                        <a:lnTo>
                          <a:pt x="26" y="0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4160880" y="5207040"/>
                    <a:ext cx="163800" cy="213120"/>
                  </a:xfrm>
                  <a:custGeom>
                    <a:avLst/>
                    <a:gdLst/>
                    <a:ahLst/>
                    <a:rect l="0" t="0" r="r" b="b"/>
                    <a:pathLst>
                      <a:path w="455" h="592">
                        <a:moveTo>
                          <a:pt x="283" y="0"/>
                        </a:moveTo>
                        <a:lnTo>
                          <a:pt x="0" y="145"/>
                        </a:lnTo>
                        <a:lnTo>
                          <a:pt x="119" y="265"/>
                        </a:lnTo>
                        <a:lnTo>
                          <a:pt x="132" y="557"/>
                        </a:lnTo>
                        <a:lnTo>
                          <a:pt x="198" y="592"/>
                        </a:lnTo>
                        <a:lnTo>
                          <a:pt x="437" y="406"/>
                        </a:lnTo>
                        <a:lnTo>
                          <a:pt x="455" y="57"/>
                        </a:lnTo>
                        <a:lnTo>
                          <a:pt x="28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5" name=""/>
                <p:cNvSpPr/>
                <p:nvPr/>
              </p:nvSpPr>
              <p:spPr>
                <a:xfrm>
                  <a:off x="4403880" y="4956120"/>
                  <a:ext cx="84600" cy="100440"/>
                </a:xfrm>
                <a:custGeom>
                  <a:avLst/>
                  <a:gdLst/>
                  <a:ahLst/>
                  <a:rect l="0" t="0" r="r" b="b"/>
                  <a:pathLst>
                    <a:path w="235" h="279">
                      <a:moveTo>
                        <a:pt x="0" y="155"/>
                      </a:moveTo>
                      <a:lnTo>
                        <a:pt x="102" y="0"/>
                      </a:lnTo>
                      <a:lnTo>
                        <a:pt x="235" y="155"/>
                      </a:lnTo>
                      <a:lnTo>
                        <a:pt x="124" y="279"/>
                      </a:lnTo>
                      <a:lnTo>
                        <a:pt x="0" y="1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4286160" y="4761000"/>
                <a:ext cx="1568880" cy="1193760"/>
                <a:chOff x="4286160" y="4761000"/>
                <a:chExt cx="1568880" cy="11937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4775040" y="4797360"/>
                  <a:ext cx="378000" cy="392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091120" y="4761000"/>
                  <a:ext cx="307800" cy="3175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5372280" y="5087880"/>
                  <a:ext cx="482760" cy="503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4460760" y="5307120"/>
                  <a:ext cx="550800" cy="57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232240" y="5378400"/>
                  <a:ext cx="411120" cy="428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4319640" y="5416560"/>
                  <a:ext cx="306360" cy="318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4286160" y="5160960"/>
                  <a:ext cx="304920" cy="318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4424400" y="4870440"/>
                  <a:ext cx="484200" cy="501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846680" y="5451480"/>
                  <a:ext cx="482760" cy="503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442120" y="4906800"/>
                  <a:ext cx="378000" cy="392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337000" y="4761000"/>
                  <a:ext cx="341280" cy="353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4414680" y="4857840"/>
                  <a:ext cx="1349640" cy="938520"/>
                </a:xfrm>
                <a:custGeom>
                  <a:avLst/>
                  <a:gdLst/>
                  <a:ahLst/>
                  <a:rect l="0" t="0" r="r" b="b"/>
                  <a:pathLst>
                    <a:path w="3749" h="2607">
                      <a:moveTo>
                        <a:pt x="1159" y="264"/>
                      </a:moveTo>
                      <a:lnTo>
                        <a:pt x="1314" y="79"/>
                      </a:lnTo>
                      <a:lnTo>
                        <a:pt x="2016" y="92"/>
                      </a:lnTo>
                      <a:lnTo>
                        <a:pt x="2510" y="0"/>
                      </a:lnTo>
                      <a:lnTo>
                        <a:pt x="3131" y="313"/>
                      </a:lnTo>
                      <a:lnTo>
                        <a:pt x="3449" y="224"/>
                      </a:lnTo>
                      <a:lnTo>
                        <a:pt x="3612" y="264"/>
                      </a:lnTo>
                      <a:lnTo>
                        <a:pt x="3652" y="1040"/>
                      </a:lnTo>
                      <a:lnTo>
                        <a:pt x="3749" y="1159"/>
                      </a:lnTo>
                      <a:lnTo>
                        <a:pt x="3462" y="1760"/>
                      </a:lnTo>
                      <a:lnTo>
                        <a:pt x="3145" y="1350"/>
                      </a:lnTo>
                      <a:lnTo>
                        <a:pt x="3056" y="1562"/>
                      </a:lnTo>
                      <a:lnTo>
                        <a:pt x="2615" y="2386"/>
                      </a:lnTo>
                      <a:lnTo>
                        <a:pt x="1133" y="2607"/>
                      </a:lnTo>
                      <a:lnTo>
                        <a:pt x="361" y="2443"/>
                      </a:lnTo>
                      <a:lnTo>
                        <a:pt x="123" y="1936"/>
                      </a:lnTo>
                      <a:lnTo>
                        <a:pt x="123" y="1416"/>
                      </a:lnTo>
                      <a:lnTo>
                        <a:pt x="0" y="974"/>
                      </a:lnTo>
                      <a:lnTo>
                        <a:pt x="1159" y="2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9" name=""/>
            <p:cNvGrpSpPr/>
            <p:nvPr/>
          </p:nvGrpSpPr>
          <p:grpSpPr>
            <a:xfrm>
              <a:off x="4541760" y="5102280"/>
              <a:ext cx="1004760" cy="461880"/>
              <a:chOff x="4541760" y="5102280"/>
              <a:chExt cx="1004760" cy="461880"/>
            </a:xfrm>
          </p:grpSpPr>
          <p:sp>
            <p:nvSpPr>
              <p:cNvPr id="610" name=""/>
              <p:cNvSpPr txBox="1"/>
              <p:nvPr/>
            </p:nvSpPr>
            <p:spPr>
              <a:xfrm>
                <a:off x="4541760" y="5102280"/>
                <a:ext cx="100476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TCP/RNI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 txBox="1"/>
              <p:nvPr/>
            </p:nvSpPr>
            <p:spPr>
              <a:xfrm>
                <a:off x="4759200" y="5289480"/>
                <a:ext cx="57312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GS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2" name=""/>
          <p:cNvGrpSpPr/>
          <p:nvPr/>
        </p:nvGrpSpPr>
        <p:grpSpPr>
          <a:xfrm>
            <a:off x="6942240" y="4976640"/>
            <a:ext cx="578160" cy="594360"/>
            <a:chOff x="6942240" y="4976640"/>
            <a:chExt cx="578160" cy="594360"/>
          </a:xfrm>
        </p:grpSpPr>
        <p:grpSp>
          <p:nvGrpSpPr>
            <p:cNvPr id="613" name=""/>
            <p:cNvGrpSpPr/>
            <p:nvPr/>
          </p:nvGrpSpPr>
          <p:grpSpPr>
            <a:xfrm>
              <a:off x="6942240" y="5194440"/>
              <a:ext cx="578160" cy="376560"/>
              <a:chOff x="6942240" y="5194440"/>
              <a:chExt cx="578160" cy="37656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6989760" y="5194440"/>
                <a:ext cx="530640" cy="163800"/>
                <a:chOff x="6989760" y="5194440"/>
                <a:chExt cx="530640" cy="16380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993000" y="5256360"/>
                  <a:ext cx="524160" cy="101880"/>
                </a:xfrm>
                <a:custGeom>
                  <a:avLst/>
                  <a:gdLst/>
                  <a:ahLst/>
                  <a:rect l="0" t="0" r="r" b="b"/>
                  <a:pathLst>
                    <a:path w="1456" h="283">
                      <a:moveTo>
                        <a:pt x="0" y="172"/>
                      </a:moveTo>
                      <a:lnTo>
                        <a:pt x="171" y="88"/>
                      </a:lnTo>
                      <a:lnTo>
                        <a:pt x="555" y="0"/>
                      </a:lnTo>
                      <a:lnTo>
                        <a:pt x="1002" y="22"/>
                      </a:lnTo>
                      <a:lnTo>
                        <a:pt x="1226" y="88"/>
                      </a:lnTo>
                      <a:lnTo>
                        <a:pt x="1456" y="225"/>
                      </a:lnTo>
                      <a:lnTo>
                        <a:pt x="1429" y="252"/>
                      </a:lnTo>
                      <a:lnTo>
                        <a:pt x="1420" y="265"/>
                      </a:lnTo>
                      <a:lnTo>
                        <a:pt x="1407" y="278"/>
                      </a:lnTo>
                      <a:lnTo>
                        <a:pt x="1390" y="283"/>
                      </a:lnTo>
                      <a:lnTo>
                        <a:pt x="1381" y="283"/>
                      </a:lnTo>
                      <a:lnTo>
                        <a:pt x="1368" y="283"/>
                      </a:lnTo>
                      <a:lnTo>
                        <a:pt x="1354" y="283"/>
                      </a:lnTo>
                      <a:lnTo>
                        <a:pt x="1345" y="283"/>
                      </a:lnTo>
                      <a:lnTo>
                        <a:pt x="1332" y="278"/>
                      </a:lnTo>
                      <a:lnTo>
                        <a:pt x="1315" y="274"/>
                      </a:lnTo>
                      <a:lnTo>
                        <a:pt x="1306" y="269"/>
                      </a:lnTo>
                      <a:lnTo>
                        <a:pt x="1293" y="265"/>
                      </a:lnTo>
                      <a:lnTo>
                        <a:pt x="1279" y="261"/>
                      </a:lnTo>
                      <a:lnTo>
                        <a:pt x="1262" y="256"/>
                      </a:lnTo>
                      <a:lnTo>
                        <a:pt x="1248" y="256"/>
                      </a:lnTo>
                      <a:lnTo>
                        <a:pt x="1244" y="252"/>
                      </a:lnTo>
                      <a:lnTo>
                        <a:pt x="1231" y="247"/>
                      </a:lnTo>
                      <a:lnTo>
                        <a:pt x="1218" y="239"/>
                      </a:lnTo>
                      <a:lnTo>
                        <a:pt x="1209" y="239"/>
                      </a:lnTo>
                      <a:lnTo>
                        <a:pt x="1191" y="230"/>
                      </a:lnTo>
                      <a:lnTo>
                        <a:pt x="1178" y="230"/>
                      </a:lnTo>
                      <a:lnTo>
                        <a:pt x="1169" y="221"/>
                      </a:lnTo>
                      <a:lnTo>
                        <a:pt x="1156" y="221"/>
                      </a:lnTo>
                      <a:lnTo>
                        <a:pt x="1143" y="217"/>
                      </a:lnTo>
                      <a:lnTo>
                        <a:pt x="1129" y="208"/>
                      </a:lnTo>
                      <a:lnTo>
                        <a:pt x="1116" y="203"/>
                      </a:lnTo>
                      <a:lnTo>
                        <a:pt x="1107" y="199"/>
                      </a:lnTo>
                      <a:lnTo>
                        <a:pt x="1099" y="190"/>
                      </a:lnTo>
                      <a:lnTo>
                        <a:pt x="1081" y="186"/>
                      </a:lnTo>
                      <a:lnTo>
                        <a:pt x="1072" y="177"/>
                      </a:lnTo>
                      <a:lnTo>
                        <a:pt x="1059" y="168"/>
                      </a:lnTo>
                      <a:lnTo>
                        <a:pt x="1046" y="159"/>
                      </a:lnTo>
                      <a:lnTo>
                        <a:pt x="1037" y="150"/>
                      </a:lnTo>
                      <a:lnTo>
                        <a:pt x="1028" y="142"/>
                      </a:lnTo>
                      <a:lnTo>
                        <a:pt x="1015" y="127"/>
                      </a:lnTo>
                      <a:lnTo>
                        <a:pt x="1002" y="119"/>
                      </a:lnTo>
                      <a:lnTo>
                        <a:pt x="993" y="110"/>
                      </a:lnTo>
                      <a:lnTo>
                        <a:pt x="975" y="101"/>
                      </a:lnTo>
                      <a:lnTo>
                        <a:pt x="966" y="97"/>
                      </a:lnTo>
                      <a:lnTo>
                        <a:pt x="953" y="88"/>
                      </a:lnTo>
                      <a:lnTo>
                        <a:pt x="935" y="88"/>
                      </a:lnTo>
                      <a:lnTo>
                        <a:pt x="927" y="83"/>
                      </a:lnTo>
                      <a:lnTo>
                        <a:pt x="913" y="79"/>
                      </a:lnTo>
                      <a:lnTo>
                        <a:pt x="900" y="79"/>
                      </a:lnTo>
                      <a:lnTo>
                        <a:pt x="891" y="74"/>
                      </a:lnTo>
                      <a:lnTo>
                        <a:pt x="874" y="70"/>
                      </a:lnTo>
                      <a:lnTo>
                        <a:pt x="852" y="70"/>
                      </a:lnTo>
                      <a:lnTo>
                        <a:pt x="825" y="70"/>
                      </a:lnTo>
                      <a:lnTo>
                        <a:pt x="781" y="66"/>
                      </a:lnTo>
                      <a:lnTo>
                        <a:pt x="759" y="66"/>
                      </a:lnTo>
                      <a:lnTo>
                        <a:pt x="705" y="66"/>
                      </a:lnTo>
                      <a:lnTo>
                        <a:pt x="692" y="66"/>
                      </a:lnTo>
                      <a:lnTo>
                        <a:pt x="679" y="66"/>
                      </a:lnTo>
                      <a:lnTo>
                        <a:pt x="652" y="66"/>
                      </a:lnTo>
                      <a:lnTo>
                        <a:pt x="590" y="66"/>
                      </a:lnTo>
                      <a:lnTo>
                        <a:pt x="546" y="70"/>
                      </a:lnTo>
                      <a:lnTo>
                        <a:pt x="515" y="74"/>
                      </a:lnTo>
                      <a:lnTo>
                        <a:pt x="511" y="74"/>
                      </a:lnTo>
                      <a:lnTo>
                        <a:pt x="493" y="79"/>
                      </a:lnTo>
                      <a:lnTo>
                        <a:pt x="480" y="83"/>
                      </a:lnTo>
                      <a:lnTo>
                        <a:pt x="471" y="88"/>
                      </a:lnTo>
                      <a:lnTo>
                        <a:pt x="458" y="88"/>
                      </a:lnTo>
                      <a:lnTo>
                        <a:pt x="445" y="97"/>
                      </a:lnTo>
                      <a:lnTo>
                        <a:pt x="436" y="105"/>
                      </a:lnTo>
                      <a:lnTo>
                        <a:pt x="427" y="114"/>
                      </a:lnTo>
                      <a:lnTo>
                        <a:pt x="410" y="123"/>
                      </a:lnTo>
                      <a:lnTo>
                        <a:pt x="405" y="127"/>
                      </a:lnTo>
                      <a:lnTo>
                        <a:pt x="392" y="142"/>
                      </a:lnTo>
                      <a:lnTo>
                        <a:pt x="379" y="150"/>
                      </a:lnTo>
                      <a:lnTo>
                        <a:pt x="370" y="159"/>
                      </a:lnTo>
                      <a:lnTo>
                        <a:pt x="352" y="168"/>
                      </a:lnTo>
                      <a:lnTo>
                        <a:pt x="343" y="172"/>
                      </a:lnTo>
                      <a:lnTo>
                        <a:pt x="330" y="181"/>
                      </a:lnTo>
                      <a:lnTo>
                        <a:pt x="317" y="190"/>
                      </a:lnTo>
                      <a:lnTo>
                        <a:pt x="308" y="190"/>
                      </a:lnTo>
                      <a:lnTo>
                        <a:pt x="295" y="199"/>
                      </a:lnTo>
                      <a:lnTo>
                        <a:pt x="282" y="203"/>
                      </a:lnTo>
                      <a:lnTo>
                        <a:pt x="268" y="208"/>
                      </a:lnTo>
                      <a:lnTo>
                        <a:pt x="255" y="217"/>
                      </a:lnTo>
                      <a:lnTo>
                        <a:pt x="242" y="221"/>
                      </a:lnTo>
                      <a:lnTo>
                        <a:pt x="233" y="221"/>
                      </a:lnTo>
                      <a:lnTo>
                        <a:pt x="216" y="230"/>
                      </a:lnTo>
                      <a:lnTo>
                        <a:pt x="202" y="230"/>
                      </a:lnTo>
                      <a:lnTo>
                        <a:pt x="185" y="234"/>
                      </a:lnTo>
                      <a:lnTo>
                        <a:pt x="171" y="239"/>
                      </a:lnTo>
                      <a:lnTo>
                        <a:pt x="163" y="243"/>
                      </a:lnTo>
                      <a:lnTo>
                        <a:pt x="149" y="247"/>
                      </a:lnTo>
                      <a:lnTo>
                        <a:pt x="132" y="252"/>
                      </a:lnTo>
                      <a:lnTo>
                        <a:pt x="123" y="256"/>
                      </a:lnTo>
                      <a:lnTo>
                        <a:pt x="110" y="256"/>
                      </a:lnTo>
                      <a:lnTo>
                        <a:pt x="97" y="256"/>
                      </a:lnTo>
                      <a:lnTo>
                        <a:pt x="83" y="261"/>
                      </a:lnTo>
                      <a:lnTo>
                        <a:pt x="70" y="261"/>
                      </a:lnTo>
                      <a:lnTo>
                        <a:pt x="61" y="261"/>
                      </a:lnTo>
                      <a:lnTo>
                        <a:pt x="44" y="261"/>
                      </a:lnTo>
                      <a:lnTo>
                        <a:pt x="30" y="261"/>
                      </a:lnTo>
                      <a:lnTo>
                        <a:pt x="22" y="256"/>
                      </a:lnTo>
                      <a:lnTo>
                        <a:pt x="13" y="239"/>
                      </a:lnTo>
                      <a:lnTo>
                        <a:pt x="8" y="221"/>
                      </a:lnTo>
                      <a:lnTo>
                        <a:pt x="4" y="208"/>
                      </a:lnTo>
                      <a:lnTo>
                        <a:pt x="4" y="195"/>
                      </a:lnTo>
                      <a:lnTo>
                        <a:pt x="0" y="181"/>
                      </a:lnTo>
                      <a:lnTo>
                        <a:pt x="0" y="164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0760" bIns="50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989760" y="5194440"/>
                  <a:ext cx="530640" cy="147960"/>
                </a:xfrm>
                <a:custGeom>
                  <a:avLst/>
                  <a:gdLst/>
                  <a:ahLst/>
                  <a:rect l="0" t="0" r="r" b="b"/>
                  <a:pathLst>
                    <a:path w="1474" h="411">
                      <a:moveTo>
                        <a:pt x="35" y="154"/>
                      </a:moveTo>
                      <a:lnTo>
                        <a:pt x="66" y="141"/>
                      </a:lnTo>
                      <a:lnTo>
                        <a:pt x="105" y="123"/>
                      </a:lnTo>
                      <a:lnTo>
                        <a:pt x="123" y="110"/>
                      </a:lnTo>
                      <a:lnTo>
                        <a:pt x="145" y="101"/>
                      </a:lnTo>
                      <a:lnTo>
                        <a:pt x="163" y="92"/>
                      </a:lnTo>
                      <a:lnTo>
                        <a:pt x="185" y="83"/>
                      </a:lnTo>
                      <a:lnTo>
                        <a:pt x="202" y="74"/>
                      </a:lnTo>
                      <a:lnTo>
                        <a:pt x="211" y="70"/>
                      </a:lnTo>
                      <a:lnTo>
                        <a:pt x="242" y="57"/>
                      </a:lnTo>
                      <a:lnTo>
                        <a:pt x="264" y="52"/>
                      </a:lnTo>
                      <a:lnTo>
                        <a:pt x="282" y="44"/>
                      </a:lnTo>
                      <a:lnTo>
                        <a:pt x="313" y="35"/>
                      </a:lnTo>
                      <a:lnTo>
                        <a:pt x="326" y="30"/>
                      </a:lnTo>
                      <a:lnTo>
                        <a:pt x="361" y="22"/>
                      </a:lnTo>
                      <a:lnTo>
                        <a:pt x="384" y="22"/>
                      </a:lnTo>
                      <a:lnTo>
                        <a:pt x="459" y="13"/>
                      </a:lnTo>
                      <a:lnTo>
                        <a:pt x="477" y="8"/>
                      </a:lnTo>
                      <a:lnTo>
                        <a:pt x="503" y="8"/>
                      </a:lnTo>
                      <a:lnTo>
                        <a:pt x="543" y="4"/>
                      </a:lnTo>
                      <a:lnTo>
                        <a:pt x="565" y="0"/>
                      </a:lnTo>
                      <a:lnTo>
                        <a:pt x="587" y="0"/>
                      </a:lnTo>
                      <a:lnTo>
                        <a:pt x="622" y="0"/>
                      </a:lnTo>
                      <a:lnTo>
                        <a:pt x="644" y="0"/>
                      </a:lnTo>
                      <a:lnTo>
                        <a:pt x="658" y="0"/>
                      </a:lnTo>
                      <a:lnTo>
                        <a:pt x="706" y="0"/>
                      </a:lnTo>
                      <a:lnTo>
                        <a:pt x="719" y="0"/>
                      </a:lnTo>
                      <a:lnTo>
                        <a:pt x="741" y="0"/>
                      </a:lnTo>
                      <a:lnTo>
                        <a:pt x="759" y="0"/>
                      </a:lnTo>
                      <a:lnTo>
                        <a:pt x="785" y="0"/>
                      </a:lnTo>
                      <a:lnTo>
                        <a:pt x="799" y="0"/>
                      </a:lnTo>
                      <a:lnTo>
                        <a:pt x="830" y="4"/>
                      </a:lnTo>
                      <a:lnTo>
                        <a:pt x="852" y="4"/>
                      </a:lnTo>
                      <a:lnTo>
                        <a:pt x="874" y="8"/>
                      </a:lnTo>
                      <a:lnTo>
                        <a:pt x="887" y="8"/>
                      </a:lnTo>
                      <a:lnTo>
                        <a:pt x="909" y="13"/>
                      </a:lnTo>
                      <a:lnTo>
                        <a:pt x="940" y="17"/>
                      </a:lnTo>
                      <a:lnTo>
                        <a:pt x="966" y="22"/>
                      </a:lnTo>
                      <a:lnTo>
                        <a:pt x="1028" y="30"/>
                      </a:lnTo>
                      <a:lnTo>
                        <a:pt x="1081" y="39"/>
                      </a:lnTo>
                      <a:lnTo>
                        <a:pt x="1113" y="48"/>
                      </a:lnTo>
                      <a:lnTo>
                        <a:pt x="1144" y="52"/>
                      </a:lnTo>
                      <a:lnTo>
                        <a:pt x="1161" y="57"/>
                      </a:lnTo>
                      <a:lnTo>
                        <a:pt x="1183" y="70"/>
                      </a:lnTo>
                      <a:lnTo>
                        <a:pt x="1219" y="79"/>
                      </a:lnTo>
                      <a:lnTo>
                        <a:pt x="1241" y="88"/>
                      </a:lnTo>
                      <a:lnTo>
                        <a:pt x="1254" y="92"/>
                      </a:lnTo>
                      <a:lnTo>
                        <a:pt x="1276" y="101"/>
                      </a:lnTo>
                      <a:lnTo>
                        <a:pt x="1298" y="110"/>
                      </a:lnTo>
                      <a:lnTo>
                        <a:pt x="1324" y="123"/>
                      </a:lnTo>
                      <a:lnTo>
                        <a:pt x="1346" y="132"/>
                      </a:lnTo>
                      <a:lnTo>
                        <a:pt x="1377" y="145"/>
                      </a:lnTo>
                      <a:lnTo>
                        <a:pt x="1395" y="158"/>
                      </a:lnTo>
                      <a:lnTo>
                        <a:pt x="1426" y="176"/>
                      </a:lnTo>
                      <a:lnTo>
                        <a:pt x="1439" y="189"/>
                      </a:lnTo>
                      <a:lnTo>
                        <a:pt x="1452" y="202"/>
                      </a:lnTo>
                      <a:lnTo>
                        <a:pt x="1457" y="221"/>
                      </a:lnTo>
                      <a:lnTo>
                        <a:pt x="1461" y="234"/>
                      </a:lnTo>
                      <a:lnTo>
                        <a:pt x="1461" y="252"/>
                      </a:lnTo>
                      <a:lnTo>
                        <a:pt x="1466" y="261"/>
                      </a:lnTo>
                      <a:lnTo>
                        <a:pt x="1466" y="283"/>
                      </a:lnTo>
                      <a:lnTo>
                        <a:pt x="1470" y="292"/>
                      </a:lnTo>
                      <a:lnTo>
                        <a:pt x="1470" y="309"/>
                      </a:lnTo>
                      <a:lnTo>
                        <a:pt x="1474" y="322"/>
                      </a:lnTo>
                      <a:lnTo>
                        <a:pt x="1474" y="336"/>
                      </a:lnTo>
                      <a:lnTo>
                        <a:pt x="1474" y="353"/>
                      </a:lnTo>
                      <a:lnTo>
                        <a:pt x="1474" y="367"/>
                      </a:lnTo>
                      <a:lnTo>
                        <a:pt x="1474" y="380"/>
                      </a:lnTo>
                      <a:lnTo>
                        <a:pt x="1474" y="393"/>
                      </a:lnTo>
                      <a:lnTo>
                        <a:pt x="1474" y="411"/>
                      </a:lnTo>
                      <a:lnTo>
                        <a:pt x="1461" y="397"/>
                      </a:lnTo>
                      <a:lnTo>
                        <a:pt x="1452" y="393"/>
                      </a:lnTo>
                      <a:lnTo>
                        <a:pt x="1439" y="389"/>
                      </a:lnTo>
                      <a:lnTo>
                        <a:pt x="1421" y="380"/>
                      </a:lnTo>
                      <a:lnTo>
                        <a:pt x="1391" y="367"/>
                      </a:lnTo>
                      <a:lnTo>
                        <a:pt x="1342" y="340"/>
                      </a:lnTo>
                      <a:lnTo>
                        <a:pt x="1329" y="331"/>
                      </a:lnTo>
                      <a:lnTo>
                        <a:pt x="1320" y="327"/>
                      </a:lnTo>
                      <a:lnTo>
                        <a:pt x="1307" y="318"/>
                      </a:lnTo>
                      <a:lnTo>
                        <a:pt x="1294" y="314"/>
                      </a:lnTo>
                      <a:lnTo>
                        <a:pt x="1280" y="309"/>
                      </a:lnTo>
                      <a:lnTo>
                        <a:pt x="1267" y="300"/>
                      </a:lnTo>
                      <a:lnTo>
                        <a:pt x="1254" y="296"/>
                      </a:lnTo>
                      <a:lnTo>
                        <a:pt x="1245" y="292"/>
                      </a:lnTo>
                      <a:lnTo>
                        <a:pt x="1232" y="292"/>
                      </a:lnTo>
                      <a:lnTo>
                        <a:pt x="1219" y="287"/>
                      </a:lnTo>
                      <a:lnTo>
                        <a:pt x="1210" y="278"/>
                      </a:lnTo>
                      <a:lnTo>
                        <a:pt x="1197" y="274"/>
                      </a:lnTo>
                      <a:lnTo>
                        <a:pt x="1183" y="269"/>
                      </a:lnTo>
                      <a:lnTo>
                        <a:pt x="1117" y="247"/>
                      </a:lnTo>
                      <a:lnTo>
                        <a:pt x="1081" y="234"/>
                      </a:lnTo>
                      <a:lnTo>
                        <a:pt x="1068" y="234"/>
                      </a:lnTo>
                      <a:lnTo>
                        <a:pt x="1054" y="230"/>
                      </a:lnTo>
                      <a:lnTo>
                        <a:pt x="1032" y="225"/>
                      </a:lnTo>
                      <a:lnTo>
                        <a:pt x="1010" y="221"/>
                      </a:lnTo>
                      <a:lnTo>
                        <a:pt x="979" y="217"/>
                      </a:lnTo>
                      <a:lnTo>
                        <a:pt x="971" y="212"/>
                      </a:lnTo>
                      <a:lnTo>
                        <a:pt x="949" y="208"/>
                      </a:lnTo>
                      <a:lnTo>
                        <a:pt x="935" y="202"/>
                      </a:lnTo>
                      <a:lnTo>
                        <a:pt x="900" y="198"/>
                      </a:lnTo>
                      <a:lnTo>
                        <a:pt x="874" y="194"/>
                      </a:lnTo>
                      <a:lnTo>
                        <a:pt x="860" y="194"/>
                      </a:lnTo>
                      <a:lnTo>
                        <a:pt x="834" y="189"/>
                      </a:lnTo>
                      <a:lnTo>
                        <a:pt x="816" y="189"/>
                      </a:lnTo>
                      <a:lnTo>
                        <a:pt x="799" y="189"/>
                      </a:lnTo>
                      <a:lnTo>
                        <a:pt x="772" y="189"/>
                      </a:lnTo>
                      <a:lnTo>
                        <a:pt x="755" y="189"/>
                      </a:lnTo>
                      <a:lnTo>
                        <a:pt x="737" y="189"/>
                      </a:lnTo>
                      <a:lnTo>
                        <a:pt x="706" y="189"/>
                      </a:lnTo>
                      <a:lnTo>
                        <a:pt x="666" y="189"/>
                      </a:lnTo>
                      <a:lnTo>
                        <a:pt x="649" y="189"/>
                      </a:lnTo>
                      <a:lnTo>
                        <a:pt x="622" y="189"/>
                      </a:lnTo>
                      <a:lnTo>
                        <a:pt x="596" y="189"/>
                      </a:lnTo>
                      <a:lnTo>
                        <a:pt x="587" y="189"/>
                      </a:lnTo>
                      <a:lnTo>
                        <a:pt x="547" y="189"/>
                      </a:lnTo>
                      <a:lnTo>
                        <a:pt x="530" y="189"/>
                      </a:lnTo>
                      <a:lnTo>
                        <a:pt x="521" y="194"/>
                      </a:lnTo>
                      <a:lnTo>
                        <a:pt x="503" y="194"/>
                      </a:lnTo>
                      <a:lnTo>
                        <a:pt x="486" y="198"/>
                      </a:lnTo>
                      <a:lnTo>
                        <a:pt x="459" y="202"/>
                      </a:lnTo>
                      <a:lnTo>
                        <a:pt x="437" y="212"/>
                      </a:lnTo>
                      <a:lnTo>
                        <a:pt x="402" y="221"/>
                      </a:lnTo>
                      <a:lnTo>
                        <a:pt x="361" y="230"/>
                      </a:lnTo>
                      <a:lnTo>
                        <a:pt x="339" y="234"/>
                      </a:lnTo>
                      <a:lnTo>
                        <a:pt x="321" y="239"/>
                      </a:lnTo>
                      <a:lnTo>
                        <a:pt x="313" y="247"/>
                      </a:lnTo>
                      <a:lnTo>
                        <a:pt x="295" y="252"/>
                      </a:lnTo>
                      <a:lnTo>
                        <a:pt x="282" y="256"/>
                      </a:lnTo>
                      <a:lnTo>
                        <a:pt x="273" y="261"/>
                      </a:lnTo>
                      <a:lnTo>
                        <a:pt x="229" y="278"/>
                      </a:lnTo>
                      <a:lnTo>
                        <a:pt x="189" y="292"/>
                      </a:lnTo>
                      <a:lnTo>
                        <a:pt x="176" y="296"/>
                      </a:lnTo>
                      <a:lnTo>
                        <a:pt x="167" y="300"/>
                      </a:lnTo>
                      <a:lnTo>
                        <a:pt x="154" y="309"/>
                      </a:lnTo>
                      <a:lnTo>
                        <a:pt x="141" y="314"/>
                      </a:lnTo>
                      <a:lnTo>
                        <a:pt x="132" y="318"/>
                      </a:lnTo>
                      <a:lnTo>
                        <a:pt x="119" y="322"/>
                      </a:lnTo>
                      <a:lnTo>
                        <a:pt x="105" y="327"/>
                      </a:lnTo>
                      <a:lnTo>
                        <a:pt x="83" y="336"/>
                      </a:lnTo>
                      <a:lnTo>
                        <a:pt x="70" y="340"/>
                      </a:lnTo>
                      <a:lnTo>
                        <a:pt x="57" y="349"/>
                      </a:lnTo>
                      <a:lnTo>
                        <a:pt x="44" y="353"/>
                      </a:lnTo>
                      <a:lnTo>
                        <a:pt x="35" y="358"/>
                      </a:lnTo>
                      <a:lnTo>
                        <a:pt x="22" y="362"/>
                      </a:lnTo>
                      <a:lnTo>
                        <a:pt x="8" y="367"/>
                      </a:lnTo>
                      <a:lnTo>
                        <a:pt x="0" y="367"/>
                      </a:lnTo>
                      <a:lnTo>
                        <a:pt x="0" y="353"/>
                      </a:lnTo>
                      <a:lnTo>
                        <a:pt x="0" y="336"/>
                      </a:lnTo>
                      <a:lnTo>
                        <a:pt x="0" y="322"/>
                      </a:lnTo>
                      <a:lnTo>
                        <a:pt x="0" y="309"/>
                      </a:lnTo>
                      <a:lnTo>
                        <a:pt x="0" y="292"/>
                      </a:lnTo>
                      <a:lnTo>
                        <a:pt x="0" y="278"/>
                      </a:lnTo>
                      <a:lnTo>
                        <a:pt x="0" y="261"/>
                      </a:lnTo>
                      <a:lnTo>
                        <a:pt x="4" y="225"/>
                      </a:lnTo>
                      <a:lnTo>
                        <a:pt x="8" y="198"/>
                      </a:lnTo>
                      <a:lnTo>
                        <a:pt x="13" y="185"/>
                      </a:lnTo>
                      <a:lnTo>
                        <a:pt x="26" y="163"/>
                      </a:lnTo>
                      <a:lnTo>
                        <a:pt x="35" y="154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6997680" y="5257800"/>
                <a:ext cx="510120" cy="313200"/>
                <a:chOff x="6997680" y="5257800"/>
                <a:chExt cx="510120" cy="313200"/>
              </a:xfrm>
            </p:grpSpPr>
            <p:grpSp>
              <p:nvGrpSpPr>
                <p:cNvPr id="618" name=""/>
                <p:cNvGrpSpPr/>
                <p:nvPr/>
              </p:nvGrpSpPr>
              <p:grpSpPr>
                <a:xfrm>
                  <a:off x="6997680" y="5257800"/>
                  <a:ext cx="510120" cy="313200"/>
                  <a:chOff x="6997680" y="5257800"/>
                  <a:chExt cx="510120" cy="313200"/>
                </a:xfrm>
              </p:grpSpPr>
              <p:sp>
                <p:nvSpPr>
                  <p:cNvPr id="619" name=""/>
                  <p:cNvSpPr/>
                  <p:nvPr/>
                </p:nvSpPr>
                <p:spPr>
                  <a:xfrm>
                    <a:off x="6999120" y="5257800"/>
                    <a:ext cx="508320" cy="244800"/>
                  </a:xfrm>
                  <a:custGeom>
                    <a:avLst/>
                    <a:gdLst/>
                    <a:ahLst/>
                    <a:rect l="0" t="0" r="r" b="b"/>
                    <a:pathLst>
                      <a:path w="1412" h="680">
                        <a:moveTo>
                          <a:pt x="0" y="680"/>
                        </a:moveTo>
                        <a:lnTo>
                          <a:pt x="0" y="198"/>
                        </a:lnTo>
                        <a:lnTo>
                          <a:pt x="392" y="83"/>
                        </a:lnTo>
                        <a:lnTo>
                          <a:pt x="418" y="0"/>
                        </a:lnTo>
                        <a:lnTo>
                          <a:pt x="471" y="4"/>
                        </a:lnTo>
                        <a:lnTo>
                          <a:pt x="493" y="83"/>
                        </a:lnTo>
                        <a:lnTo>
                          <a:pt x="900" y="83"/>
                        </a:lnTo>
                        <a:lnTo>
                          <a:pt x="913" y="4"/>
                        </a:lnTo>
                        <a:lnTo>
                          <a:pt x="966" y="4"/>
                        </a:lnTo>
                        <a:lnTo>
                          <a:pt x="984" y="83"/>
                        </a:lnTo>
                        <a:lnTo>
                          <a:pt x="1412" y="224"/>
                        </a:lnTo>
                        <a:lnTo>
                          <a:pt x="1412" y="671"/>
                        </a:lnTo>
                        <a:lnTo>
                          <a:pt x="0" y="68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6997680" y="5499000"/>
                    <a:ext cx="510120" cy="46440"/>
                  </a:xfrm>
                  <a:custGeom>
                    <a:avLst/>
                    <a:gdLst/>
                    <a:ahLst/>
                    <a:rect l="0" t="0" r="r" b="b"/>
                    <a:pathLst>
                      <a:path w="1417" h="129">
                        <a:moveTo>
                          <a:pt x="0" y="0"/>
                        </a:moveTo>
                        <a:lnTo>
                          <a:pt x="17" y="129"/>
                        </a:lnTo>
                        <a:lnTo>
                          <a:pt x="1395" y="129"/>
                        </a:lnTo>
                        <a:lnTo>
                          <a:pt x="14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7007400" y="5545080"/>
                    <a:ext cx="4910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364" h="72">
                        <a:moveTo>
                          <a:pt x="0" y="0"/>
                        </a:moveTo>
                        <a:lnTo>
                          <a:pt x="57" y="72"/>
                        </a:lnTo>
                        <a:lnTo>
                          <a:pt x="1311" y="72"/>
                        </a:lnTo>
                        <a:lnTo>
                          <a:pt x="136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ecece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2" name=""/>
                <p:cNvGrpSpPr/>
                <p:nvPr/>
              </p:nvGrpSpPr>
              <p:grpSpPr>
                <a:xfrm>
                  <a:off x="7132680" y="5324400"/>
                  <a:ext cx="222120" cy="115920"/>
                  <a:chOff x="7132680" y="5324400"/>
                  <a:chExt cx="222120" cy="115920"/>
                </a:xfrm>
              </p:grpSpPr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7132680" y="5324400"/>
                    <a:ext cx="220680" cy="112680"/>
                    <a:chOff x="7132680" y="5324400"/>
                    <a:chExt cx="220680" cy="11268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7132680" y="5324400"/>
                      <a:ext cx="20520" cy="9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>
                      <a:off x="7188120" y="5324400"/>
                      <a:ext cx="19080" cy="9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7232760" y="5324400"/>
                      <a:ext cx="20520" cy="9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7278840" y="5324400"/>
                      <a:ext cx="20520" cy="9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7332840" y="5324400"/>
                      <a:ext cx="20520" cy="9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9" name=""/>
                    <p:cNvSpPr/>
                    <p:nvPr/>
                  </p:nvSpPr>
                  <p:spPr>
                    <a:xfrm>
                      <a:off x="7188120" y="5361120"/>
                      <a:ext cx="1908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0" name=""/>
                    <p:cNvSpPr/>
                    <p:nvPr/>
                  </p:nvSpPr>
                  <p:spPr>
                    <a:xfrm>
                      <a:off x="7232760" y="5361120"/>
                      <a:ext cx="2052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>
                      <a:off x="7278840" y="5361120"/>
                      <a:ext cx="2052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2" name=""/>
                    <p:cNvSpPr/>
                    <p:nvPr/>
                  </p:nvSpPr>
                  <p:spPr>
                    <a:xfrm>
                      <a:off x="7188120" y="5394240"/>
                      <a:ext cx="1908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3" name=""/>
                    <p:cNvSpPr/>
                    <p:nvPr/>
                  </p:nvSpPr>
                  <p:spPr>
                    <a:xfrm>
                      <a:off x="7232760" y="5394240"/>
                      <a:ext cx="2052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>
                      <a:off x="7278840" y="5394240"/>
                      <a:ext cx="2052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5" name=""/>
                    <p:cNvSpPr/>
                    <p:nvPr/>
                  </p:nvSpPr>
                  <p:spPr>
                    <a:xfrm>
                      <a:off x="7188120" y="5427720"/>
                      <a:ext cx="19080" cy="9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"/>
                    <p:cNvSpPr/>
                    <p:nvPr/>
                  </p:nvSpPr>
                  <p:spPr>
                    <a:xfrm>
                      <a:off x="7232760" y="5427720"/>
                      <a:ext cx="20520" cy="9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>
                      <a:off x="7278840" y="5427720"/>
                      <a:ext cx="20520" cy="9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"/>
                    <p:cNvSpPr/>
                    <p:nvPr/>
                  </p:nvSpPr>
                  <p:spPr>
                    <a:xfrm>
                      <a:off x="7132680" y="5413320"/>
                      <a:ext cx="2052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>
                      <a:off x="7132680" y="5361120"/>
                      <a:ext cx="2052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>
                      <a:off x="7332840" y="5413320"/>
                      <a:ext cx="2052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7332840" y="5361120"/>
                      <a:ext cx="2052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2" name=""/>
                  <p:cNvGrpSpPr/>
                  <p:nvPr/>
                </p:nvGrpSpPr>
                <p:grpSpPr>
                  <a:xfrm>
                    <a:off x="7132680" y="5326200"/>
                    <a:ext cx="21960" cy="10800"/>
                    <a:chOff x="7132680" y="5326200"/>
                    <a:chExt cx="21960" cy="10800"/>
                  </a:xfrm>
                </p:grpSpPr>
                <p:sp>
                  <p:nvSpPr>
                    <p:cNvPr id="643" name=""/>
                    <p:cNvSpPr/>
                    <p:nvPr/>
                  </p:nvSpPr>
                  <p:spPr>
                    <a:xfrm>
                      <a:off x="7134120" y="5329080"/>
                      <a:ext cx="2052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>
                      <a:off x="7132680" y="5326200"/>
                      <a:ext cx="1908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5" name=""/>
                  <p:cNvGrpSpPr/>
                  <p:nvPr/>
                </p:nvGrpSpPr>
                <p:grpSpPr>
                  <a:xfrm>
                    <a:off x="7188120" y="5326200"/>
                    <a:ext cx="22320" cy="10800"/>
                    <a:chOff x="7188120" y="5326200"/>
                    <a:chExt cx="22320" cy="10800"/>
                  </a:xfrm>
                </p:grpSpPr>
                <p:sp>
                  <p:nvSpPr>
                    <p:cNvPr id="646" name=""/>
                    <p:cNvSpPr/>
                    <p:nvPr/>
                  </p:nvSpPr>
                  <p:spPr>
                    <a:xfrm>
                      <a:off x="7189920" y="5329080"/>
                      <a:ext cx="2052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"/>
                    <p:cNvSpPr/>
                    <p:nvPr/>
                  </p:nvSpPr>
                  <p:spPr>
                    <a:xfrm>
                      <a:off x="7188120" y="5326200"/>
                      <a:ext cx="1908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7234200" y="5326200"/>
                    <a:ext cx="20880" cy="10800"/>
                    <a:chOff x="7234200" y="5326200"/>
                    <a:chExt cx="20880" cy="1080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>
                      <a:off x="7236000" y="5329080"/>
                      <a:ext cx="1908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7234200" y="5326200"/>
                      <a:ext cx="1908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1" name=""/>
                  <p:cNvGrpSpPr/>
                  <p:nvPr/>
                </p:nvGrpSpPr>
                <p:grpSpPr>
                  <a:xfrm>
                    <a:off x="7280280" y="5326200"/>
                    <a:ext cx="21960" cy="10800"/>
                    <a:chOff x="7280280" y="5326200"/>
                    <a:chExt cx="21960" cy="10800"/>
                  </a:xfrm>
                </p:grpSpPr>
                <p:sp>
                  <p:nvSpPr>
                    <p:cNvPr id="652" name=""/>
                    <p:cNvSpPr/>
                    <p:nvPr/>
                  </p:nvSpPr>
                  <p:spPr>
                    <a:xfrm>
                      <a:off x="7281720" y="5329080"/>
                      <a:ext cx="2052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7280280" y="5326200"/>
                      <a:ext cx="1908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4" name=""/>
                  <p:cNvGrpSpPr/>
                  <p:nvPr/>
                </p:nvGrpSpPr>
                <p:grpSpPr>
                  <a:xfrm>
                    <a:off x="7334280" y="5326200"/>
                    <a:ext cx="20520" cy="10800"/>
                    <a:chOff x="7334280" y="5326200"/>
                    <a:chExt cx="20520" cy="10800"/>
                  </a:xfrm>
                </p:grpSpPr>
                <p:sp>
                  <p:nvSpPr>
                    <p:cNvPr id="655" name=""/>
                    <p:cNvSpPr/>
                    <p:nvPr/>
                  </p:nvSpPr>
                  <p:spPr>
                    <a:xfrm>
                      <a:off x="7335720" y="5329080"/>
                      <a:ext cx="1908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"/>
                    <p:cNvSpPr/>
                    <p:nvPr/>
                  </p:nvSpPr>
                  <p:spPr>
                    <a:xfrm>
                      <a:off x="7334280" y="5326200"/>
                      <a:ext cx="1908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7" name=""/>
                  <p:cNvGrpSpPr/>
                  <p:nvPr/>
                </p:nvGrpSpPr>
                <p:grpSpPr>
                  <a:xfrm>
                    <a:off x="7188120" y="5361120"/>
                    <a:ext cx="22320" cy="10800"/>
                    <a:chOff x="7188120" y="5361120"/>
                    <a:chExt cx="22320" cy="10800"/>
                  </a:xfrm>
                </p:grpSpPr>
                <p:sp>
                  <p:nvSpPr>
                    <p:cNvPr id="658" name=""/>
                    <p:cNvSpPr/>
                    <p:nvPr/>
                  </p:nvSpPr>
                  <p:spPr>
                    <a:xfrm>
                      <a:off x="7189920" y="5364000"/>
                      <a:ext cx="2052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7188120" y="5361120"/>
                      <a:ext cx="1908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0" name=""/>
                  <p:cNvGrpSpPr/>
                  <p:nvPr/>
                </p:nvGrpSpPr>
                <p:grpSpPr>
                  <a:xfrm>
                    <a:off x="7234200" y="5361120"/>
                    <a:ext cx="20880" cy="10800"/>
                    <a:chOff x="7234200" y="5361120"/>
                    <a:chExt cx="20880" cy="10800"/>
                  </a:xfrm>
                </p:grpSpPr>
                <p:sp>
                  <p:nvSpPr>
                    <p:cNvPr id="661" name=""/>
                    <p:cNvSpPr/>
                    <p:nvPr/>
                  </p:nvSpPr>
                  <p:spPr>
                    <a:xfrm>
                      <a:off x="7236000" y="5362560"/>
                      <a:ext cx="1908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>
                      <a:off x="7234200" y="5361120"/>
                      <a:ext cx="1908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3" name=""/>
                  <p:cNvGrpSpPr/>
                  <p:nvPr/>
                </p:nvGrpSpPr>
                <p:grpSpPr>
                  <a:xfrm>
                    <a:off x="7280280" y="5361120"/>
                    <a:ext cx="21960" cy="10800"/>
                    <a:chOff x="7280280" y="5361120"/>
                    <a:chExt cx="21960" cy="10800"/>
                  </a:xfrm>
                </p:grpSpPr>
                <p:sp>
                  <p:nvSpPr>
                    <p:cNvPr id="664" name=""/>
                    <p:cNvSpPr/>
                    <p:nvPr/>
                  </p:nvSpPr>
                  <p:spPr>
                    <a:xfrm>
                      <a:off x="7281720" y="5362560"/>
                      <a:ext cx="2052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>
                      <a:off x="7280280" y="5361120"/>
                      <a:ext cx="1908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6" name=""/>
                  <p:cNvGrpSpPr/>
                  <p:nvPr/>
                </p:nvGrpSpPr>
                <p:grpSpPr>
                  <a:xfrm>
                    <a:off x="7188120" y="5396040"/>
                    <a:ext cx="22320" cy="9360"/>
                    <a:chOff x="7188120" y="5396040"/>
                    <a:chExt cx="22320" cy="9360"/>
                  </a:xfrm>
                </p:grpSpPr>
                <p:sp>
                  <p:nvSpPr>
                    <p:cNvPr id="667" name=""/>
                    <p:cNvSpPr/>
                    <p:nvPr/>
                  </p:nvSpPr>
                  <p:spPr>
                    <a:xfrm>
                      <a:off x="7189920" y="5397480"/>
                      <a:ext cx="2052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"/>
                    <p:cNvSpPr/>
                    <p:nvPr/>
                  </p:nvSpPr>
                  <p:spPr>
                    <a:xfrm>
                      <a:off x="7188120" y="5396040"/>
                      <a:ext cx="19080" cy="648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9" name=""/>
                  <p:cNvGrpSpPr/>
                  <p:nvPr/>
                </p:nvGrpSpPr>
                <p:grpSpPr>
                  <a:xfrm>
                    <a:off x="7234200" y="5396040"/>
                    <a:ext cx="20880" cy="9360"/>
                    <a:chOff x="7234200" y="5396040"/>
                    <a:chExt cx="20880" cy="9360"/>
                  </a:xfrm>
                </p:grpSpPr>
                <p:sp>
                  <p:nvSpPr>
                    <p:cNvPr id="670" name=""/>
                    <p:cNvSpPr/>
                    <p:nvPr/>
                  </p:nvSpPr>
                  <p:spPr>
                    <a:xfrm>
                      <a:off x="7236000" y="5397480"/>
                      <a:ext cx="1908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>
                      <a:off x="7234200" y="5396040"/>
                      <a:ext cx="19080" cy="648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2" name=""/>
                  <p:cNvGrpSpPr/>
                  <p:nvPr/>
                </p:nvGrpSpPr>
                <p:grpSpPr>
                  <a:xfrm>
                    <a:off x="7280280" y="5396040"/>
                    <a:ext cx="21960" cy="9360"/>
                    <a:chOff x="7280280" y="5396040"/>
                    <a:chExt cx="21960" cy="9360"/>
                  </a:xfrm>
                </p:grpSpPr>
                <p:sp>
                  <p:nvSpPr>
                    <p:cNvPr id="673" name=""/>
                    <p:cNvSpPr/>
                    <p:nvPr/>
                  </p:nvSpPr>
                  <p:spPr>
                    <a:xfrm>
                      <a:off x="7281720" y="5397480"/>
                      <a:ext cx="2052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7280280" y="5396040"/>
                      <a:ext cx="19080" cy="648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5" name=""/>
                  <p:cNvGrpSpPr/>
                  <p:nvPr/>
                </p:nvGrpSpPr>
                <p:grpSpPr>
                  <a:xfrm>
                    <a:off x="7188120" y="5429160"/>
                    <a:ext cx="22320" cy="11160"/>
                    <a:chOff x="7188120" y="5429160"/>
                    <a:chExt cx="22320" cy="11160"/>
                  </a:xfrm>
                </p:grpSpPr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7189920" y="5432400"/>
                      <a:ext cx="2052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>
                      <a:off x="7188120" y="5429160"/>
                      <a:ext cx="1908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8" name=""/>
                  <p:cNvGrpSpPr/>
                  <p:nvPr/>
                </p:nvGrpSpPr>
                <p:grpSpPr>
                  <a:xfrm>
                    <a:off x="7234200" y="5429160"/>
                    <a:ext cx="20880" cy="11160"/>
                    <a:chOff x="7234200" y="5429160"/>
                    <a:chExt cx="20880" cy="11160"/>
                  </a:xfrm>
                </p:grpSpPr>
                <p:sp>
                  <p:nvSpPr>
                    <p:cNvPr id="679" name=""/>
                    <p:cNvSpPr/>
                    <p:nvPr/>
                  </p:nvSpPr>
                  <p:spPr>
                    <a:xfrm>
                      <a:off x="7236000" y="5432400"/>
                      <a:ext cx="1908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>
                      <a:off x="7234200" y="5429160"/>
                      <a:ext cx="1908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1" name=""/>
                  <p:cNvGrpSpPr/>
                  <p:nvPr/>
                </p:nvGrpSpPr>
                <p:grpSpPr>
                  <a:xfrm>
                    <a:off x="7280280" y="5429160"/>
                    <a:ext cx="21960" cy="11160"/>
                    <a:chOff x="7280280" y="5429160"/>
                    <a:chExt cx="21960" cy="11160"/>
                  </a:xfrm>
                </p:grpSpPr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7281720" y="5432400"/>
                      <a:ext cx="2052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7280280" y="5429160"/>
                      <a:ext cx="1908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4" name=""/>
                  <p:cNvGrpSpPr/>
                  <p:nvPr/>
                </p:nvGrpSpPr>
                <p:grpSpPr>
                  <a:xfrm>
                    <a:off x="7132680" y="5415120"/>
                    <a:ext cx="21960" cy="10800"/>
                    <a:chOff x="7132680" y="5415120"/>
                    <a:chExt cx="21960" cy="10800"/>
                  </a:xfrm>
                </p:grpSpPr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7134120" y="5416560"/>
                      <a:ext cx="2052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7132680" y="5415120"/>
                      <a:ext cx="19080" cy="648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7" name=""/>
                  <p:cNvGrpSpPr/>
                  <p:nvPr/>
                </p:nvGrpSpPr>
                <p:grpSpPr>
                  <a:xfrm>
                    <a:off x="7132680" y="5361120"/>
                    <a:ext cx="21960" cy="10800"/>
                    <a:chOff x="7132680" y="5361120"/>
                    <a:chExt cx="21960" cy="10800"/>
                  </a:xfrm>
                </p:grpSpPr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7134120" y="5364000"/>
                      <a:ext cx="2052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7132680" y="5361120"/>
                      <a:ext cx="1908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0" name=""/>
                  <p:cNvGrpSpPr/>
                  <p:nvPr/>
                </p:nvGrpSpPr>
                <p:grpSpPr>
                  <a:xfrm>
                    <a:off x="7334280" y="5415120"/>
                    <a:ext cx="20520" cy="10800"/>
                    <a:chOff x="7334280" y="5415120"/>
                    <a:chExt cx="20520" cy="10800"/>
                  </a:xfrm>
                </p:grpSpPr>
                <p:sp>
                  <p:nvSpPr>
                    <p:cNvPr id="691" name=""/>
                    <p:cNvSpPr/>
                    <p:nvPr/>
                  </p:nvSpPr>
                  <p:spPr>
                    <a:xfrm>
                      <a:off x="7335720" y="5416560"/>
                      <a:ext cx="1908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>
                      <a:off x="7334280" y="5415120"/>
                      <a:ext cx="19080" cy="648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3" name=""/>
                  <p:cNvGrpSpPr/>
                  <p:nvPr/>
                </p:nvGrpSpPr>
                <p:grpSpPr>
                  <a:xfrm>
                    <a:off x="7334280" y="5361120"/>
                    <a:ext cx="20520" cy="10800"/>
                    <a:chOff x="7334280" y="5361120"/>
                    <a:chExt cx="20520" cy="10800"/>
                  </a:xfrm>
                </p:grpSpPr>
                <p:sp>
                  <p:nvSpPr>
                    <p:cNvPr id="694" name=""/>
                    <p:cNvSpPr/>
                    <p:nvPr/>
                  </p:nvSpPr>
                  <p:spPr>
                    <a:xfrm>
                      <a:off x="7335720" y="5364000"/>
                      <a:ext cx="1908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>
                      <a:off x="7334280" y="5361120"/>
                      <a:ext cx="1908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6" name=""/>
              <p:cNvGrpSpPr/>
              <p:nvPr/>
            </p:nvGrpSpPr>
            <p:grpSpPr>
              <a:xfrm>
                <a:off x="6942240" y="5267160"/>
                <a:ext cx="56880" cy="165240"/>
                <a:chOff x="6942240" y="5267160"/>
                <a:chExt cx="56880" cy="16524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6943680" y="5316480"/>
                  <a:ext cx="28800" cy="2880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6942240" y="5332320"/>
                  <a:ext cx="28440" cy="2232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943680" y="5353200"/>
                  <a:ext cx="28800" cy="1080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946920" y="5373720"/>
                  <a:ext cx="30240" cy="324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7880" bIns="-47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 flipV="1">
                  <a:off x="6953400" y="5388120"/>
                  <a:ext cx="28440" cy="144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 flipV="1">
                  <a:off x="6956280" y="5397480"/>
                  <a:ext cx="30240" cy="792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6948360" y="5300640"/>
                  <a:ext cx="25560" cy="3348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54840" y="5284800"/>
                  <a:ext cx="19080" cy="3960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966000" y="5273640"/>
                  <a:ext cx="12600" cy="4284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6981840" y="5267160"/>
                  <a:ext cx="4680" cy="4608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 flipV="1">
                  <a:off x="6966000" y="5400720"/>
                  <a:ext cx="27000" cy="2052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 flipV="1">
                  <a:off x="6980400" y="5398920"/>
                  <a:ext cx="18720" cy="3348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9" name=""/>
            <p:cNvSpPr/>
            <p:nvPr/>
          </p:nvSpPr>
          <p:spPr>
            <a:xfrm>
              <a:off x="6985080" y="4976640"/>
              <a:ext cx="1843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6130800" y="5419800"/>
            <a:ext cx="879840" cy="66960"/>
          </a:xfrm>
          <a:custGeom>
            <a:avLst/>
            <a:gdLst/>
            <a:ahLst/>
            <a:rect l="0" t="0" r="r" b="b"/>
            <a:pathLst>
              <a:path fill="none" w="2444" h="186">
                <a:moveTo>
                  <a:pt x="0" y="0"/>
                </a:moveTo>
                <a:lnTo>
                  <a:pt x="1584" y="0"/>
                </a:lnTo>
                <a:lnTo>
                  <a:pt x="1293" y="186"/>
                </a:lnTo>
                <a:lnTo>
                  <a:pt x="2444" y="186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3882960" y="2197080"/>
            <a:ext cx="2152440" cy="1193760"/>
            <a:chOff x="3882960" y="2197080"/>
            <a:chExt cx="2152440" cy="1193760"/>
          </a:xfrm>
        </p:grpSpPr>
        <p:grpSp>
          <p:nvGrpSpPr>
            <p:cNvPr id="712" name=""/>
            <p:cNvGrpSpPr/>
            <p:nvPr/>
          </p:nvGrpSpPr>
          <p:grpSpPr>
            <a:xfrm>
              <a:off x="3882960" y="2197080"/>
              <a:ext cx="2152440" cy="1193760"/>
              <a:chOff x="3882960" y="2197080"/>
              <a:chExt cx="2152440" cy="1193760"/>
            </a:xfrm>
          </p:grpSpPr>
          <p:grpSp>
            <p:nvGrpSpPr>
              <p:cNvPr id="713" name=""/>
              <p:cNvGrpSpPr/>
              <p:nvPr/>
            </p:nvGrpSpPr>
            <p:grpSpPr>
              <a:xfrm>
                <a:off x="5140440" y="2306520"/>
                <a:ext cx="894960" cy="1028880"/>
                <a:chOff x="5140440" y="2306520"/>
                <a:chExt cx="894960" cy="1028880"/>
              </a:xfrm>
            </p:grpSpPr>
            <p:grpSp>
              <p:nvGrpSpPr>
                <p:cNvPr id="714" name=""/>
                <p:cNvGrpSpPr/>
                <p:nvPr/>
              </p:nvGrpSpPr>
              <p:grpSpPr>
                <a:xfrm>
                  <a:off x="5483160" y="2306520"/>
                  <a:ext cx="552240" cy="828720"/>
                  <a:chOff x="5483160" y="2306520"/>
                  <a:chExt cx="552240" cy="828720"/>
                </a:xfrm>
              </p:grpSpPr>
              <p:grpSp>
                <p:nvGrpSpPr>
                  <p:cNvPr id="715" name=""/>
                  <p:cNvGrpSpPr/>
                  <p:nvPr/>
                </p:nvGrpSpPr>
                <p:grpSpPr>
                  <a:xfrm>
                    <a:off x="5622840" y="2414520"/>
                    <a:ext cx="412560" cy="611280"/>
                    <a:chOff x="5622840" y="2414520"/>
                    <a:chExt cx="412560" cy="611280"/>
                  </a:xfrm>
                </p:grpSpPr>
                <p:grpSp>
                  <p:nvGrpSpPr>
                    <p:cNvPr id="716" name=""/>
                    <p:cNvGrpSpPr/>
                    <p:nvPr/>
                  </p:nvGrpSpPr>
                  <p:grpSpPr>
                    <a:xfrm>
                      <a:off x="5622840" y="2414520"/>
                      <a:ext cx="412560" cy="611280"/>
                      <a:chOff x="5622840" y="2414520"/>
                      <a:chExt cx="412560" cy="611280"/>
                    </a:xfrm>
                  </p:grpSpPr>
                  <p:grpSp>
                    <p:nvGrpSpPr>
                      <p:cNvPr id="717" name=""/>
                      <p:cNvGrpSpPr/>
                      <p:nvPr/>
                    </p:nvGrpSpPr>
                    <p:grpSpPr>
                      <a:xfrm>
                        <a:off x="5727600" y="2451240"/>
                        <a:ext cx="307800" cy="501480"/>
                        <a:chOff x="5727600" y="2451240"/>
                        <a:chExt cx="307800" cy="501480"/>
                      </a:xfrm>
                    </p:grpSpPr>
                    <p:grpSp>
                      <p:nvGrpSpPr>
                        <p:cNvPr id="718" name=""/>
                        <p:cNvGrpSpPr/>
                        <p:nvPr/>
                      </p:nvGrpSpPr>
                      <p:grpSpPr>
                        <a:xfrm>
                          <a:off x="5762520" y="2451240"/>
                          <a:ext cx="272880" cy="501480"/>
                          <a:chOff x="5762520" y="2451240"/>
                          <a:chExt cx="272880" cy="501480"/>
                        </a:xfrm>
                      </p:grpSpPr>
                      <p:sp>
                        <p:nvSpPr>
                          <p:cNvPr id="719" name=""/>
                          <p:cNvSpPr/>
                          <p:nvPr/>
                        </p:nvSpPr>
                        <p:spPr>
                          <a:xfrm>
                            <a:off x="5902200" y="2743200"/>
                            <a:ext cx="133200" cy="1364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0" name=""/>
                          <p:cNvSpPr/>
                          <p:nvPr/>
                        </p:nvSpPr>
                        <p:spPr>
                          <a:xfrm>
                            <a:off x="5797440" y="2778120"/>
                            <a:ext cx="165240" cy="1746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1" name=""/>
                          <p:cNvSpPr/>
                          <p:nvPr/>
                        </p:nvSpPr>
                        <p:spPr>
                          <a:xfrm>
                            <a:off x="5867280" y="2560680"/>
                            <a:ext cx="133200" cy="138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2" name=""/>
                          <p:cNvSpPr/>
                          <p:nvPr/>
                        </p:nvSpPr>
                        <p:spPr>
                          <a:xfrm>
                            <a:off x="5762520" y="2451240"/>
                            <a:ext cx="166680" cy="1746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3" name=""/>
                          <p:cNvSpPr/>
                          <p:nvPr/>
                        </p:nvSpPr>
                        <p:spPr>
                          <a:xfrm>
                            <a:off x="5875200" y="2567160"/>
                            <a:ext cx="106560" cy="2782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96" h="773">
                                <a:moveTo>
                                  <a:pt x="296" y="764"/>
                                </a:moveTo>
                                <a:lnTo>
                                  <a:pt x="168" y="773"/>
                                </a:lnTo>
                                <a:lnTo>
                                  <a:pt x="0" y="0"/>
                                </a:lnTo>
                                <a:lnTo>
                                  <a:pt x="186" y="57"/>
                                </a:lnTo>
                                <a:lnTo>
                                  <a:pt x="190" y="437"/>
                                </a:lnTo>
                                <a:lnTo>
                                  <a:pt x="296" y="76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5000" bIns="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24" name=""/>
                        <p:cNvSpPr/>
                        <p:nvPr/>
                      </p:nvSpPr>
                      <p:spPr>
                        <a:xfrm>
                          <a:off x="5727600" y="2597040"/>
                          <a:ext cx="236520" cy="2476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5" name=""/>
                        <p:cNvSpPr/>
                        <p:nvPr/>
                      </p:nvSpPr>
                      <p:spPr>
                        <a:xfrm>
                          <a:off x="5727600" y="2743200"/>
                          <a:ext cx="166680" cy="174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6" name=""/>
                        <p:cNvSpPr/>
                        <p:nvPr/>
                      </p:nvSpPr>
                      <p:spPr>
                        <a:xfrm>
                          <a:off x="5783400" y="2533680"/>
                          <a:ext cx="113040" cy="30204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314" h="839">
                              <a:moveTo>
                                <a:pt x="287" y="145"/>
                              </a:moveTo>
                              <a:lnTo>
                                <a:pt x="252" y="318"/>
                              </a:lnTo>
                              <a:lnTo>
                                <a:pt x="314" y="720"/>
                              </a:lnTo>
                              <a:lnTo>
                                <a:pt x="190" y="839"/>
                              </a:lnTo>
                              <a:lnTo>
                                <a:pt x="0" y="353"/>
                              </a:lnTo>
                              <a:lnTo>
                                <a:pt x="149" y="0"/>
                              </a:lnTo>
                              <a:lnTo>
                                <a:pt x="287" y="14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27" name=""/>
                      <p:cNvSpPr/>
                      <p:nvPr/>
                    </p:nvSpPr>
                    <p:spPr>
                      <a:xfrm>
                        <a:off x="5727600" y="2887560"/>
                        <a:ext cx="131760" cy="138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8" name=""/>
                      <p:cNvSpPr/>
                      <p:nvPr/>
                    </p:nvSpPr>
                    <p:spPr>
                      <a:xfrm>
                        <a:off x="5622840" y="2414520"/>
                        <a:ext cx="166680" cy="1760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9" name=""/>
                      <p:cNvSpPr/>
                      <p:nvPr/>
                    </p:nvSpPr>
                    <p:spPr>
                      <a:xfrm>
                        <a:off x="5772240" y="2860560"/>
                        <a:ext cx="79560" cy="543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21" h="151">
                            <a:moveTo>
                              <a:pt x="221" y="93"/>
                            </a:moveTo>
                            <a:lnTo>
                              <a:pt x="155" y="151"/>
                            </a:lnTo>
                            <a:lnTo>
                              <a:pt x="0" y="75"/>
                            </a:lnTo>
                            <a:lnTo>
                              <a:pt x="155" y="0"/>
                            </a:lnTo>
                            <a:lnTo>
                              <a:pt x="221" y="9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txBody>
                      <a:bodyPr lIns="90000" rIns="90000" tIns="9360" bIns="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30" name=""/>
                    <p:cNvSpPr/>
                    <p:nvPr/>
                  </p:nvSpPr>
                  <p:spPr>
                    <a:xfrm>
                      <a:off x="5757840" y="2500200"/>
                      <a:ext cx="43200" cy="90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20" h="252">
                          <a:moveTo>
                            <a:pt x="62" y="0"/>
                          </a:moveTo>
                          <a:lnTo>
                            <a:pt x="120" y="4"/>
                          </a:lnTo>
                          <a:lnTo>
                            <a:pt x="98" y="252"/>
                          </a:lnTo>
                          <a:lnTo>
                            <a:pt x="0" y="203"/>
                          </a:lnTo>
                          <a:lnTo>
                            <a:pt x="62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1" name=""/>
                  <p:cNvGrpSpPr/>
                  <p:nvPr/>
                </p:nvGrpSpPr>
                <p:grpSpPr>
                  <a:xfrm>
                    <a:off x="5483160" y="2306520"/>
                    <a:ext cx="376200" cy="755640"/>
                    <a:chOff x="5483160" y="2306520"/>
                    <a:chExt cx="376200" cy="755640"/>
                  </a:xfrm>
                </p:grpSpPr>
                <p:sp>
                  <p:nvSpPr>
                    <p:cNvPr id="732" name=""/>
                    <p:cNvSpPr/>
                    <p:nvPr/>
                  </p:nvSpPr>
                  <p:spPr>
                    <a:xfrm>
                      <a:off x="5516640" y="2743200"/>
                      <a:ext cx="307800" cy="318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>
                      <a:off x="5551560" y="2523960"/>
                      <a:ext cx="307800" cy="320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>
                      <a:off x="5483160" y="2306520"/>
                      <a:ext cx="236520" cy="24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"/>
                    <p:cNvSpPr/>
                    <p:nvPr/>
                  </p:nvSpPr>
                  <p:spPr>
                    <a:xfrm>
                      <a:off x="5622840" y="2451240"/>
                      <a:ext cx="130320" cy="138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>
                      <a:off x="5557680" y="2430360"/>
                      <a:ext cx="198720" cy="2703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52" h="751">
                          <a:moveTo>
                            <a:pt x="389" y="30"/>
                          </a:moveTo>
                          <a:lnTo>
                            <a:pt x="384" y="119"/>
                          </a:lnTo>
                          <a:lnTo>
                            <a:pt x="516" y="287"/>
                          </a:lnTo>
                          <a:lnTo>
                            <a:pt x="552" y="305"/>
                          </a:lnTo>
                          <a:lnTo>
                            <a:pt x="358" y="751"/>
                          </a:lnTo>
                          <a:lnTo>
                            <a:pt x="0" y="0"/>
                          </a:lnTo>
                          <a:lnTo>
                            <a:pt x="389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>
                      <a:off x="5656320" y="2806560"/>
                      <a:ext cx="125640" cy="73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49" h="204">
                          <a:moveTo>
                            <a:pt x="309" y="30"/>
                          </a:moveTo>
                          <a:lnTo>
                            <a:pt x="349" y="93"/>
                          </a:lnTo>
                          <a:lnTo>
                            <a:pt x="0" y="204"/>
                          </a:lnTo>
                          <a:lnTo>
                            <a:pt x="13" y="0"/>
                          </a:lnTo>
                          <a:lnTo>
                            <a:pt x="309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28440" bIns="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8" name=""/>
                  <p:cNvSpPr/>
                  <p:nvPr/>
                </p:nvSpPr>
                <p:spPr>
                  <a:xfrm>
                    <a:off x="5483160" y="2960640"/>
                    <a:ext cx="166680" cy="174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5597640" y="2948040"/>
                    <a:ext cx="81360" cy="87840"/>
                  </a:xfrm>
                  <a:custGeom>
                    <a:avLst/>
                    <a:gdLst/>
                    <a:ahLst/>
                    <a:rect l="0" t="0" r="r" b="b"/>
                    <a:pathLst>
                      <a:path w="226" h="244">
                        <a:moveTo>
                          <a:pt x="93" y="244"/>
                        </a:moveTo>
                        <a:lnTo>
                          <a:pt x="226" y="159"/>
                        </a:lnTo>
                        <a:lnTo>
                          <a:pt x="71" y="0"/>
                        </a:lnTo>
                        <a:lnTo>
                          <a:pt x="0" y="89"/>
                        </a:lnTo>
                        <a:lnTo>
                          <a:pt x="93" y="24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0" name=""/>
                <p:cNvSpPr/>
                <p:nvPr/>
              </p:nvSpPr>
              <p:spPr>
                <a:xfrm>
                  <a:off x="5140440" y="3125880"/>
                  <a:ext cx="201600" cy="2095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5307120" y="3125880"/>
                  <a:ext cx="168120" cy="174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5403960" y="3067200"/>
                  <a:ext cx="166680" cy="1731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268960" y="3044880"/>
                  <a:ext cx="329040" cy="227520"/>
                </a:xfrm>
                <a:custGeom>
                  <a:avLst/>
                  <a:gdLst/>
                  <a:ahLst/>
                  <a:rect l="0" t="0" r="r" b="b"/>
                  <a:pathLst>
                    <a:path w="914" h="632">
                      <a:moveTo>
                        <a:pt x="853" y="186"/>
                      </a:moveTo>
                      <a:lnTo>
                        <a:pt x="764" y="225"/>
                      </a:lnTo>
                      <a:lnTo>
                        <a:pt x="516" y="478"/>
                      </a:lnTo>
                      <a:lnTo>
                        <a:pt x="459" y="584"/>
                      </a:lnTo>
                      <a:lnTo>
                        <a:pt x="189" y="584"/>
                      </a:lnTo>
                      <a:lnTo>
                        <a:pt x="136" y="632"/>
                      </a:lnTo>
                      <a:lnTo>
                        <a:pt x="0" y="446"/>
                      </a:lnTo>
                      <a:lnTo>
                        <a:pt x="618" y="0"/>
                      </a:lnTo>
                      <a:lnTo>
                        <a:pt x="914" y="101"/>
                      </a:lnTo>
                      <a:lnTo>
                        <a:pt x="853" y="18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3882960" y="2313000"/>
                <a:ext cx="538200" cy="714240"/>
                <a:chOff x="3882960" y="2313000"/>
                <a:chExt cx="538200" cy="714240"/>
              </a:xfrm>
            </p:grpSpPr>
            <p:grpSp>
              <p:nvGrpSpPr>
                <p:cNvPr id="745" name=""/>
                <p:cNvGrpSpPr/>
                <p:nvPr/>
              </p:nvGrpSpPr>
              <p:grpSpPr>
                <a:xfrm>
                  <a:off x="3882960" y="2414520"/>
                  <a:ext cx="292320" cy="430200"/>
                  <a:chOff x="3882960" y="2414520"/>
                  <a:chExt cx="292320" cy="430200"/>
                </a:xfrm>
              </p:grpSpPr>
              <p:sp>
                <p:nvSpPr>
                  <p:cNvPr id="746" name=""/>
                  <p:cNvSpPr/>
                  <p:nvPr/>
                </p:nvSpPr>
                <p:spPr>
                  <a:xfrm>
                    <a:off x="3882960" y="2560680"/>
                    <a:ext cx="130320" cy="13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3905280" y="2670120"/>
                    <a:ext cx="166680" cy="174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3938760" y="2414520"/>
                    <a:ext cx="236520" cy="247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3927600" y="2581200"/>
                    <a:ext cx="79560" cy="128880"/>
                  </a:xfrm>
                  <a:custGeom>
                    <a:avLst/>
                    <a:gdLst/>
                    <a:ahLst/>
                    <a:rect l="0" t="0" r="r" b="b"/>
                    <a:pathLst>
                      <a:path w="221" h="358">
                        <a:moveTo>
                          <a:pt x="128" y="0"/>
                        </a:moveTo>
                        <a:lnTo>
                          <a:pt x="0" y="70"/>
                        </a:lnTo>
                        <a:lnTo>
                          <a:pt x="4" y="287"/>
                        </a:lnTo>
                        <a:lnTo>
                          <a:pt x="48" y="358"/>
                        </a:lnTo>
                        <a:lnTo>
                          <a:pt x="221" y="287"/>
                        </a:lnTo>
                        <a:lnTo>
                          <a:pt x="12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0" name=""/>
                <p:cNvGrpSpPr/>
                <p:nvPr/>
              </p:nvGrpSpPr>
              <p:grpSpPr>
                <a:xfrm>
                  <a:off x="3973680" y="2313000"/>
                  <a:ext cx="447480" cy="714240"/>
                  <a:chOff x="3973680" y="2313000"/>
                  <a:chExt cx="447480" cy="714240"/>
                </a:xfrm>
              </p:grpSpPr>
              <p:sp>
                <p:nvSpPr>
                  <p:cNvPr id="751" name=""/>
                  <p:cNvSpPr/>
                  <p:nvPr/>
                </p:nvSpPr>
                <p:spPr>
                  <a:xfrm>
                    <a:off x="4114800" y="2343240"/>
                    <a:ext cx="306360" cy="318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3973680" y="2560680"/>
                    <a:ext cx="168120" cy="174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4010040" y="2670120"/>
                    <a:ext cx="237960" cy="247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4079880" y="2778120"/>
                    <a:ext cx="236520" cy="249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4097160" y="2492280"/>
                    <a:ext cx="210960" cy="21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4273560" y="2313000"/>
                    <a:ext cx="130320" cy="136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4167360" y="2455920"/>
                    <a:ext cx="143280" cy="103680"/>
                  </a:xfrm>
                  <a:custGeom>
                    <a:avLst/>
                    <a:gdLst/>
                    <a:ahLst/>
                    <a:rect l="0" t="0" r="r" b="b"/>
                    <a:pathLst>
                      <a:path w="398" h="288">
                        <a:moveTo>
                          <a:pt x="0" y="80"/>
                        </a:moveTo>
                        <a:lnTo>
                          <a:pt x="48" y="212"/>
                        </a:lnTo>
                        <a:lnTo>
                          <a:pt x="398" y="288"/>
                        </a:lnTo>
                        <a:lnTo>
                          <a:pt x="398" y="111"/>
                        </a:lnTo>
                        <a:lnTo>
                          <a:pt x="26" y="0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4025880" y="2643120"/>
                    <a:ext cx="163800" cy="213120"/>
                  </a:xfrm>
                  <a:custGeom>
                    <a:avLst/>
                    <a:gdLst/>
                    <a:ahLst/>
                    <a:rect l="0" t="0" r="r" b="b"/>
                    <a:pathLst>
                      <a:path w="455" h="592">
                        <a:moveTo>
                          <a:pt x="283" y="0"/>
                        </a:moveTo>
                        <a:lnTo>
                          <a:pt x="0" y="150"/>
                        </a:lnTo>
                        <a:lnTo>
                          <a:pt x="119" y="265"/>
                        </a:lnTo>
                        <a:lnTo>
                          <a:pt x="132" y="557"/>
                        </a:lnTo>
                        <a:lnTo>
                          <a:pt x="198" y="592"/>
                        </a:lnTo>
                        <a:lnTo>
                          <a:pt x="437" y="406"/>
                        </a:lnTo>
                        <a:lnTo>
                          <a:pt x="455" y="57"/>
                        </a:lnTo>
                        <a:lnTo>
                          <a:pt x="28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9" name=""/>
                <p:cNvSpPr/>
                <p:nvPr/>
              </p:nvSpPr>
              <p:spPr>
                <a:xfrm>
                  <a:off x="4268880" y="2394000"/>
                  <a:ext cx="84600" cy="98640"/>
                </a:xfrm>
                <a:custGeom>
                  <a:avLst/>
                  <a:gdLst/>
                  <a:ahLst/>
                  <a:rect l="0" t="0" r="r" b="b"/>
                  <a:pathLst>
                    <a:path w="235" h="274">
                      <a:moveTo>
                        <a:pt x="0" y="150"/>
                      </a:moveTo>
                      <a:lnTo>
                        <a:pt x="102" y="0"/>
                      </a:lnTo>
                      <a:lnTo>
                        <a:pt x="235" y="150"/>
                      </a:lnTo>
                      <a:lnTo>
                        <a:pt x="124" y="274"/>
                      </a:lnTo>
                      <a:lnTo>
                        <a:pt x="0" y="15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4149720" y="2197080"/>
                <a:ext cx="1570320" cy="1193760"/>
                <a:chOff x="4149720" y="2197080"/>
                <a:chExt cx="1570320" cy="119376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4640400" y="2233440"/>
                  <a:ext cx="378000" cy="392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956120" y="2197080"/>
                  <a:ext cx="306360" cy="318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5237280" y="2523960"/>
                  <a:ext cx="482760" cy="503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324320" y="2743200"/>
                  <a:ext cx="552600" cy="57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097600" y="2814480"/>
                  <a:ext cx="411120" cy="428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184640" y="2852640"/>
                  <a:ext cx="306360" cy="318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149720" y="2597040"/>
                  <a:ext cx="306360" cy="318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289400" y="2306520"/>
                  <a:ext cx="484200" cy="501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711680" y="2887560"/>
                  <a:ext cx="482760" cy="503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307120" y="2343240"/>
                  <a:ext cx="378000" cy="392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5200560" y="2197080"/>
                  <a:ext cx="343080" cy="355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280040" y="2295360"/>
                  <a:ext cx="1349640" cy="937080"/>
                </a:xfrm>
                <a:custGeom>
                  <a:avLst/>
                  <a:gdLst/>
                  <a:ahLst/>
                  <a:rect l="0" t="0" r="r" b="b"/>
                  <a:pathLst>
                    <a:path w="3749" h="2603">
                      <a:moveTo>
                        <a:pt x="1155" y="260"/>
                      </a:moveTo>
                      <a:lnTo>
                        <a:pt x="1314" y="74"/>
                      </a:lnTo>
                      <a:lnTo>
                        <a:pt x="2016" y="88"/>
                      </a:lnTo>
                      <a:lnTo>
                        <a:pt x="2510" y="0"/>
                      </a:lnTo>
                      <a:lnTo>
                        <a:pt x="3131" y="308"/>
                      </a:lnTo>
                      <a:lnTo>
                        <a:pt x="3449" y="220"/>
                      </a:lnTo>
                      <a:lnTo>
                        <a:pt x="3612" y="260"/>
                      </a:lnTo>
                      <a:lnTo>
                        <a:pt x="3652" y="1037"/>
                      </a:lnTo>
                      <a:lnTo>
                        <a:pt x="3749" y="1156"/>
                      </a:lnTo>
                      <a:lnTo>
                        <a:pt x="3462" y="1756"/>
                      </a:lnTo>
                      <a:lnTo>
                        <a:pt x="3145" y="1350"/>
                      </a:lnTo>
                      <a:lnTo>
                        <a:pt x="3056" y="1557"/>
                      </a:lnTo>
                      <a:lnTo>
                        <a:pt x="2615" y="2383"/>
                      </a:lnTo>
                      <a:lnTo>
                        <a:pt x="1133" y="2603"/>
                      </a:lnTo>
                      <a:lnTo>
                        <a:pt x="361" y="2440"/>
                      </a:lnTo>
                      <a:lnTo>
                        <a:pt x="119" y="1932"/>
                      </a:lnTo>
                      <a:lnTo>
                        <a:pt x="119" y="1412"/>
                      </a:lnTo>
                      <a:lnTo>
                        <a:pt x="0" y="971"/>
                      </a:lnTo>
                      <a:lnTo>
                        <a:pt x="1155" y="2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3" name=""/>
            <p:cNvSpPr txBox="1"/>
            <p:nvPr/>
          </p:nvSpPr>
          <p:spPr>
            <a:xfrm>
              <a:off x="4416480" y="2673360"/>
              <a:ext cx="946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éseau I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976320" y="2016000"/>
            <a:ext cx="708480" cy="854640"/>
            <a:chOff x="976320" y="2016000"/>
            <a:chExt cx="708480" cy="854640"/>
          </a:xfrm>
        </p:grpSpPr>
        <p:grpSp>
          <p:nvGrpSpPr>
            <p:cNvPr id="775" name=""/>
            <p:cNvGrpSpPr/>
            <p:nvPr/>
          </p:nvGrpSpPr>
          <p:grpSpPr>
            <a:xfrm>
              <a:off x="976320" y="2235240"/>
              <a:ext cx="708480" cy="635400"/>
              <a:chOff x="976320" y="2235240"/>
              <a:chExt cx="708480" cy="635400"/>
            </a:xfrm>
          </p:grpSpPr>
          <p:grpSp>
            <p:nvGrpSpPr>
              <p:cNvPr id="776" name=""/>
              <p:cNvGrpSpPr/>
              <p:nvPr/>
            </p:nvGrpSpPr>
            <p:grpSpPr>
              <a:xfrm>
                <a:off x="1001880" y="2630520"/>
                <a:ext cx="642960" cy="192240"/>
                <a:chOff x="1001880" y="2630520"/>
                <a:chExt cx="642960" cy="192240"/>
              </a:xfrm>
            </p:grpSpPr>
            <p:sp>
              <p:nvSpPr>
                <p:cNvPr id="777" name=""/>
                <p:cNvSpPr/>
                <p:nvPr/>
              </p:nvSpPr>
              <p:spPr>
                <a:xfrm>
                  <a:off x="1001880" y="2630520"/>
                  <a:ext cx="642960" cy="192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363680" y="2665440"/>
                  <a:ext cx="217440" cy="842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9" name=""/>
              <p:cNvGrpSpPr/>
              <p:nvPr/>
            </p:nvGrpSpPr>
            <p:grpSpPr>
              <a:xfrm>
                <a:off x="976320" y="2741760"/>
                <a:ext cx="708480" cy="128880"/>
                <a:chOff x="976320" y="2741760"/>
                <a:chExt cx="708480" cy="12888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976320" y="2741760"/>
                  <a:ext cx="708480" cy="128880"/>
                </a:xfrm>
                <a:custGeom>
                  <a:avLst/>
                  <a:gdLst/>
                  <a:ahLst/>
                  <a:rect l="0" t="0" r="r" b="b"/>
                  <a:pathLst>
                    <a:path w="1968" h="358">
                      <a:moveTo>
                        <a:pt x="246" y="0"/>
                      </a:moveTo>
                      <a:lnTo>
                        <a:pt x="1730" y="0"/>
                      </a:lnTo>
                      <a:lnTo>
                        <a:pt x="1964" y="322"/>
                      </a:lnTo>
                      <a:lnTo>
                        <a:pt x="1968" y="336"/>
                      </a:lnTo>
                      <a:lnTo>
                        <a:pt x="1959" y="349"/>
                      </a:lnTo>
                      <a:lnTo>
                        <a:pt x="1946" y="358"/>
                      </a:lnTo>
                      <a:lnTo>
                        <a:pt x="26" y="358"/>
                      </a:lnTo>
                      <a:lnTo>
                        <a:pt x="13" y="344"/>
                      </a:lnTo>
                      <a:lnTo>
                        <a:pt x="0" y="336"/>
                      </a:lnTo>
                      <a:lnTo>
                        <a:pt x="4" y="314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015920" y="2768760"/>
                  <a:ext cx="470160" cy="82800"/>
                </a:xfrm>
                <a:custGeom>
                  <a:avLst/>
                  <a:gdLst/>
                  <a:ahLst/>
                  <a:rect l="0" t="0" r="r" b="b"/>
                  <a:pathLst>
                    <a:path w="1306" h="230">
                      <a:moveTo>
                        <a:pt x="176" y="0"/>
                      </a:moveTo>
                      <a:lnTo>
                        <a:pt x="1248" y="0"/>
                      </a:lnTo>
                      <a:lnTo>
                        <a:pt x="1306" y="230"/>
                      </a:lnTo>
                      <a:lnTo>
                        <a:pt x="0" y="230"/>
                      </a:lnTo>
                      <a:lnTo>
                        <a:pt x="17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1501920" y="2768760"/>
                  <a:ext cx="143280" cy="82800"/>
                </a:xfrm>
                <a:custGeom>
                  <a:avLst/>
                  <a:gdLst/>
                  <a:ahLst/>
                  <a:rect l="0" t="0" r="r" b="b"/>
                  <a:pathLst>
                    <a:path w="398" h="230">
                      <a:moveTo>
                        <a:pt x="0" y="0"/>
                      </a:moveTo>
                      <a:lnTo>
                        <a:pt x="234" y="0"/>
                      </a:lnTo>
                      <a:lnTo>
                        <a:pt x="398" y="230"/>
                      </a:lnTo>
                      <a:lnTo>
                        <a:pt x="74" y="2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1092240" y="2235240"/>
                <a:ext cx="463680" cy="382680"/>
                <a:chOff x="1092240" y="2235240"/>
                <a:chExt cx="463680" cy="38268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1092240" y="2235240"/>
                  <a:ext cx="463680" cy="382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122480" y="2266920"/>
                  <a:ext cx="403200" cy="322200"/>
                </a:xfrm>
                <a:prstGeom prst="rect">
                  <a:avLst/>
                </a:prstGeom>
                <a:solidFill>
                  <a:srgbClr val="1050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1474920" y="2266920"/>
                  <a:ext cx="49320" cy="322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1488960" y="2284560"/>
                  <a:ext cx="25560" cy="25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1490760" y="2427120"/>
                  <a:ext cx="25560" cy="25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1490760" y="2486160"/>
                  <a:ext cx="25560" cy="25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1490760" y="2544840"/>
                  <a:ext cx="25560" cy="25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"/>
            <p:cNvSpPr/>
            <p:nvPr/>
          </p:nvSpPr>
          <p:spPr>
            <a:xfrm>
              <a:off x="1066680" y="2016000"/>
              <a:ext cx="1843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1555920" y="2087640"/>
            <a:ext cx="1081080" cy="604800"/>
            <a:chOff x="1555920" y="2087640"/>
            <a:chExt cx="1081080" cy="604800"/>
          </a:xfrm>
        </p:grpSpPr>
        <p:sp>
          <p:nvSpPr>
            <p:cNvPr id="793" name=""/>
            <p:cNvSpPr/>
            <p:nvPr/>
          </p:nvSpPr>
          <p:spPr>
            <a:xfrm>
              <a:off x="1555920" y="2424240"/>
              <a:ext cx="282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827360" y="2087640"/>
              <a:ext cx="809640" cy="604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1790640" y="2184480"/>
              <a:ext cx="308160" cy="422280"/>
              <a:chOff x="1790640" y="2184480"/>
              <a:chExt cx="308160" cy="422280"/>
            </a:xfrm>
          </p:grpSpPr>
          <p:sp>
            <p:nvSpPr>
              <p:cNvPr id="796" name=""/>
              <p:cNvSpPr/>
              <p:nvPr/>
            </p:nvSpPr>
            <p:spPr>
              <a:xfrm>
                <a:off x="1914480" y="2184480"/>
                <a:ext cx="1843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790640" y="2346480"/>
                <a:ext cx="1843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8" name=""/>
          <p:cNvSpPr/>
          <p:nvPr/>
        </p:nvSpPr>
        <p:spPr>
          <a:xfrm>
            <a:off x="3581280" y="2514600"/>
            <a:ext cx="328680" cy="138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4724280" y="3057480"/>
            <a:ext cx="1063800" cy="2022480"/>
            <a:chOff x="4724280" y="3057480"/>
            <a:chExt cx="1063800" cy="2022480"/>
          </a:xfrm>
        </p:grpSpPr>
        <p:sp>
          <p:nvSpPr>
            <p:cNvPr id="800" name=""/>
            <p:cNvSpPr/>
            <p:nvPr/>
          </p:nvSpPr>
          <p:spPr>
            <a:xfrm>
              <a:off x="4748040" y="3057480"/>
              <a:ext cx="485640" cy="2022480"/>
            </a:xfrm>
            <a:prstGeom prst="rect">
              <a:avLst/>
            </a:prstGeom>
            <a:solidFill>
              <a:srgbClr val="fda4b5"/>
            </a:solidFill>
            <a:ln w="12600">
              <a:solidFill>
                <a:srgbClr val="cccc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 txBox="1"/>
            <p:nvPr/>
          </p:nvSpPr>
          <p:spPr>
            <a:xfrm>
              <a:off x="4724280" y="3863880"/>
              <a:ext cx="1063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sser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059280" y="1898640"/>
            <a:ext cx="549720" cy="1108440"/>
            <a:chOff x="3059280" y="1898640"/>
            <a:chExt cx="549720" cy="1108440"/>
          </a:xfrm>
        </p:grpSpPr>
        <p:grpSp>
          <p:nvGrpSpPr>
            <p:cNvPr id="803" name=""/>
            <p:cNvGrpSpPr/>
            <p:nvPr/>
          </p:nvGrpSpPr>
          <p:grpSpPr>
            <a:xfrm>
              <a:off x="3287880" y="2182680"/>
              <a:ext cx="321120" cy="824400"/>
              <a:chOff x="3287880" y="2182680"/>
              <a:chExt cx="321120" cy="824400"/>
            </a:xfrm>
          </p:grpSpPr>
          <p:grpSp>
            <p:nvGrpSpPr>
              <p:cNvPr id="804" name=""/>
              <p:cNvGrpSpPr/>
              <p:nvPr/>
            </p:nvGrpSpPr>
            <p:grpSpPr>
              <a:xfrm>
                <a:off x="3287880" y="2890800"/>
                <a:ext cx="321120" cy="116280"/>
                <a:chOff x="3287880" y="2890800"/>
                <a:chExt cx="321120" cy="11628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3287880" y="2890800"/>
                  <a:ext cx="49680" cy="116280"/>
                </a:xfrm>
                <a:custGeom>
                  <a:avLst/>
                  <a:gdLst/>
                  <a:ahLst/>
                  <a:rect l="0" t="0" r="r" b="b"/>
                  <a:pathLst>
                    <a:path w="138" h="323">
                      <a:moveTo>
                        <a:pt x="121" y="239"/>
                      </a:moveTo>
                      <a:lnTo>
                        <a:pt x="0" y="323"/>
                      </a:lnTo>
                      <a:lnTo>
                        <a:pt x="53" y="48"/>
                      </a:lnTo>
                      <a:lnTo>
                        <a:pt x="138" y="0"/>
                      </a:lnTo>
                      <a:lnTo>
                        <a:pt x="121" y="239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3560760" y="2892600"/>
                  <a:ext cx="47880" cy="113040"/>
                </a:xfrm>
                <a:custGeom>
                  <a:avLst/>
                  <a:gdLst/>
                  <a:ahLst/>
                  <a:rect l="0" t="0" r="r" b="b"/>
                  <a:pathLst>
                    <a:path w="133" h="314">
                      <a:moveTo>
                        <a:pt x="0" y="212"/>
                      </a:moveTo>
                      <a:lnTo>
                        <a:pt x="133" y="314"/>
                      </a:lnTo>
                      <a:lnTo>
                        <a:pt x="84" y="48"/>
                      </a:lnTo>
                      <a:lnTo>
                        <a:pt x="4" y="0"/>
                      </a:lnTo>
                      <a:lnTo>
                        <a:pt x="0" y="212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3287880" y="2976480"/>
                  <a:ext cx="321120" cy="30600"/>
                </a:xfrm>
                <a:custGeom>
                  <a:avLst/>
                  <a:gdLst/>
                  <a:ahLst/>
                  <a:rect l="0" t="0" r="r" b="b"/>
                  <a:pathLst>
                    <a:path w="892" h="85">
                      <a:moveTo>
                        <a:pt x="0" y="81"/>
                      </a:moveTo>
                      <a:lnTo>
                        <a:pt x="892" y="85"/>
                      </a:lnTo>
                      <a:lnTo>
                        <a:pt x="782" y="0"/>
                      </a:lnTo>
                      <a:lnTo>
                        <a:pt x="123" y="0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3324240" y="2970360"/>
                  <a:ext cx="254520" cy="25920"/>
                </a:xfrm>
                <a:custGeom>
                  <a:avLst/>
                  <a:gdLst/>
                  <a:ahLst/>
                  <a:rect l="0" t="0" r="r" b="b"/>
                  <a:pathLst>
                    <a:path w="707" h="72">
                      <a:moveTo>
                        <a:pt x="0" y="0"/>
                      </a:moveTo>
                      <a:lnTo>
                        <a:pt x="22" y="72"/>
                      </a:lnTo>
                      <a:lnTo>
                        <a:pt x="689" y="72"/>
                      </a:lnTo>
                      <a:lnTo>
                        <a:pt x="7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9" name=""/>
              <p:cNvSpPr/>
              <p:nvPr/>
            </p:nvSpPr>
            <p:spPr>
              <a:xfrm>
                <a:off x="3325680" y="2185920"/>
                <a:ext cx="252360" cy="785880"/>
              </a:xfrm>
              <a:prstGeom prst="rect">
                <a:avLst/>
              </a:prstGeom>
              <a:solidFill>
                <a:srgbClr val="a0a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354480" y="2208240"/>
                <a:ext cx="190800" cy="35280"/>
              </a:xfrm>
              <a:custGeom>
                <a:avLst/>
                <a:gdLst/>
                <a:ahLst/>
                <a:rect l="0" t="0" r="r" b="b"/>
                <a:pathLst>
                  <a:path w="530" h="98">
                    <a:moveTo>
                      <a:pt x="0" y="0"/>
                    </a:moveTo>
                    <a:lnTo>
                      <a:pt x="530" y="0"/>
                    </a:lnTo>
                    <a:lnTo>
                      <a:pt x="530" y="98"/>
                    </a:lnTo>
                    <a:lnTo>
                      <a:pt x="0" y="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355920" y="2290680"/>
                <a:ext cx="189360" cy="33840"/>
              </a:xfrm>
              <a:custGeom>
                <a:avLst/>
                <a:gdLst/>
                <a:ahLst/>
                <a:rect l="0" t="0" r="r" b="b"/>
                <a:pathLst>
                  <a:path w="526" h="94">
                    <a:moveTo>
                      <a:pt x="0" y="0"/>
                    </a:moveTo>
                    <a:lnTo>
                      <a:pt x="526" y="0"/>
                    </a:lnTo>
                    <a:lnTo>
                      <a:pt x="526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2" name=""/>
              <p:cNvGrpSpPr/>
              <p:nvPr/>
            </p:nvGrpSpPr>
            <p:grpSpPr>
              <a:xfrm>
                <a:off x="3357720" y="2243160"/>
                <a:ext cx="186120" cy="60480"/>
                <a:chOff x="3357720" y="2243160"/>
                <a:chExt cx="186120" cy="6048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3357720" y="2243160"/>
                  <a:ext cx="186120" cy="46440"/>
                </a:xfrm>
                <a:custGeom>
                  <a:avLst/>
                  <a:gdLst/>
                  <a:ahLst/>
                  <a:rect l="0" t="0" r="r" b="b"/>
                  <a:pathLst>
                    <a:path w="517" h="129">
                      <a:moveTo>
                        <a:pt x="0" y="0"/>
                      </a:moveTo>
                      <a:lnTo>
                        <a:pt x="517" y="0"/>
                      </a:lnTo>
                      <a:lnTo>
                        <a:pt x="517" y="129"/>
                      </a:lnTo>
                      <a:lnTo>
                        <a:pt x="0" y="1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3497400" y="2244600"/>
                  <a:ext cx="42840" cy="41400"/>
                </a:xfrm>
                <a:prstGeom prst="round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3502080" y="2249640"/>
                  <a:ext cx="33480" cy="31680"/>
                </a:xfrm>
                <a:prstGeom prst="rect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3517920" y="2271600"/>
                  <a:ext cx="25560" cy="25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3503520" y="2251080"/>
                  <a:ext cx="31680" cy="255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3360600" y="2246400"/>
                  <a:ext cx="36360" cy="39600"/>
                </a:xfrm>
                <a:prstGeom prst="rect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3397320" y="2246400"/>
                  <a:ext cx="36360" cy="39600"/>
                </a:xfrm>
                <a:prstGeom prst="rect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3435480" y="2244600"/>
                  <a:ext cx="28440" cy="41400"/>
                </a:xfrm>
                <a:prstGeom prst="rect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463920" y="2244600"/>
                  <a:ext cx="30240" cy="41400"/>
                </a:xfrm>
                <a:prstGeom prst="rect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3370320" y="2265480"/>
                  <a:ext cx="25560" cy="25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3362400" y="2246400"/>
                  <a:ext cx="34920" cy="2556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3397320" y="2246400"/>
                  <a:ext cx="36360" cy="2556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3433680" y="2244600"/>
                  <a:ext cx="30240" cy="2556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3463920" y="2244600"/>
                  <a:ext cx="30240" cy="2556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422520" y="2257560"/>
                  <a:ext cx="25560" cy="255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3422520" y="2266920"/>
                  <a:ext cx="25560" cy="255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3422520" y="2278080"/>
                  <a:ext cx="25560" cy="255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3438360" y="226548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3467160" y="226548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3354480" y="2565360"/>
                <a:ext cx="211680" cy="25920"/>
                <a:chOff x="3354480" y="2565360"/>
                <a:chExt cx="211680" cy="259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3354480" y="25653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2600">
                  <a:solidFill>
                    <a:srgbClr val="202020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3360600" y="25653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2600">
                  <a:solidFill>
                    <a:srgbClr val="202020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3367080" y="25653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2600">
                  <a:solidFill>
                    <a:srgbClr val="202020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3373560" y="25653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2600">
                  <a:solidFill>
                    <a:srgbClr val="202020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7" name=""/>
                <p:cNvGrpSpPr/>
                <p:nvPr/>
              </p:nvGrpSpPr>
              <p:grpSpPr>
                <a:xfrm>
                  <a:off x="3381480" y="2565360"/>
                  <a:ext cx="46440" cy="25920"/>
                  <a:chOff x="3381480" y="2565360"/>
                  <a:chExt cx="46440" cy="25920"/>
                </a:xfrm>
              </p:grpSpPr>
              <p:sp>
                <p:nvSpPr>
                  <p:cNvPr id="838" name=""/>
                  <p:cNvSpPr/>
                  <p:nvPr/>
                </p:nvSpPr>
                <p:spPr>
                  <a:xfrm>
                    <a:off x="3381480" y="256536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67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3386160" y="256536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67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3394080" y="256536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67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3402000" y="256536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67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2" name=""/>
                <p:cNvGrpSpPr/>
                <p:nvPr/>
              </p:nvGrpSpPr>
              <p:grpSpPr>
                <a:xfrm>
                  <a:off x="3406680" y="2565360"/>
                  <a:ext cx="73800" cy="25920"/>
                  <a:chOff x="3406680" y="2565360"/>
                  <a:chExt cx="73800" cy="25920"/>
                </a:xfrm>
              </p:grpSpPr>
              <p:grpSp>
                <p:nvGrpSpPr>
                  <p:cNvPr id="843" name=""/>
                  <p:cNvGrpSpPr/>
                  <p:nvPr/>
                </p:nvGrpSpPr>
                <p:grpSpPr>
                  <a:xfrm>
                    <a:off x="3406680" y="2565360"/>
                    <a:ext cx="45000" cy="25920"/>
                    <a:chOff x="3406680" y="2565360"/>
                    <a:chExt cx="45000" cy="25920"/>
                  </a:xfrm>
                </p:grpSpPr>
                <p:sp>
                  <p:nvSpPr>
                    <p:cNvPr id="844" name=""/>
                    <p:cNvSpPr/>
                    <p:nvPr/>
                  </p:nvSpPr>
                  <p:spPr>
                    <a:xfrm>
                      <a:off x="3406680" y="25653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5" name=""/>
                    <p:cNvSpPr/>
                    <p:nvPr/>
                  </p:nvSpPr>
                  <p:spPr>
                    <a:xfrm>
                      <a:off x="3413160" y="25653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6" name=""/>
                    <p:cNvSpPr/>
                    <p:nvPr/>
                  </p:nvSpPr>
                  <p:spPr>
                    <a:xfrm>
                      <a:off x="3419640" y="25653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7" name=""/>
                    <p:cNvSpPr/>
                    <p:nvPr/>
                  </p:nvSpPr>
                  <p:spPr>
                    <a:xfrm>
                      <a:off x="3425760" y="25653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8" name=""/>
                  <p:cNvGrpSpPr/>
                  <p:nvPr/>
                </p:nvGrpSpPr>
                <p:grpSpPr>
                  <a:xfrm>
                    <a:off x="3435480" y="2565360"/>
                    <a:ext cx="45000" cy="25920"/>
                    <a:chOff x="3435480" y="2565360"/>
                    <a:chExt cx="45000" cy="25920"/>
                  </a:xfrm>
                </p:grpSpPr>
                <p:sp>
                  <p:nvSpPr>
                    <p:cNvPr id="849" name=""/>
                    <p:cNvSpPr/>
                    <p:nvPr/>
                  </p:nvSpPr>
                  <p:spPr>
                    <a:xfrm>
                      <a:off x="3435480" y="25653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"/>
                    <p:cNvSpPr/>
                    <p:nvPr/>
                  </p:nvSpPr>
                  <p:spPr>
                    <a:xfrm>
                      <a:off x="3440160" y="25653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1" name=""/>
                    <p:cNvSpPr/>
                    <p:nvPr/>
                  </p:nvSpPr>
                  <p:spPr>
                    <a:xfrm>
                      <a:off x="3446640" y="25653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2" name=""/>
                    <p:cNvSpPr/>
                    <p:nvPr/>
                  </p:nvSpPr>
                  <p:spPr>
                    <a:xfrm>
                      <a:off x="3454560" y="25653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53" name=""/>
                <p:cNvGrpSpPr/>
                <p:nvPr/>
              </p:nvGrpSpPr>
              <p:grpSpPr>
                <a:xfrm>
                  <a:off x="3459240" y="2565360"/>
                  <a:ext cx="72000" cy="25920"/>
                  <a:chOff x="3459240" y="2565360"/>
                  <a:chExt cx="72000" cy="25920"/>
                </a:xfrm>
              </p:grpSpPr>
              <p:grpSp>
                <p:nvGrpSpPr>
                  <p:cNvPr id="854" name=""/>
                  <p:cNvGrpSpPr/>
                  <p:nvPr/>
                </p:nvGrpSpPr>
                <p:grpSpPr>
                  <a:xfrm>
                    <a:off x="3459240" y="2565360"/>
                    <a:ext cx="46440" cy="25920"/>
                    <a:chOff x="3459240" y="2565360"/>
                    <a:chExt cx="46440" cy="25920"/>
                  </a:xfrm>
                </p:grpSpPr>
                <p:sp>
                  <p:nvSpPr>
                    <p:cNvPr id="855" name=""/>
                    <p:cNvSpPr/>
                    <p:nvPr/>
                  </p:nvSpPr>
                  <p:spPr>
                    <a:xfrm>
                      <a:off x="3459240" y="25653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"/>
                    <p:cNvSpPr/>
                    <p:nvPr/>
                  </p:nvSpPr>
                  <p:spPr>
                    <a:xfrm>
                      <a:off x="3465360" y="25653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7" name=""/>
                    <p:cNvSpPr/>
                    <p:nvPr/>
                  </p:nvSpPr>
                  <p:spPr>
                    <a:xfrm>
                      <a:off x="3473280" y="25653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8" name=""/>
                    <p:cNvSpPr/>
                    <p:nvPr/>
                  </p:nvSpPr>
                  <p:spPr>
                    <a:xfrm>
                      <a:off x="3479760" y="25653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9" name=""/>
                  <p:cNvGrpSpPr/>
                  <p:nvPr/>
                </p:nvGrpSpPr>
                <p:grpSpPr>
                  <a:xfrm>
                    <a:off x="3487680" y="2565360"/>
                    <a:ext cx="43560" cy="25920"/>
                    <a:chOff x="3487680" y="2565360"/>
                    <a:chExt cx="43560" cy="25920"/>
                  </a:xfrm>
                </p:grpSpPr>
                <p:sp>
                  <p:nvSpPr>
                    <p:cNvPr id="860" name=""/>
                    <p:cNvSpPr/>
                    <p:nvPr/>
                  </p:nvSpPr>
                  <p:spPr>
                    <a:xfrm>
                      <a:off x="3487680" y="25653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>
                      <a:off x="3492360" y="25653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>
                      <a:off x="3498840" y="25653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"/>
                    <p:cNvSpPr/>
                    <p:nvPr/>
                  </p:nvSpPr>
                  <p:spPr>
                    <a:xfrm>
                      <a:off x="3505320" y="25653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64" name=""/>
                <p:cNvGrpSpPr/>
                <p:nvPr/>
              </p:nvGrpSpPr>
              <p:grpSpPr>
                <a:xfrm>
                  <a:off x="3511440" y="2565360"/>
                  <a:ext cx="46800" cy="25920"/>
                  <a:chOff x="3511440" y="2565360"/>
                  <a:chExt cx="46800" cy="25920"/>
                </a:xfrm>
              </p:grpSpPr>
              <p:sp>
                <p:nvSpPr>
                  <p:cNvPr id="865" name=""/>
                  <p:cNvSpPr/>
                  <p:nvPr/>
                </p:nvSpPr>
                <p:spPr>
                  <a:xfrm>
                    <a:off x="3511440" y="256536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3519360" y="256536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3525840" y="256536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3532320" y="256536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9" name=""/>
                <p:cNvSpPr/>
                <p:nvPr/>
              </p:nvSpPr>
              <p:spPr>
                <a:xfrm>
                  <a:off x="3540240" y="25653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2600">
                  <a:solidFill>
                    <a:srgbClr val="202020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0" name=""/>
              <p:cNvGrpSpPr/>
              <p:nvPr/>
            </p:nvGrpSpPr>
            <p:grpSpPr>
              <a:xfrm>
                <a:off x="3352680" y="2589120"/>
                <a:ext cx="195120" cy="239760"/>
                <a:chOff x="3352680" y="2589120"/>
                <a:chExt cx="195120" cy="23976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3352680" y="2589120"/>
                  <a:ext cx="195120" cy="2397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3375000" y="2614680"/>
                  <a:ext cx="41400" cy="41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3" name=""/>
              <p:cNvGrpSpPr/>
              <p:nvPr/>
            </p:nvGrpSpPr>
            <p:grpSpPr>
              <a:xfrm>
                <a:off x="3354480" y="2444760"/>
                <a:ext cx="193680" cy="119160"/>
                <a:chOff x="3354480" y="2444760"/>
                <a:chExt cx="193680" cy="11916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3354480" y="2444760"/>
                  <a:ext cx="192240" cy="1191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3357720" y="2503440"/>
                  <a:ext cx="190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6" name=""/>
              <p:cNvGrpSpPr/>
              <p:nvPr/>
            </p:nvGrpSpPr>
            <p:grpSpPr>
              <a:xfrm>
                <a:off x="3351240" y="2828880"/>
                <a:ext cx="213120" cy="143280"/>
                <a:chOff x="3351240" y="2828880"/>
                <a:chExt cx="213120" cy="143280"/>
              </a:xfrm>
            </p:grpSpPr>
            <p:grpSp>
              <p:nvGrpSpPr>
                <p:cNvPr id="877" name=""/>
                <p:cNvGrpSpPr/>
                <p:nvPr/>
              </p:nvGrpSpPr>
              <p:grpSpPr>
                <a:xfrm>
                  <a:off x="3355920" y="2946240"/>
                  <a:ext cx="208440" cy="25920"/>
                  <a:chOff x="3355920" y="2946240"/>
                  <a:chExt cx="208440" cy="25920"/>
                </a:xfrm>
              </p:grpSpPr>
              <p:sp>
                <p:nvSpPr>
                  <p:cNvPr id="878" name=""/>
                  <p:cNvSpPr/>
                  <p:nvPr/>
                </p:nvSpPr>
                <p:spPr>
                  <a:xfrm>
                    <a:off x="3355920" y="294624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3362400" y="294624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3368520" y="294624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3375000" y="294624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82" name=""/>
                  <p:cNvGrpSpPr/>
                  <p:nvPr/>
                </p:nvGrpSpPr>
                <p:grpSpPr>
                  <a:xfrm>
                    <a:off x="3381480" y="2946240"/>
                    <a:ext cx="46440" cy="25920"/>
                    <a:chOff x="3381480" y="2946240"/>
                    <a:chExt cx="46440" cy="25920"/>
                  </a:xfrm>
                </p:grpSpPr>
                <p:sp>
                  <p:nvSpPr>
                    <p:cNvPr id="883" name=""/>
                    <p:cNvSpPr/>
                    <p:nvPr/>
                  </p:nvSpPr>
                  <p:spPr>
                    <a:xfrm>
                      <a:off x="3381480" y="294624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4" name=""/>
                    <p:cNvSpPr/>
                    <p:nvPr/>
                  </p:nvSpPr>
                  <p:spPr>
                    <a:xfrm>
                      <a:off x="3389400" y="294624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5" name=""/>
                    <p:cNvSpPr/>
                    <p:nvPr/>
                  </p:nvSpPr>
                  <p:spPr>
                    <a:xfrm>
                      <a:off x="3395520" y="294624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6" name=""/>
                    <p:cNvSpPr/>
                    <p:nvPr/>
                  </p:nvSpPr>
                  <p:spPr>
                    <a:xfrm>
                      <a:off x="3402000" y="294624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67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7" name=""/>
                  <p:cNvGrpSpPr/>
                  <p:nvPr/>
                </p:nvGrpSpPr>
                <p:grpSpPr>
                  <a:xfrm>
                    <a:off x="3408480" y="2946240"/>
                    <a:ext cx="70200" cy="25920"/>
                    <a:chOff x="3408480" y="2946240"/>
                    <a:chExt cx="70200" cy="25920"/>
                  </a:xfrm>
                </p:grpSpPr>
                <p:grpSp>
                  <p:nvGrpSpPr>
                    <p:cNvPr id="888" name=""/>
                    <p:cNvGrpSpPr/>
                    <p:nvPr/>
                  </p:nvGrpSpPr>
                  <p:grpSpPr>
                    <a:xfrm>
                      <a:off x="3408480" y="2946240"/>
                      <a:ext cx="43200" cy="25920"/>
                      <a:chOff x="3408480" y="2946240"/>
                      <a:chExt cx="43200" cy="25920"/>
                    </a:xfrm>
                  </p:grpSpPr>
                  <p:sp>
                    <p:nvSpPr>
                      <p:cNvPr id="889" name=""/>
                      <p:cNvSpPr/>
                      <p:nvPr/>
                    </p:nvSpPr>
                    <p:spPr>
                      <a:xfrm>
                        <a:off x="3408480" y="29462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0" name=""/>
                      <p:cNvSpPr/>
                      <p:nvPr/>
                    </p:nvSpPr>
                    <p:spPr>
                      <a:xfrm>
                        <a:off x="3413160" y="29462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1" name=""/>
                      <p:cNvSpPr/>
                      <p:nvPr/>
                    </p:nvSpPr>
                    <p:spPr>
                      <a:xfrm>
                        <a:off x="3419640" y="29462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2" name=""/>
                      <p:cNvSpPr/>
                      <p:nvPr/>
                    </p:nvSpPr>
                    <p:spPr>
                      <a:xfrm>
                        <a:off x="3425760" y="29462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93" name=""/>
                    <p:cNvGrpSpPr/>
                    <p:nvPr/>
                  </p:nvGrpSpPr>
                  <p:grpSpPr>
                    <a:xfrm>
                      <a:off x="3435480" y="2946240"/>
                      <a:ext cx="43200" cy="25920"/>
                      <a:chOff x="3435480" y="2946240"/>
                      <a:chExt cx="43200" cy="25920"/>
                    </a:xfrm>
                  </p:grpSpPr>
                  <p:sp>
                    <p:nvSpPr>
                      <p:cNvPr id="894" name=""/>
                      <p:cNvSpPr/>
                      <p:nvPr/>
                    </p:nvSpPr>
                    <p:spPr>
                      <a:xfrm>
                        <a:off x="3435480" y="29462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67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5" name=""/>
                      <p:cNvSpPr/>
                      <p:nvPr/>
                    </p:nvSpPr>
                    <p:spPr>
                      <a:xfrm>
                        <a:off x="3440160" y="29462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67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6" name=""/>
                      <p:cNvSpPr/>
                      <p:nvPr/>
                    </p:nvSpPr>
                    <p:spPr>
                      <a:xfrm>
                        <a:off x="3446640" y="29462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67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7" name=""/>
                      <p:cNvSpPr/>
                      <p:nvPr/>
                    </p:nvSpPr>
                    <p:spPr>
                      <a:xfrm>
                        <a:off x="3452760" y="29462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67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898" name=""/>
                  <p:cNvGrpSpPr/>
                  <p:nvPr/>
                </p:nvGrpSpPr>
                <p:grpSpPr>
                  <a:xfrm>
                    <a:off x="3459240" y="2946240"/>
                    <a:ext cx="72000" cy="25920"/>
                    <a:chOff x="3459240" y="2946240"/>
                    <a:chExt cx="72000" cy="25920"/>
                  </a:xfrm>
                </p:grpSpPr>
                <p:grpSp>
                  <p:nvGrpSpPr>
                    <p:cNvPr id="899" name=""/>
                    <p:cNvGrpSpPr/>
                    <p:nvPr/>
                  </p:nvGrpSpPr>
                  <p:grpSpPr>
                    <a:xfrm>
                      <a:off x="3459240" y="2946240"/>
                      <a:ext cx="46440" cy="25920"/>
                      <a:chOff x="3459240" y="2946240"/>
                      <a:chExt cx="46440" cy="25920"/>
                    </a:xfrm>
                  </p:grpSpPr>
                  <p:sp>
                    <p:nvSpPr>
                      <p:cNvPr id="900" name=""/>
                      <p:cNvSpPr/>
                      <p:nvPr/>
                    </p:nvSpPr>
                    <p:spPr>
                      <a:xfrm>
                        <a:off x="3459240" y="29462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1" name=""/>
                      <p:cNvSpPr/>
                      <p:nvPr/>
                    </p:nvSpPr>
                    <p:spPr>
                      <a:xfrm>
                        <a:off x="3465360" y="29462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2" name=""/>
                      <p:cNvSpPr/>
                      <p:nvPr/>
                    </p:nvSpPr>
                    <p:spPr>
                      <a:xfrm>
                        <a:off x="3473280" y="29462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3" name=""/>
                      <p:cNvSpPr/>
                      <p:nvPr/>
                    </p:nvSpPr>
                    <p:spPr>
                      <a:xfrm>
                        <a:off x="3479760" y="29462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04" name=""/>
                    <p:cNvGrpSpPr/>
                    <p:nvPr/>
                  </p:nvGrpSpPr>
                  <p:grpSpPr>
                    <a:xfrm>
                      <a:off x="3486240" y="2946240"/>
                      <a:ext cx="45000" cy="25920"/>
                      <a:chOff x="3486240" y="2946240"/>
                      <a:chExt cx="45000" cy="25920"/>
                    </a:xfrm>
                  </p:grpSpPr>
                  <p:sp>
                    <p:nvSpPr>
                      <p:cNvPr id="905" name=""/>
                      <p:cNvSpPr/>
                      <p:nvPr/>
                    </p:nvSpPr>
                    <p:spPr>
                      <a:xfrm>
                        <a:off x="3486240" y="29462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67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6" name=""/>
                      <p:cNvSpPr/>
                      <p:nvPr/>
                    </p:nvSpPr>
                    <p:spPr>
                      <a:xfrm>
                        <a:off x="3492360" y="29462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67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7" name=""/>
                      <p:cNvSpPr/>
                      <p:nvPr/>
                    </p:nvSpPr>
                    <p:spPr>
                      <a:xfrm>
                        <a:off x="3498840" y="29462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67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8" name=""/>
                      <p:cNvSpPr/>
                      <p:nvPr/>
                    </p:nvSpPr>
                    <p:spPr>
                      <a:xfrm>
                        <a:off x="3505320" y="29462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67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09" name=""/>
                  <p:cNvGrpSpPr/>
                  <p:nvPr/>
                </p:nvGrpSpPr>
                <p:grpSpPr>
                  <a:xfrm>
                    <a:off x="3511440" y="2946240"/>
                    <a:ext cx="45000" cy="25920"/>
                    <a:chOff x="3511440" y="2946240"/>
                    <a:chExt cx="45000" cy="25920"/>
                  </a:xfrm>
                </p:grpSpPr>
                <p:sp>
                  <p:nvSpPr>
                    <p:cNvPr id="910" name=""/>
                    <p:cNvSpPr/>
                    <p:nvPr/>
                  </p:nvSpPr>
                  <p:spPr>
                    <a:xfrm>
                      <a:off x="3511440" y="294624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1" name=""/>
                    <p:cNvSpPr/>
                    <p:nvPr/>
                  </p:nvSpPr>
                  <p:spPr>
                    <a:xfrm>
                      <a:off x="3517920" y="294624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2" name=""/>
                    <p:cNvSpPr/>
                    <p:nvPr/>
                  </p:nvSpPr>
                  <p:spPr>
                    <a:xfrm>
                      <a:off x="3524400" y="294624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3" name=""/>
                    <p:cNvSpPr/>
                    <p:nvPr/>
                  </p:nvSpPr>
                  <p:spPr>
                    <a:xfrm>
                      <a:off x="3530520" y="294624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4" name=""/>
                  <p:cNvSpPr/>
                  <p:nvPr/>
                </p:nvSpPr>
                <p:spPr>
                  <a:xfrm>
                    <a:off x="3538440" y="294624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5" name=""/>
                <p:cNvGrpSpPr/>
                <p:nvPr/>
              </p:nvGrpSpPr>
              <p:grpSpPr>
                <a:xfrm>
                  <a:off x="3351240" y="2828880"/>
                  <a:ext cx="200520" cy="138600"/>
                  <a:chOff x="3351240" y="2828880"/>
                  <a:chExt cx="200520" cy="138600"/>
                </a:xfrm>
              </p:grpSpPr>
              <p:sp>
                <p:nvSpPr>
                  <p:cNvPr id="916" name=""/>
                  <p:cNvSpPr/>
                  <p:nvPr/>
                </p:nvSpPr>
                <p:spPr>
                  <a:xfrm>
                    <a:off x="3351240" y="2840040"/>
                    <a:ext cx="2005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7" h="72">
                        <a:moveTo>
                          <a:pt x="0" y="45"/>
                        </a:moveTo>
                        <a:lnTo>
                          <a:pt x="8" y="72"/>
                        </a:lnTo>
                        <a:lnTo>
                          <a:pt x="544" y="72"/>
                        </a:lnTo>
                        <a:lnTo>
                          <a:pt x="557" y="45"/>
                        </a:lnTo>
                        <a:lnTo>
                          <a:pt x="544" y="0"/>
                        </a:lnTo>
                        <a:lnTo>
                          <a:pt x="4" y="0"/>
                        </a:lnTo>
                        <a:lnTo>
                          <a:pt x="0" y="45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3351240" y="2868480"/>
                    <a:ext cx="2005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7" h="72">
                        <a:moveTo>
                          <a:pt x="0" y="31"/>
                        </a:moveTo>
                        <a:lnTo>
                          <a:pt x="8" y="72"/>
                        </a:lnTo>
                        <a:lnTo>
                          <a:pt x="548" y="72"/>
                        </a:lnTo>
                        <a:lnTo>
                          <a:pt x="557" y="31"/>
                        </a:lnTo>
                        <a:lnTo>
                          <a:pt x="548" y="0"/>
                        </a:lnTo>
                        <a:lnTo>
                          <a:pt x="8" y="0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3351240" y="2894040"/>
                    <a:ext cx="2005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7" h="72">
                        <a:moveTo>
                          <a:pt x="0" y="45"/>
                        </a:moveTo>
                        <a:lnTo>
                          <a:pt x="8" y="72"/>
                        </a:lnTo>
                        <a:lnTo>
                          <a:pt x="544" y="72"/>
                        </a:lnTo>
                        <a:lnTo>
                          <a:pt x="557" y="45"/>
                        </a:lnTo>
                        <a:lnTo>
                          <a:pt x="544" y="0"/>
                        </a:lnTo>
                        <a:lnTo>
                          <a:pt x="4" y="0"/>
                        </a:lnTo>
                        <a:lnTo>
                          <a:pt x="0" y="45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3351240" y="2922480"/>
                    <a:ext cx="2005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7" h="72">
                        <a:moveTo>
                          <a:pt x="0" y="36"/>
                        </a:moveTo>
                        <a:lnTo>
                          <a:pt x="8" y="72"/>
                        </a:lnTo>
                        <a:lnTo>
                          <a:pt x="544" y="72"/>
                        </a:lnTo>
                        <a:lnTo>
                          <a:pt x="557" y="36"/>
                        </a:lnTo>
                        <a:lnTo>
                          <a:pt x="544" y="0"/>
                        </a:lnTo>
                        <a:lnTo>
                          <a:pt x="4" y="0"/>
                        </a:lnTo>
                        <a:lnTo>
                          <a:pt x="0" y="36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3351240" y="2847960"/>
                    <a:ext cx="198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72">
                        <a:moveTo>
                          <a:pt x="8" y="72"/>
                        </a:moveTo>
                        <a:lnTo>
                          <a:pt x="0" y="0"/>
                        </a:lnTo>
                        <a:lnTo>
                          <a:pt x="552" y="0"/>
                        </a:lnTo>
                        <a:lnTo>
                          <a:pt x="543" y="72"/>
                        </a:lnTo>
                        <a:lnTo>
                          <a:pt x="8" y="7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3351240" y="2873520"/>
                    <a:ext cx="2005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7" h="72">
                        <a:moveTo>
                          <a:pt x="8" y="72"/>
                        </a:moveTo>
                        <a:lnTo>
                          <a:pt x="0" y="0"/>
                        </a:lnTo>
                        <a:lnTo>
                          <a:pt x="557" y="0"/>
                        </a:lnTo>
                        <a:lnTo>
                          <a:pt x="548" y="72"/>
                        </a:lnTo>
                        <a:lnTo>
                          <a:pt x="8" y="7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3351240" y="2901960"/>
                    <a:ext cx="198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72">
                        <a:moveTo>
                          <a:pt x="8" y="72"/>
                        </a:moveTo>
                        <a:lnTo>
                          <a:pt x="0" y="0"/>
                        </a:lnTo>
                        <a:lnTo>
                          <a:pt x="552" y="0"/>
                        </a:lnTo>
                        <a:lnTo>
                          <a:pt x="543" y="72"/>
                        </a:lnTo>
                        <a:lnTo>
                          <a:pt x="8" y="7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3351240" y="2927520"/>
                    <a:ext cx="198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72">
                        <a:moveTo>
                          <a:pt x="8" y="72"/>
                        </a:moveTo>
                        <a:lnTo>
                          <a:pt x="0" y="0"/>
                        </a:lnTo>
                        <a:lnTo>
                          <a:pt x="552" y="0"/>
                        </a:lnTo>
                        <a:lnTo>
                          <a:pt x="543" y="72"/>
                        </a:lnTo>
                        <a:lnTo>
                          <a:pt x="8" y="7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3351240" y="2828880"/>
                    <a:ext cx="2005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7" h="72">
                        <a:moveTo>
                          <a:pt x="4" y="0"/>
                        </a:moveTo>
                        <a:lnTo>
                          <a:pt x="0" y="72"/>
                        </a:lnTo>
                        <a:lnTo>
                          <a:pt x="557" y="72"/>
                        </a:lnTo>
                        <a:lnTo>
                          <a:pt x="548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3351240" y="2941560"/>
                    <a:ext cx="1972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48" h="72">
                        <a:moveTo>
                          <a:pt x="4" y="72"/>
                        </a:moveTo>
                        <a:lnTo>
                          <a:pt x="0" y="0"/>
                        </a:lnTo>
                        <a:lnTo>
                          <a:pt x="548" y="0"/>
                        </a:lnTo>
                        <a:lnTo>
                          <a:pt x="544" y="72"/>
                        </a:lnTo>
                        <a:lnTo>
                          <a:pt x="4" y="7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3351240" y="2854440"/>
                    <a:ext cx="198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72">
                        <a:moveTo>
                          <a:pt x="8" y="0"/>
                        </a:moveTo>
                        <a:lnTo>
                          <a:pt x="0" y="72"/>
                        </a:lnTo>
                        <a:lnTo>
                          <a:pt x="552" y="72"/>
                        </a:lnTo>
                        <a:lnTo>
                          <a:pt x="543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3352680" y="2881440"/>
                    <a:ext cx="198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72">
                        <a:moveTo>
                          <a:pt x="4" y="0"/>
                        </a:moveTo>
                        <a:lnTo>
                          <a:pt x="0" y="72"/>
                        </a:lnTo>
                        <a:lnTo>
                          <a:pt x="552" y="72"/>
                        </a:lnTo>
                        <a:lnTo>
                          <a:pt x="543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3351240" y="2908440"/>
                    <a:ext cx="198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72">
                        <a:moveTo>
                          <a:pt x="8" y="0"/>
                        </a:moveTo>
                        <a:lnTo>
                          <a:pt x="0" y="72"/>
                        </a:lnTo>
                        <a:lnTo>
                          <a:pt x="552" y="53"/>
                        </a:lnTo>
                        <a:lnTo>
                          <a:pt x="543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3351240" y="2933640"/>
                    <a:ext cx="198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72">
                        <a:moveTo>
                          <a:pt x="4" y="0"/>
                        </a:moveTo>
                        <a:lnTo>
                          <a:pt x="0" y="72"/>
                        </a:lnTo>
                        <a:lnTo>
                          <a:pt x="552" y="72"/>
                        </a:lnTo>
                        <a:lnTo>
                          <a:pt x="543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3352680" y="2887560"/>
                    <a:ext cx="198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72">
                        <a:moveTo>
                          <a:pt x="4" y="72"/>
                        </a:moveTo>
                        <a:lnTo>
                          <a:pt x="0" y="0"/>
                        </a:lnTo>
                        <a:lnTo>
                          <a:pt x="552" y="0"/>
                        </a:lnTo>
                        <a:lnTo>
                          <a:pt x="543" y="72"/>
                        </a:lnTo>
                        <a:lnTo>
                          <a:pt x="4" y="72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3351240" y="2914560"/>
                    <a:ext cx="198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72">
                        <a:moveTo>
                          <a:pt x="4" y="72"/>
                        </a:moveTo>
                        <a:lnTo>
                          <a:pt x="0" y="0"/>
                        </a:lnTo>
                        <a:lnTo>
                          <a:pt x="552" y="0"/>
                        </a:lnTo>
                        <a:lnTo>
                          <a:pt x="543" y="72"/>
                        </a:lnTo>
                        <a:lnTo>
                          <a:pt x="4" y="72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3352680" y="2859120"/>
                    <a:ext cx="1972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48" h="72">
                        <a:moveTo>
                          <a:pt x="4" y="72"/>
                        </a:moveTo>
                        <a:lnTo>
                          <a:pt x="0" y="0"/>
                        </a:lnTo>
                        <a:lnTo>
                          <a:pt x="548" y="0"/>
                        </a:lnTo>
                        <a:lnTo>
                          <a:pt x="544" y="72"/>
                        </a:lnTo>
                        <a:lnTo>
                          <a:pt x="4" y="72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3351240" y="2833560"/>
                    <a:ext cx="198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2" h="72">
                        <a:moveTo>
                          <a:pt x="8" y="72"/>
                        </a:moveTo>
                        <a:lnTo>
                          <a:pt x="0" y="0"/>
                        </a:lnTo>
                        <a:lnTo>
                          <a:pt x="552" y="0"/>
                        </a:lnTo>
                        <a:lnTo>
                          <a:pt x="543" y="72"/>
                        </a:lnTo>
                        <a:lnTo>
                          <a:pt x="8" y="72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34" name=""/>
              <p:cNvGrpSpPr/>
              <p:nvPr/>
            </p:nvGrpSpPr>
            <p:grpSpPr>
              <a:xfrm>
                <a:off x="3354480" y="2324160"/>
                <a:ext cx="192240" cy="123840"/>
                <a:chOff x="3354480" y="2324160"/>
                <a:chExt cx="192240" cy="123840"/>
              </a:xfrm>
            </p:grpSpPr>
            <p:grpSp>
              <p:nvGrpSpPr>
                <p:cNvPr id="935" name=""/>
                <p:cNvGrpSpPr/>
                <p:nvPr/>
              </p:nvGrpSpPr>
              <p:grpSpPr>
                <a:xfrm>
                  <a:off x="3354480" y="2324160"/>
                  <a:ext cx="192240" cy="120600"/>
                  <a:chOff x="3354480" y="2324160"/>
                  <a:chExt cx="192240" cy="12060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3354480" y="2324160"/>
                    <a:ext cx="192240" cy="120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3355920" y="2382840"/>
                    <a:ext cx="190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8" name=""/>
                <p:cNvGrpSpPr/>
                <p:nvPr/>
              </p:nvGrpSpPr>
              <p:grpSpPr>
                <a:xfrm>
                  <a:off x="3360600" y="2332080"/>
                  <a:ext cx="182520" cy="115920"/>
                  <a:chOff x="3360600" y="2332080"/>
                  <a:chExt cx="182520" cy="115920"/>
                </a:xfrm>
              </p:grpSpPr>
              <p:sp>
                <p:nvSpPr>
                  <p:cNvPr id="939" name=""/>
                  <p:cNvSpPr/>
                  <p:nvPr/>
                </p:nvSpPr>
                <p:spPr>
                  <a:xfrm>
                    <a:off x="3432240" y="2332080"/>
                    <a:ext cx="58680" cy="44280"/>
                  </a:xfrm>
                  <a:prstGeom prst="rect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3360600" y="2346480"/>
                    <a:ext cx="182520" cy="25560"/>
                  </a:xfrm>
                  <a:prstGeom prst="rect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3432240" y="2332080"/>
                    <a:ext cx="576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72">
                        <a:moveTo>
                          <a:pt x="0" y="62"/>
                        </a:moveTo>
                        <a:lnTo>
                          <a:pt x="17" y="21"/>
                        </a:lnTo>
                        <a:lnTo>
                          <a:pt x="143" y="21"/>
                        </a:lnTo>
                        <a:lnTo>
                          <a:pt x="160" y="72"/>
                        </a:lnTo>
                        <a:lnTo>
                          <a:pt x="160" y="0"/>
                        </a:lnTo>
                        <a:lnTo>
                          <a:pt x="0" y="0"/>
                        </a:lnTo>
                        <a:lnTo>
                          <a:pt x="0" y="62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3368520" y="2333520"/>
                    <a:ext cx="25560" cy="25560"/>
                  </a:xfrm>
                  <a:prstGeom prst="rect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3382920" y="2395440"/>
                    <a:ext cx="135000" cy="349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3389400" y="2395440"/>
                    <a:ext cx="1195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332" h="72">
                        <a:moveTo>
                          <a:pt x="98" y="0"/>
                        </a:moveTo>
                        <a:lnTo>
                          <a:pt x="221" y="0"/>
                        </a:lnTo>
                        <a:lnTo>
                          <a:pt x="225" y="31"/>
                        </a:lnTo>
                        <a:lnTo>
                          <a:pt x="332" y="31"/>
                        </a:lnTo>
                        <a:lnTo>
                          <a:pt x="332" y="72"/>
                        </a:lnTo>
                        <a:lnTo>
                          <a:pt x="0" y="72"/>
                        </a:lnTo>
                        <a:lnTo>
                          <a:pt x="0" y="31"/>
                        </a:lnTo>
                        <a:lnTo>
                          <a:pt x="93" y="31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3403440" y="2422440"/>
                    <a:ext cx="25560" cy="25560"/>
                  </a:xfrm>
                  <a:prstGeom prst="rect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3417840" y="2411280"/>
                    <a:ext cx="63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77" h="72">
                        <a:moveTo>
                          <a:pt x="39" y="0"/>
                        </a:moveTo>
                        <a:lnTo>
                          <a:pt x="137" y="0"/>
                        </a:lnTo>
                        <a:lnTo>
                          <a:pt x="177" y="72"/>
                        </a:lnTo>
                        <a:lnTo>
                          <a:pt x="0" y="72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3484440" y="2414520"/>
                    <a:ext cx="25560" cy="25560"/>
                  </a:xfrm>
                  <a:prstGeom prst="rect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48" name=""/>
                  <p:cNvGrpSpPr/>
                  <p:nvPr/>
                </p:nvGrpSpPr>
                <p:grpSpPr>
                  <a:xfrm>
                    <a:off x="3490920" y="2332080"/>
                    <a:ext cx="44640" cy="27360"/>
                    <a:chOff x="3490920" y="2332080"/>
                    <a:chExt cx="44640" cy="27360"/>
                  </a:xfrm>
                </p:grpSpPr>
                <p:sp>
                  <p:nvSpPr>
                    <p:cNvPr id="949" name=""/>
                    <p:cNvSpPr/>
                    <p:nvPr/>
                  </p:nvSpPr>
                  <p:spPr>
                    <a:xfrm>
                      <a:off x="3490920" y="2332080"/>
                      <a:ext cx="2556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560" bIns="-25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>
                      <a:off x="3500280" y="2333520"/>
                      <a:ext cx="3528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8" h="72">
                          <a:moveTo>
                            <a:pt x="4" y="24"/>
                          </a:moveTo>
                          <a:lnTo>
                            <a:pt x="98" y="0"/>
                          </a:lnTo>
                          <a:lnTo>
                            <a:pt x="98" y="24"/>
                          </a:lnTo>
                          <a:lnTo>
                            <a:pt x="0" y="72"/>
                          </a:lnTo>
                          <a:lnTo>
                            <a:pt x="4" y="24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1" name=""/>
                  <p:cNvGrpSpPr/>
                  <p:nvPr/>
                </p:nvGrpSpPr>
                <p:grpSpPr>
                  <a:xfrm>
                    <a:off x="3492360" y="2332080"/>
                    <a:ext cx="43200" cy="25920"/>
                    <a:chOff x="3492360" y="2332080"/>
                    <a:chExt cx="43200" cy="25920"/>
                  </a:xfrm>
                </p:grpSpPr>
                <p:sp>
                  <p:nvSpPr>
                    <p:cNvPr id="952" name=""/>
                    <p:cNvSpPr/>
                    <p:nvPr/>
                  </p:nvSpPr>
                  <p:spPr>
                    <a:xfrm>
                      <a:off x="3492360" y="2332080"/>
                      <a:ext cx="25560" cy="2556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3" name=""/>
                    <p:cNvSpPr/>
                    <p:nvPr/>
                  </p:nvSpPr>
                  <p:spPr>
                    <a:xfrm>
                      <a:off x="3500280" y="2332080"/>
                      <a:ext cx="3528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8" h="72">
                          <a:moveTo>
                            <a:pt x="4" y="24"/>
                          </a:moveTo>
                          <a:lnTo>
                            <a:pt x="98" y="0"/>
                          </a:lnTo>
                          <a:lnTo>
                            <a:pt x="98" y="24"/>
                          </a:lnTo>
                          <a:lnTo>
                            <a:pt x="0" y="72"/>
                          </a:lnTo>
                          <a:lnTo>
                            <a:pt x="4" y="24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54" name=""/>
              <p:cNvGrpSpPr/>
              <p:nvPr/>
            </p:nvGrpSpPr>
            <p:grpSpPr>
              <a:xfrm>
                <a:off x="3325680" y="2182680"/>
                <a:ext cx="252360" cy="29160"/>
                <a:chOff x="3325680" y="2182680"/>
                <a:chExt cx="252360" cy="29160"/>
              </a:xfrm>
            </p:grpSpPr>
            <p:grpSp>
              <p:nvGrpSpPr>
                <p:cNvPr id="955" name=""/>
                <p:cNvGrpSpPr/>
                <p:nvPr/>
              </p:nvGrpSpPr>
              <p:grpSpPr>
                <a:xfrm>
                  <a:off x="3354480" y="2185920"/>
                  <a:ext cx="209880" cy="25920"/>
                  <a:chOff x="3354480" y="2185920"/>
                  <a:chExt cx="209880" cy="25920"/>
                </a:xfrm>
              </p:grpSpPr>
              <p:sp>
                <p:nvSpPr>
                  <p:cNvPr id="956" name=""/>
                  <p:cNvSpPr/>
                  <p:nvPr/>
                </p:nvSpPr>
                <p:spPr>
                  <a:xfrm>
                    <a:off x="3354480" y="218592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3360600" y="218592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3367080" y="218592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3373560" y="218592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60" name=""/>
                  <p:cNvGrpSpPr/>
                  <p:nvPr/>
                </p:nvGrpSpPr>
                <p:grpSpPr>
                  <a:xfrm>
                    <a:off x="3379680" y="2185920"/>
                    <a:ext cx="46800" cy="25920"/>
                    <a:chOff x="3379680" y="2185920"/>
                    <a:chExt cx="46800" cy="25920"/>
                  </a:xfrm>
                </p:grpSpPr>
                <p:sp>
                  <p:nvSpPr>
                    <p:cNvPr id="961" name=""/>
                    <p:cNvSpPr/>
                    <p:nvPr/>
                  </p:nvSpPr>
                  <p:spPr>
                    <a:xfrm>
                      <a:off x="3379680" y="218592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2" name=""/>
                    <p:cNvSpPr/>
                    <p:nvPr/>
                  </p:nvSpPr>
                  <p:spPr>
                    <a:xfrm>
                      <a:off x="3386160" y="218592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3" name=""/>
                    <p:cNvSpPr/>
                    <p:nvPr/>
                  </p:nvSpPr>
                  <p:spPr>
                    <a:xfrm>
                      <a:off x="3394080" y="218592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4" name=""/>
                    <p:cNvSpPr/>
                    <p:nvPr/>
                  </p:nvSpPr>
                  <p:spPr>
                    <a:xfrm>
                      <a:off x="3400560" y="218592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5" name=""/>
                  <p:cNvGrpSpPr/>
                  <p:nvPr/>
                </p:nvGrpSpPr>
                <p:grpSpPr>
                  <a:xfrm>
                    <a:off x="3406680" y="2185920"/>
                    <a:ext cx="72000" cy="25920"/>
                    <a:chOff x="3406680" y="2185920"/>
                    <a:chExt cx="72000" cy="25920"/>
                  </a:xfrm>
                </p:grpSpPr>
                <p:grpSp>
                  <p:nvGrpSpPr>
                    <p:cNvPr id="966" name=""/>
                    <p:cNvGrpSpPr/>
                    <p:nvPr/>
                  </p:nvGrpSpPr>
                  <p:grpSpPr>
                    <a:xfrm>
                      <a:off x="3406680" y="2185920"/>
                      <a:ext cx="45000" cy="25920"/>
                      <a:chOff x="3406680" y="2185920"/>
                      <a:chExt cx="45000" cy="25920"/>
                    </a:xfrm>
                  </p:grpSpPr>
                  <p:sp>
                    <p:nvSpPr>
                      <p:cNvPr id="967" name=""/>
                      <p:cNvSpPr/>
                      <p:nvPr/>
                    </p:nvSpPr>
                    <p:spPr>
                      <a:xfrm>
                        <a:off x="3406680" y="21859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8" name=""/>
                      <p:cNvSpPr/>
                      <p:nvPr/>
                    </p:nvSpPr>
                    <p:spPr>
                      <a:xfrm>
                        <a:off x="3413160" y="21859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9" name=""/>
                      <p:cNvSpPr/>
                      <p:nvPr/>
                    </p:nvSpPr>
                    <p:spPr>
                      <a:xfrm>
                        <a:off x="3419640" y="21859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0" name=""/>
                      <p:cNvSpPr/>
                      <p:nvPr/>
                    </p:nvSpPr>
                    <p:spPr>
                      <a:xfrm>
                        <a:off x="3425760" y="21859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71" name=""/>
                    <p:cNvGrpSpPr/>
                    <p:nvPr/>
                  </p:nvGrpSpPr>
                  <p:grpSpPr>
                    <a:xfrm>
                      <a:off x="3433680" y="2185920"/>
                      <a:ext cx="45000" cy="25920"/>
                      <a:chOff x="3433680" y="2185920"/>
                      <a:chExt cx="45000" cy="25920"/>
                    </a:xfrm>
                  </p:grpSpPr>
                  <p:sp>
                    <p:nvSpPr>
                      <p:cNvPr id="972" name=""/>
                      <p:cNvSpPr/>
                      <p:nvPr/>
                    </p:nvSpPr>
                    <p:spPr>
                      <a:xfrm>
                        <a:off x="3433680" y="21859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3" name=""/>
                      <p:cNvSpPr/>
                      <p:nvPr/>
                    </p:nvSpPr>
                    <p:spPr>
                      <a:xfrm>
                        <a:off x="3440160" y="21859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4" name=""/>
                      <p:cNvSpPr/>
                      <p:nvPr/>
                    </p:nvSpPr>
                    <p:spPr>
                      <a:xfrm>
                        <a:off x="3446640" y="21859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5" name=""/>
                      <p:cNvSpPr/>
                      <p:nvPr/>
                    </p:nvSpPr>
                    <p:spPr>
                      <a:xfrm>
                        <a:off x="3452760" y="21859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76" name=""/>
                  <p:cNvGrpSpPr/>
                  <p:nvPr/>
                </p:nvGrpSpPr>
                <p:grpSpPr>
                  <a:xfrm>
                    <a:off x="3459240" y="2185920"/>
                    <a:ext cx="72000" cy="25920"/>
                    <a:chOff x="3459240" y="2185920"/>
                    <a:chExt cx="72000" cy="25920"/>
                  </a:xfrm>
                </p:grpSpPr>
                <p:grpSp>
                  <p:nvGrpSpPr>
                    <p:cNvPr id="977" name=""/>
                    <p:cNvGrpSpPr/>
                    <p:nvPr/>
                  </p:nvGrpSpPr>
                  <p:grpSpPr>
                    <a:xfrm>
                      <a:off x="3459240" y="2185920"/>
                      <a:ext cx="46440" cy="25920"/>
                      <a:chOff x="3459240" y="2185920"/>
                      <a:chExt cx="46440" cy="25920"/>
                    </a:xfrm>
                  </p:grpSpPr>
                  <p:sp>
                    <p:nvSpPr>
                      <p:cNvPr id="978" name=""/>
                      <p:cNvSpPr/>
                      <p:nvPr/>
                    </p:nvSpPr>
                    <p:spPr>
                      <a:xfrm>
                        <a:off x="3459240" y="21859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9" name=""/>
                      <p:cNvSpPr/>
                      <p:nvPr/>
                    </p:nvSpPr>
                    <p:spPr>
                      <a:xfrm>
                        <a:off x="3465360" y="21859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0" name=""/>
                      <p:cNvSpPr/>
                      <p:nvPr/>
                    </p:nvSpPr>
                    <p:spPr>
                      <a:xfrm>
                        <a:off x="3473280" y="21859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1" name=""/>
                      <p:cNvSpPr/>
                      <p:nvPr/>
                    </p:nvSpPr>
                    <p:spPr>
                      <a:xfrm>
                        <a:off x="3479760" y="21859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82" name=""/>
                    <p:cNvGrpSpPr/>
                    <p:nvPr/>
                  </p:nvGrpSpPr>
                  <p:grpSpPr>
                    <a:xfrm>
                      <a:off x="3486240" y="2185920"/>
                      <a:ext cx="45000" cy="25920"/>
                      <a:chOff x="3486240" y="2185920"/>
                      <a:chExt cx="45000" cy="25920"/>
                    </a:xfrm>
                  </p:grpSpPr>
                  <p:sp>
                    <p:nvSpPr>
                      <p:cNvPr id="983" name=""/>
                      <p:cNvSpPr/>
                      <p:nvPr/>
                    </p:nvSpPr>
                    <p:spPr>
                      <a:xfrm>
                        <a:off x="3486240" y="21859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4" name=""/>
                      <p:cNvSpPr/>
                      <p:nvPr/>
                    </p:nvSpPr>
                    <p:spPr>
                      <a:xfrm>
                        <a:off x="3492360" y="21859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5" name=""/>
                      <p:cNvSpPr/>
                      <p:nvPr/>
                    </p:nvSpPr>
                    <p:spPr>
                      <a:xfrm>
                        <a:off x="3498840" y="21859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6" name=""/>
                      <p:cNvSpPr/>
                      <p:nvPr/>
                    </p:nvSpPr>
                    <p:spPr>
                      <a:xfrm>
                        <a:off x="3505320" y="21859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0" y="0"/>
                            </a:moveTo>
                            <a:lnTo>
                              <a:pt x="0" y="72"/>
                            </a:lnTo>
                            <a:lnTo>
                              <a:pt x="72" y="72"/>
                            </a:ln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20202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87" name=""/>
                  <p:cNvGrpSpPr/>
                  <p:nvPr/>
                </p:nvGrpSpPr>
                <p:grpSpPr>
                  <a:xfrm>
                    <a:off x="3511440" y="2185920"/>
                    <a:ext cx="46800" cy="25920"/>
                    <a:chOff x="3511440" y="2185920"/>
                    <a:chExt cx="46800" cy="25920"/>
                  </a:xfrm>
                </p:grpSpPr>
                <p:sp>
                  <p:nvSpPr>
                    <p:cNvPr id="988" name=""/>
                    <p:cNvSpPr/>
                    <p:nvPr/>
                  </p:nvSpPr>
                  <p:spPr>
                    <a:xfrm>
                      <a:off x="3511440" y="218592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>
                      <a:off x="3519360" y="218592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0" name=""/>
                    <p:cNvSpPr/>
                    <p:nvPr/>
                  </p:nvSpPr>
                  <p:spPr>
                    <a:xfrm>
                      <a:off x="3525840" y="218592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1" name=""/>
                    <p:cNvSpPr/>
                    <p:nvPr/>
                  </p:nvSpPr>
                  <p:spPr>
                    <a:xfrm>
                      <a:off x="3532320" y="218592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0" y="0"/>
                          </a:moveTo>
                          <a:lnTo>
                            <a:pt x="0" y="72"/>
                          </a:lnTo>
                          <a:lnTo>
                            <a:pt x="72" y="72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20202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2" name=""/>
                  <p:cNvSpPr/>
                  <p:nvPr/>
                </p:nvSpPr>
                <p:spPr>
                  <a:xfrm>
                    <a:off x="3538440" y="218592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0" y="72"/>
                        </a:lnTo>
                        <a:lnTo>
                          <a:pt x="72" y="72"/>
                        </a:lnTo>
                        <a:lnTo>
                          <a:pt x="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20202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3" name=""/>
                <p:cNvSpPr/>
                <p:nvPr/>
              </p:nvSpPr>
              <p:spPr>
                <a:xfrm>
                  <a:off x="3325680" y="2182680"/>
                  <a:ext cx="252360" cy="255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4" name=""/>
            <p:cNvSpPr/>
            <p:nvPr/>
          </p:nvSpPr>
          <p:spPr>
            <a:xfrm>
              <a:off x="3059280" y="1898640"/>
              <a:ext cx="1843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"/>
          <p:cNvSpPr txBox="1"/>
          <p:nvPr/>
        </p:nvSpPr>
        <p:spPr>
          <a:xfrm>
            <a:off x="3260880" y="1584360"/>
            <a:ext cx="67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2666880" y="23623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1812960" y="2789280"/>
            <a:ext cx="1568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seau accè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TCP, LAN, câble,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143000" y="3352680"/>
            <a:ext cx="2286360" cy="1600560"/>
          </a:xfrm>
          <a:custGeom>
            <a:avLst/>
            <a:gdLst/>
            <a:ahLst/>
            <a:rect l="0" t="0" r="r" b="b"/>
            <a:pathLst>
              <a:path fill="none" w="6351" h="4446">
                <a:moveTo>
                  <a:pt x="6351" y="4446"/>
                </a:moveTo>
                <a:lnTo>
                  <a:pt x="6351" y="4446"/>
                </a:lnTo>
                <a:lnTo>
                  <a:pt x="6351" y="4446"/>
                </a:lnTo>
                <a:cubicBezTo>
                  <a:pt x="6351" y="3666"/>
                  <a:pt x="6058" y="2899"/>
                  <a:pt x="5500" y="2223"/>
                </a:cubicBezTo>
                <a:cubicBezTo>
                  <a:pt x="4943" y="1547"/>
                  <a:pt x="4141" y="986"/>
                  <a:pt x="3175" y="596"/>
                </a:cubicBezTo>
                <a:cubicBezTo>
                  <a:pt x="2210" y="205"/>
                  <a:pt x="1115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276720" y="48006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3429000" y="4799160"/>
            <a:ext cx="152280" cy="153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1201680" y="3703680"/>
            <a:ext cx="15811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 de l’app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inateur à télé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5927760" y="5608800"/>
            <a:ext cx="1119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seau d’accè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85800" y="106668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85800" y="6172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85800" y="1066680"/>
            <a:ext cx="0" cy="510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8153280" y="1066680"/>
            <a:ext cx="0" cy="510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105520" y="1676520"/>
            <a:ext cx="1752840" cy="2743560"/>
          </a:xfrm>
          <a:custGeom>
            <a:avLst/>
            <a:gdLst/>
            <a:ahLst/>
            <a:rect l="0" t="0" r="r" b="b"/>
            <a:pathLst>
              <a:path fill="none" w="4869" h="7621">
                <a:moveTo>
                  <a:pt x="4869" y="7621"/>
                </a:moveTo>
                <a:lnTo>
                  <a:pt x="4869" y="7621"/>
                </a:lnTo>
                <a:lnTo>
                  <a:pt x="4869" y="7621"/>
                </a:lnTo>
                <a:cubicBezTo>
                  <a:pt x="4869" y="6283"/>
                  <a:pt x="4644" y="4969"/>
                  <a:pt x="4217" y="3810"/>
                </a:cubicBezTo>
                <a:cubicBezTo>
                  <a:pt x="3789" y="2652"/>
                  <a:pt x="3175" y="1690"/>
                  <a:pt x="2434" y="1021"/>
                </a:cubicBezTo>
                <a:cubicBezTo>
                  <a:pt x="1694" y="352"/>
                  <a:pt x="855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105520" y="16765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5105520" y="160020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6318360" y="2179800"/>
            <a:ext cx="159696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 de l’app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éléphone à ordina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1" name=""/>
          <p:cNvGrpSpPr/>
          <p:nvPr/>
        </p:nvGrpSpPr>
        <p:grpSpPr>
          <a:xfrm>
            <a:off x="585720" y="1455840"/>
            <a:ext cx="7156800" cy="4471920"/>
            <a:chOff x="585720" y="1455840"/>
            <a:chExt cx="7156800" cy="4471920"/>
          </a:xfrm>
        </p:grpSpPr>
        <p:sp>
          <p:nvSpPr>
            <p:cNvPr id="1012" name=""/>
            <p:cNvSpPr/>
            <p:nvPr/>
          </p:nvSpPr>
          <p:spPr>
            <a:xfrm>
              <a:off x="585720" y="145584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3" name=""/>
            <p:cNvGrpSpPr/>
            <p:nvPr/>
          </p:nvGrpSpPr>
          <p:grpSpPr>
            <a:xfrm>
              <a:off x="7151760" y="5151600"/>
              <a:ext cx="590760" cy="384480"/>
              <a:chOff x="7151760" y="5151600"/>
              <a:chExt cx="590760" cy="384480"/>
            </a:xfrm>
          </p:grpSpPr>
          <p:grpSp>
            <p:nvGrpSpPr>
              <p:cNvPr id="1014" name=""/>
              <p:cNvGrpSpPr/>
              <p:nvPr/>
            </p:nvGrpSpPr>
            <p:grpSpPr>
              <a:xfrm>
                <a:off x="7202520" y="5151600"/>
                <a:ext cx="540000" cy="167040"/>
                <a:chOff x="7202520" y="5151600"/>
                <a:chExt cx="540000" cy="16704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7205760" y="5214960"/>
                  <a:ext cx="533880" cy="103680"/>
                </a:xfrm>
                <a:custGeom>
                  <a:avLst/>
                  <a:gdLst/>
                  <a:ahLst/>
                  <a:rect l="0" t="0" r="r" b="b"/>
                  <a:pathLst>
                    <a:path w="1483" h="288">
                      <a:moveTo>
                        <a:pt x="0" y="172"/>
                      </a:moveTo>
                      <a:lnTo>
                        <a:pt x="171" y="89"/>
                      </a:lnTo>
                      <a:lnTo>
                        <a:pt x="565" y="0"/>
                      </a:lnTo>
                      <a:lnTo>
                        <a:pt x="1019" y="22"/>
                      </a:lnTo>
                      <a:lnTo>
                        <a:pt x="1249" y="89"/>
                      </a:lnTo>
                      <a:lnTo>
                        <a:pt x="1483" y="231"/>
                      </a:lnTo>
                      <a:lnTo>
                        <a:pt x="1457" y="257"/>
                      </a:lnTo>
                      <a:lnTo>
                        <a:pt x="1448" y="270"/>
                      </a:lnTo>
                      <a:lnTo>
                        <a:pt x="1430" y="284"/>
                      </a:lnTo>
                      <a:lnTo>
                        <a:pt x="1417" y="288"/>
                      </a:lnTo>
                      <a:lnTo>
                        <a:pt x="1404" y="288"/>
                      </a:lnTo>
                      <a:lnTo>
                        <a:pt x="1391" y="288"/>
                      </a:lnTo>
                      <a:lnTo>
                        <a:pt x="1377" y="288"/>
                      </a:lnTo>
                      <a:lnTo>
                        <a:pt x="1369" y="288"/>
                      </a:lnTo>
                      <a:lnTo>
                        <a:pt x="1355" y="284"/>
                      </a:lnTo>
                      <a:lnTo>
                        <a:pt x="1338" y="279"/>
                      </a:lnTo>
                      <a:lnTo>
                        <a:pt x="1329" y="275"/>
                      </a:lnTo>
                      <a:lnTo>
                        <a:pt x="1316" y="270"/>
                      </a:lnTo>
                      <a:lnTo>
                        <a:pt x="1298" y="266"/>
                      </a:lnTo>
                      <a:lnTo>
                        <a:pt x="1285" y="262"/>
                      </a:lnTo>
                      <a:lnTo>
                        <a:pt x="1272" y="257"/>
                      </a:lnTo>
                      <a:lnTo>
                        <a:pt x="1263" y="257"/>
                      </a:lnTo>
                      <a:lnTo>
                        <a:pt x="1249" y="253"/>
                      </a:lnTo>
                      <a:lnTo>
                        <a:pt x="1241" y="244"/>
                      </a:lnTo>
                      <a:lnTo>
                        <a:pt x="1227" y="244"/>
                      </a:lnTo>
                      <a:lnTo>
                        <a:pt x="1210" y="235"/>
                      </a:lnTo>
                      <a:lnTo>
                        <a:pt x="1201" y="235"/>
                      </a:lnTo>
                      <a:lnTo>
                        <a:pt x="1188" y="226"/>
                      </a:lnTo>
                      <a:lnTo>
                        <a:pt x="1174" y="222"/>
                      </a:lnTo>
                      <a:lnTo>
                        <a:pt x="1166" y="218"/>
                      </a:lnTo>
                      <a:lnTo>
                        <a:pt x="1148" y="212"/>
                      </a:lnTo>
                      <a:lnTo>
                        <a:pt x="1135" y="208"/>
                      </a:lnTo>
                      <a:lnTo>
                        <a:pt x="1126" y="203"/>
                      </a:lnTo>
                      <a:lnTo>
                        <a:pt x="1117" y="195"/>
                      </a:lnTo>
                      <a:lnTo>
                        <a:pt x="1099" y="186"/>
                      </a:lnTo>
                      <a:lnTo>
                        <a:pt x="1085" y="177"/>
                      </a:lnTo>
                      <a:lnTo>
                        <a:pt x="1076" y="172"/>
                      </a:lnTo>
                      <a:lnTo>
                        <a:pt x="1063" y="164"/>
                      </a:lnTo>
                      <a:lnTo>
                        <a:pt x="1050" y="150"/>
                      </a:lnTo>
                      <a:lnTo>
                        <a:pt x="1041" y="142"/>
                      </a:lnTo>
                      <a:lnTo>
                        <a:pt x="1032" y="128"/>
                      </a:lnTo>
                      <a:lnTo>
                        <a:pt x="1019" y="124"/>
                      </a:lnTo>
                      <a:lnTo>
                        <a:pt x="1006" y="111"/>
                      </a:lnTo>
                      <a:lnTo>
                        <a:pt x="993" y="102"/>
                      </a:lnTo>
                      <a:lnTo>
                        <a:pt x="979" y="98"/>
                      </a:lnTo>
                      <a:lnTo>
                        <a:pt x="966" y="89"/>
                      </a:lnTo>
                      <a:lnTo>
                        <a:pt x="953" y="89"/>
                      </a:lnTo>
                      <a:lnTo>
                        <a:pt x="940" y="84"/>
                      </a:lnTo>
                      <a:lnTo>
                        <a:pt x="927" y="80"/>
                      </a:lnTo>
                      <a:lnTo>
                        <a:pt x="918" y="80"/>
                      </a:lnTo>
                      <a:lnTo>
                        <a:pt x="904" y="75"/>
                      </a:lnTo>
                      <a:lnTo>
                        <a:pt x="887" y="70"/>
                      </a:lnTo>
                      <a:lnTo>
                        <a:pt x="865" y="70"/>
                      </a:lnTo>
                      <a:lnTo>
                        <a:pt x="834" y="70"/>
                      </a:lnTo>
                      <a:lnTo>
                        <a:pt x="790" y="66"/>
                      </a:lnTo>
                      <a:lnTo>
                        <a:pt x="768" y="66"/>
                      </a:lnTo>
                      <a:lnTo>
                        <a:pt x="715" y="66"/>
                      </a:lnTo>
                      <a:lnTo>
                        <a:pt x="706" y="66"/>
                      </a:lnTo>
                      <a:lnTo>
                        <a:pt x="688" y="66"/>
                      </a:lnTo>
                      <a:lnTo>
                        <a:pt x="666" y="66"/>
                      </a:lnTo>
                      <a:lnTo>
                        <a:pt x="600" y="66"/>
                      </a:lnTo>
                      <a:lnTo>
                        <a:pt x="552" y="70"/>
                      </a:lnTo>
                      <a:lnTo>
                        <a:pt x="525" y="75"/>
                      </a:lnTo>
                      <a:lnTo>
                        <a:pt x="516" y="75"/>
                      </a:lnTo>
                      <a:lnTo>
                        <a:pt x="499" y="80"/>
                      </a:lnTo>
                      <a:lnTo>
                        <a:pt x="490" y="84"/>
                      </a:lnTo>
                      <a:lnTo>
                        <a:pt x="477" y="89"/>
                      </a:lnTo>
                      <a:lnTo>
                        <a:pt x="464" y="89"/>
                      </a:lnTo>
                      <a:lnTo>
                        <a:pt x="455" y="98"/>
                      </a:lnTo>
                      <a:lnTo>
                        <a:pt x="441" y="106"/>
                      </a:lnTo>
                      <a:lnTo>
                        <a:pt x="433" y="115"/>
                      </a:lnTo>
                      <a:lnTo>
                        <a:pt x="419" y="128"/>
                      </a:lnTo>
                      <a:lnTo>
                        <a:pt x="411" y="128"/>
                      </a:lnTo>
                      <a:lnTo>
                        <a:pt x="397" y="142"/>
                      </a:lnTo>
                      <a:lnTo>
                        <a:pt x="384" y="150"/>
                      </a:lnTo>
                      <a:lnTo>
                        <a:pt x="375" y="164"/>
                      </a:lnTo>
                      <a:lnTo>
                        <a:pt x="357" y="172"/>
                      </a:lnTo>
                      <a:lnTo>
                        <a:pt x="348" y="172"/>
                      </a:lnTo>
                      <a:lnTo>
                        <a:pt x="335" y="181"/>
                      </a:lnTo>
                      <a:lnTo>
                        <a:pt x="321" y="190"/>
                      </a:lnTo>
                      <a:lnTo>
                        <a:pt x="313" y="195"/>
                      </a:lnTo>
                      <a:lnTo>
                        <a:pt x="295" y="203"/>
                      </a:lnTo>
                      <a:lnTo>
                        <a:pt x="286" y="208"/>
                      </a:lnTo>
                      <a:lnTo>
                        <a:pt x="273" y="212"/>
                      </a:lnTo>
                      <a:lnTo>
                        <a:pt x="255" y="218"/>
                      </a:lnTo>
                      <a:lnTo>
                        <a:pt x="246" y="222"/>
                      </a:lnTo>
                      <a:lnTo>
                        <a:pt x="233" y="226"/>
                      </a:lnTo>
                      <a:lnTo>
                        <a:pt x="216" y="235"/>
                      </a:lnTo>
                      <a:lnTo>
                        <a:pt x="202" y="235"/>
                      </a:lnTo>
                      <a:lnTo>
                        <a:pt x="185" y="240"/>
                      </a:lnTo>
                      <a:lnTo>
                        <a:pt x="171" y="244"/>
                      </a:lnTo>
                      <a:lnTo>
                        <a:pt x="163" y="248"/>
                      </a:lnTo>
                      <a:lnTo>
                        <a:pt x="149" y="253"/>
                      </a:lnTo>
                      <a:lnTo>
                        <a:pt x="132" y="257"/>
                      </a:lnTo>
                      <a:lnTo>
                        <a:pt x="123" y="257"/>
                      </a:lnTo>
                      <a:lnTo>
                        <a:pt x="110" y="262"/>
                      </a:lnTo>
                      <a:lnTo>
                        <a:pt x="92" y="262"/>
                      </a:lnTo>
                      <a:lnTo>
                        <a:pt x="83" y="266"/>
                      </a:lnTo>
                      <a:lnTo>
                        <a:pt x="70" y="266"/>
                      </a:lnTo>
                      <a:lnTo>
                        <a:pt x="57" y="266"/>
                      </a:lnTo>
                      <a:lnTo>
                        <a:pt x="44" y="266"/>
                      </a:lnTo>
                      <a:lnTo>
                        <a:pt x="30" y="266"/>
                      </a:lnTo>
                      <a:lnTo>
                        <a:pt x="17" y="257"/>
                      </a:lnTo>
                      <a:lnTo>
                        <a:pt x="8" y="244"/>
                      </a:lnTo>
                      <a:lnTo>
                        <a:pt x="4" y="226"/>
                      </a:lnTo>
                      <a:lnTo>
                        <a:pt x="0" y="212"/>
                      </a:lnTo>
                      <a:lnTo>
                        <a:pt x="0" y="199"/>
                      </a:lnTo>
                      <a:lnTo>
                        <a:pt x="0" y="181"/>
                      </a:lnTo>
                      <a:lnTo>
                        <a:pt x="0" y="168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202520" y="5151600"/>
                  <a:ext cx="540000" cy="151200"/>
                </a:xfrm>
                <a:custGeom>
                  <a:avLst/>
                  <a:gdLst/>
                  <a:ahLst/>
                  <a:rect l="0" t="0" r="r" b="b"/>
                  <a:pathLst>
                    <a:path w="1500" h="420">
                      <a:moveTo>
                        <a:pt x="35" y="159"/>
                      </a:moveTo>
                      <a:lnTo>
                        <a:pt x="61" y="142"/>
                      </a:lnTo>
                      <a:lnTo>
                        <a:pt x="101" y="124"/>
                      </a:lnTo>
                      <a:lnTo>
                        <a:pt x="123" y="111"/>
                      </a:lnTo>
                      <a:lnTo>
                        <a:pt x="145" y="101"/>
                      </a:lnTo>
                      <a:lnTo>
                        <a:pt x="163" y="97"/>
                      </a:lnTo>
                      <a:lnTo>
                        <a:pt x="185" y="83"/>
                      </a:lnTo>
                      <a:lnTo>
                        <a:pt x="202" y="74"/>
                      </a:lnTo>
                      <a:lnTo>
                        <a:pt x="216" y="70"/>
                      </a:lnTo>
                      <a:lnTo>
                        <a:pt x="242" y="57"/>
                      </a:lnTo>
                      <a:lnTo>
                        <a:pt x="264" y="52"/>
                      </a:lnTo>
                      <a:lnTo>
                        <a:pt x="286" y="44"/>
                      </a:lnTo>
                      <a:lnTo>
                        <a:pt x="317" y="35"/>
                      </a:lnTo>
                      <a:lnTo>
                        <a:pt x="330" y="30"/>
                      </a:lnTo>
                      <a:lnTo>
                        <a:pt x="366" y="22"/>
                      </a:lnTo>
                      <a:lnTo>
                        <a:pt x="388" y="17"/>
                      </a:lnTo>
                      <a:lnTo>
                        <a:pt x="467" y="13"/>
                      </a:lnTo>
                      <a:lnTo>
                        <a:pt x="480" y="8"/>
                      </a:lnTo>
                      <a:lnTo>
                        <a:pt x="507" y="8"/>
                      </a:lnTo>
                      <a:lnTo>
                        <a:pt x="551" y="4"/>
                      </a:lnTo>
                      <a:lnTo>
                        <a:pt x="573" y="0"/>
                      </a:lnTo>
                      <a:lnTo>
                        <a:pt x="590" y="0"/>
                      </a:lnTo>
                      <a:lnTo>
                        <a:pt x="630" y="0"/>
                      </a:lnTo>
                      <a:lnTo>
                        <a:pt x="652" y="0"/>
                      </a:lnTo>
                      <a:lnTo>
                        <a:pt x="665" y="0"/>
                      </a:lnTo>
                      <a:lnTo>
                        <a:pt x="718" y="0"/>
                      </a:lnTo>
                      <a:lnTo>
                        <a:pt x="727" y="0"/>
                      </a:lnTo>
                      <a:lnTo>
                        <a:pt x="755" y="0"/>
                      </a:lnTo>
                      <a:lnTo>
                        <a:pt x="768" y="0"/>
                      </a:lnTo>
                      <a:lnTo>
                        <a:pt x="799" y="0"/>
                      </a:lnTo>
                      <a:lnTo>
                        <a:pt x="807" y="0"/>
                      </a:lnTo>
                      <a:lnTo>
                        <a:pt x="843" y="4"/>
                      </a:lnTo>
                      <a:lnTo>
                        <a:pt x="865" y="4"/>
                      </a:lnTo>
                      <a:lnTo>
                        <a:pt x="887" y="8"/>
                      </a:lnTo>
                      <a:lnTo>
                        <a:pt x="900" y="8"/>
                      </a:lnTo>
                      <a:lnTo>
                        <a:pt x="927" y="13"/>
                      </a:lnTo>
                      <a:lnTo>
                        <a:pt x="957" y="17"/>
                      </a:lnTo>
                      <a:lnTo>
                        <a:pt x="979" y="17"/>
                      </a:lnTo>
                      <a:lnTo>
                        <a:pt x="1046" y="30"/>
                      </a:lnTo>
                      <a:lnTo>
                        <a:pt x="1094" y="39"/>
                      </a:lnTo>
                      <a:lnTo>
                        <a:pt x="1129" y="48"/>
                      </a:lnTo>
                      <a:lnTo>
                        <a:pt x="1160" y="57"/>
                      </a:lnTo>
                      <a:lnTo>
                        <a:pt x="1178" y="57"/>
                      </a:lnTo>
                      <a:lnTo>
                        <a:pt x="1204" y="70"/>
                      </a:lnTo>
                      <a:lnTo>
                        <a:pt x="1235" y="79"/>
                      </a:lnTo>
                      <a:lnTo>
                        <a:pt x="1257" y="92"/>
                      </a:lnTo>
                      <a:lnTo>
                        <a:pt x="1275" y="97"/>
                      </a:lnTo>
                      <a:lnTo>
                        <a:pt x="1297" y="101"/>
                      </a:lnTo>
                      <a:lnTo>
                        <a:pt x="1319" y="111"/>
                      </a:lnTo>
                      <a:lnTo>
                        <a:pt x="1341" y="124"/>
                      </a:lnTo>
                      <a:lnTo>
                        <a:pt x="1368" y="137"/>
                      </a:lnTo>
                      <a:lnTo>
                        <a:pt x="1398" y="146"/>
                      </a:lnTo>
                      <a:lnTo>
                        <a:pt x="1420" y="164"/>
                      </a:lnTo>
                      <a:lnTo>
                        <a:pt x="1447" y="181"/>
                      </a:lnTo>
                      <a:lnTo>
                        <a:pt x="1465" y="190"/>
                      </a:lnTo>
                      <a:lnTo>
                        <a:pt x="1465" y="195"/>
                      </a:lnTo>
                      <a:lnTo>
                        <a:pt x="1473" y="208"/>
                      </a:lnTo>
                      <a:lnTo>
                        <a:pt x="1478" y="225"/>
                      </a:lnTo>
                      <a:lnTo>
                        <a:pt x="1482" y="239"/>
                      </a:lnTo>
                      <a:lnTo>
                        <a:pt x="1487" y="256"/>
                      </a:lnTo>
                      <a:lnTo>
                        <a:pt x="1491" y="265"/>
                      </a:lnTo>
                      <a:lnTo>
                        <a:pt x="1491" y="287"/>
                      </a:lnTo>
                      <a:lnTo>
                        <a:pt x="1495" y="300"/>
                      </a:lnTo>
                      <a:lnTo>
                        <a:pt x="1495" y="314"/>
                      </a:lnTo>
                      <a:lnTo>
                        <a:pt x="1500" y="328"/>
                      </a:lnTo>
                      <a:lnTo>
                        <a:pt x="1500" y="345"/>
                      </a:lnTo>
                      <a:lnTo>
                        <a:pt x="1500" y="359"/>
                      </a:lnTo>
                      <a:lnTo>
                        <a:pt x="1500" y="376"/>
                      </a:lnTo>
                      <a:lnTo>
                        <a:pt x="1500" y="390"/>
                      </a:lnTo>
                      <a:lnTo>
                        <a:pt x="1500" y="403"/>
                      </a:lnTo>
                      <a:lnTo>
                        <a:pt x="1500" y="420"/>
                      </a:lnTo>
                      <a:lnTo>
                        <a:pt x="1487" y="407"/>
                      </a:lnTo>
                      <a:lnTo>
                        <a:pt x="1473" y="403"/>
                      </a:lnTo>
                      <a:lnTo>
                        <a:pt x="1465" y="394"/>
                      </a:lnTo>
                      <a:lnTo>
                        <a:pt x="1442" y="390"/>
                      </a:lnTo>
                      <a:lnTo>
                        <a:pt x="1412" y="376"/>
                      </a:lnTo>
                      <a:lnTo>
                        <a:pt x="1363" y="350"/>
                      </a:lnTo>
                      <a:lnTo>
                        <a:pt x="1350" y="341"/>
                      </a:lnTo>
                      <a:lnTo>
                        <a:pt x="1341" y="332"/>
                      </a:lnTo>
                      <a:lnTo>
                        <a:pt x="1328" y="323"/>
                      </a:lnTo>
                      <a:lnTo>
                        <a:pt x="1315" y="319"/>
                      </a:lnTo>
                      <a:lnTo>
                        <a:pt x="1297" y="314"/>
                      </a:lnTo>
                      <a:lnTo>
                        <a:pt x="1288" y="305"/>
                      </a:lnTo>
                      <a:lnTo>
                        <a:pt x="1275" y="305"/>
                      </a:lnTo>
                      <a:lnTo>
                        <a:pt x="1262" y="300"/>
                      </a:lnTo>
                      <a:lnTo>
                        <a:pt x="1253" y="296"/>
                      </a:lnTo>
                      <a:lnTo>
                        <a:pt x="1240" y="292"/>
                      </a:lnTo>
                      <a:lnTo>
                        <a:pt x="1226" y="283"/>
                      </a:lnTo>
                      <a:lnTo>
                        <a:pt x="1218" y="278"/>
                      </a:lnTo>
                      <a:lnTo>
                        <a:pt x="1204" y="274"/>
                      </a:lnTo>
                      <a:lnTo>
                        <a:pt x="1134" y="252"/>
                      </a:lnTo>
                      <a:lnTo>
                        <a:pt x="1099" y="239"/>
                      </a:lnTo>
                      <a:lnTo>
                        <a:pt x="1085" y="239"/>
                      </a:lnTo>
                      <a:lnTo>
                        <a:pt x="1072" y="234"/>
                      </a:lnTo>
                      <a:lnTo>
                        <a:pt x="1050" y="230"/>
                      </a:lnTo>
                      <a:lnTo>
                        <a:pt x="1028" y="225"/>
                      </a:lnTo>
                      <a:lnTo>
                        <a:pt x="997" y="221"/>
                      </a:lnTo>
                      <a:lnTo>
                        <a:pt x="984" y="217"/>
                      </a:lnTo>
                      <a:lnTo>
                        <a:pt x="966" y="212"/>
                      </a:lnTo>
                      <a:lnTo>
                        <a:pt x="949" y="208"/>
                      </a:lnTo>
                      <a:lnTo>
                        <a:pt x="913" y="203"/>
                      </a:lnTo>
                      <a:lnTo>
                        <a:pt x="887" y="199"/>
                      </a:lnTo>
                      <a:lnTo>
                        <a:pt x="874" y="199"/>
                      </a:lnTo>
                      <a:lnTo>
                        <a:pt x="847" y="195"/>
                      </a:lnTo>
                      <a:lnTo>
                        <a:pt x="830" y="195"/>
                      </a:lnTo>
                      <a:lnTo>
                        <a:pt x="807" y="190"/>
                      </a:lnTo>
                      <a:lnTo>
                        <a:pt x="785" y="190"/>
                      </a:lnTo>
                      <a:lnTo>
                        <a:pt x="763" y="190"/>
                      </a:lnTo>
                      <a:lnTo>
                        <a:pt x="749" y="190"/>
                      </a:lnTo>
                      <a:lnTo>
                        <a:pt x="718" y="190"/>
                      </a:lnTo>
                      <a:lnTo>
                        <a:pt x="674" y="190"/>
                      </a:lnTo>
                      <a:lnTo>
                        <a:pt x="657" y="190"/>
                      </a:lnTo>
                      <a:lnTo>
                        <a:pt x="630" y="190"/>
                      </a:lnTo>
                      <a:lnTo>
                        <a:pt x="604" y="190"/>
                      </a:lnTo>
                      <a:lnTo>
                        <a:pt x="590" y="190"/>
                      </a:lnTo>
                      <a:lnTo>
                        <a:pt x="551" y="195"/>
                      </a:lnTo>
                      <a:lnTo>
                        <a:pt x="537" y="195"/>
                      </a:lnTo>
                      <a:lnTo>
                        <a:pt x="524" y="199"/>
                      </a:lnTo>
                      <a:lnTo>
                        <a:pt x="507" y="199"/>
                      </a:lnTo>
                      <a:lnTo>
                        <a:pt x="489" y="203"/>
                      </a:lnTo>
                      <a:lnTo>
                        <a:pt x="467" y="208"/>
                      </a:lnTo>
                      <a:lnTo>
                        <a:pt x="440" y="217"/>
                      </a:lnTo>
                      <a:lnTo>
                        <a:pt x="405" y="225"/>
                      </a:lnTo>
                      <a:lnTo>
                        <a:pt x="366" y="234"/>
                      </a:lnTo>
                      <a:lnTo>
                        <a:pt x="343" y="239"/>
                      </a:lnTo>
                      <a:lnTo>
                        <a:pt x="326" y="243"/>
                      </a:lnTo>
                      <a:lnTo>
                        <a:pt x="313" y="252"/>
                      </a:lnTo>
                      <a:lnTo>
                        <a:pt x="299" y="256"/>
                      </a:lnTo>
                      <a:lnTo>
                        <a:pt x="286" y="261"/>
                      </a:lnTo>
                      <a:lnTo>
                        <a:pt x="273" y="265"/>
                      </a:lnTo>
                      <a:lnTo>
                        <a:pt x="229" y="283"/>
                      </a:lnTo>
                      <a:lnTo>
                        <a:pt x="189" y="300"/>
                      </a:lnTo>
                      <a:lnTo>
                        <a:pt x="176" y="305"/>
                      </a:lnTo>
                      <a:lnTo>
                        <a:pt x="167" y="305"/>
                      </a:lnTo>
                      <a:lnTo>
                        <a:pt x="154" y="314"/>
                      </a:lnTo>
                      <a:lnTo>
                        <a:pt x="141" y="319"/>
                      </a:lnTo>
                      <a:lnTo>
                        <a:pt x="132" y="323"/>
                      </a:lnTo>
                      <a:lnTo>
                        <a:pt x="119" y="328"/>
                      </a:lnTo>
                      <a:lnTo>
                        <a:pt x="105" y="337"/>
                      </a:lnTo>
                      <a:lnTo>
                        <a:pt x="83" y="345"/>
                      </a:lnTo>
                      <a:lnTo>
                        <a:pt x="66" y="350"/>
                      </a:lnTo>
                      <a:lnTo>
                        <a:pt x="52" y="354"/>
                      </a:lnTo>
                      <a:lnTo>
                        <a:pt x="44" y="359"/>
                      </a:lnTo>
                      <a:lnTo>
                        <a:pt x="30" y="363"/>
                      </a:lnTo>
                      <a:lnTo>
                        <a:pt x="17" y="368"/>
                      </a:lnTo>
                      <a:lnTo>
                        <a:pt x="8" y="376"/>
                      </a:lnTo>
                      <a:lnTo>
                        <a:pt x="0" y="376"/>
                      </a:lnTo>
                      <a:lnTo>
                        <a:pt x="0" y="359"/>
                      </a:lnTo>
                      <a:lnTo>
                        <a:pt x="0" y="345"/>
                      </a:lnTo>
                      <a:lnTo>
                        <a:pt x="0" y="328"/>
                      </a:lnTo>
                      <a:lnTo>
                        <a:pt x="0" y="314"/>
                      </a:lnTo>
                      <a:lnTo>
                        <a:pt x="0" y="300"/>
                      </a:lnTo>
                      <a:lnTo>
                        <a:pt x="0" y="283"/>
                      </a:lnTo>
                      <a:lnTo>
                        <a:pt x="0" y="265"/>
                      </a:lnTo>
                      <a:lnTo>
                        <a:pt x="4" y="230"/>
                      </a:lnTo>
                      <a:lnTo>
                        <a:pt x="8" y="203"/>
                      </a:lnTo>
                      <a:lnTo>
                        <a:pt x="8" y="186"/>
                      </a:lnTo>
                      <a:lnTo>
                        <a:pt x="22" y="168"/>
                      </a:lnTo>
                      <a:lnTo>
                        <a:pt x="35" y="159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209000" y="5216400"/>
                <a:ext cx="520920" cy="319680"/>
                <a:chOff x="7209000" y="5216400"/>
                <a:chExt cx="520920" cy="319680"/>
              </a:xfrm>
            </p:grpSpPr>
            <p:grpSp>
              <p:nvGrpSpPr>
                <p:cNvPr id="1018" name=""/>
                <p:cNvGrpSpPr/>
                <p:nvPr/>
              </p:nvGrpSpPr>
              <p:grpSpPr>
                <a:xfrm>
                  <a:off x="7209000" y="5216400"/>
                  <a:ext cx="520920" cy="319680"/>
                  <a:chOff x="7209000" y="5216400"/>
                  <a:chExt cx="520920" cy="319680"/>
                </a:xfrm>
              </p:grpSpPr>
              <p:sp>
                <p:nvSpPr>
                  <p:cNvPr id="1019" name=""/>
                  <p:cNvSpPr/>
                  <p:nvPr/>
                </p:nvSpPr>
                <p:spPr>
                  <a:xfrm>
                    <a:off x="7210440" y="5216400"/>
                    <a:ext cx="519480" cy="249480"/>
                  </a:xfrm>
                  <a:custGeom>
                    <a:avLst/>
                    <a:gdLst/>
                    <a:ahLst/>
                    <a:rect l="0" t="0" r="r" b="b"/>
                    <a:pathLst>
                      <a:path w="1443" h="693">
                        <a:moveTo>
                          <a:pt x="0" y="693"/>
                        </a:moveTo>
                        <a:lnTo>
                          <a:pt x="0" y="202"/>
                        </a:lnTo>
                        <a:lnTo>
                          <a:pt x="406" y="83"/>
                        </a:lnTo>
                        <a:lnTo>
                          <a:pt x="428" y="0"/>
                        </a:lnTo>
                        <a:lnTo>
                          <a:pt x="486" y="0"/>
                        </a:lnTo>
                        <a:lnTo>
                          <a:pt x="503" y="83"/>
                        </a:lnTo>
                        <a:lnTo>
                          <a:pt x="918" y="83"/>
                        </a:lnTo>
                        <a:lnTo>
                          <a:pt x="931" y="0"/>
                        </a:lnTo>
                        <a:lnTo>
                          <a:pt x="984" y="0"/>
                        </a:lnTo>
                        <a:lnTo>
                          <a:pt x="1006" y="83"/>
                        </a:lnTo>
                        <a:lnTo>
                          <a:pt x="1443" y="229"/>
                        </a:lnTo>
                        <a:lnTo>
                          <a:pt x="1443" y="684"/>
                        </a:lnTo>
                        <a:lnTo>
                          <a:pt x="0" y="693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7209000" y="5462640"/>
                    <a:ext cx="520920" cy="47880"/>
                  </a:xfrm>
                  <a:custGeom>
                    <a:avLst/>
                    <a:gdLst/>
                    <a:ahLst/>
                    <a:rect l="0" t="0" r="r" b="b"/>
                    <a:pathLst>
                      <a:path w="1447" h="133">
                        <a:moveTo>
                          <a:pt x="0" y="0"/>
                        </a:moveTo>
                        <a:lnTo>
                          <a:pt x="22" y="133"/>
                        </a:lnTo>
                        <a:lnTo>
                          <a:pt x="1420" y="133"/>
                        </a:lnTo>
                        <a:lnTo>
                          <a:pt x="144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7219800" y="5510160"/>
                    <a:ext cx="4989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386" h="72">
                        <a:moveTo>
                          <a:pt x="0" y="0"/>
                        </a:moveTo>
                        <a:lnTo>
                          <a:pt x="52" y="72"/>
                        </a:lnTo>
                        <a:lnTo>
                          <a:pt x="1333" y="72"/>
                        </a:lnTo>
                        <a:lnTo>
                          <a:pt x="138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ecece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2" name=""/>
                <p:cNvGrpSpPr/>
                <p:nvPr/>
              </p:nvGrpSpPr>
              <p:grpSpPr>
                <a:xfrm>
                  <a:off x="7346880" y="5284800"/>
                  <a:ext cx="226800" cy="117360"/>
                  <a:chOff x="7346880" y="5284800"/>
                  <a:chExt cx="226800" cy="117360"/>
                </a:xfrm>
              </p:grpSpPr>
              <p:grpSp>
                <p:nvGrpSpPr>
                  <p:cNvPr id="1023" name=""/>
                  <p:cNvGrpSpPr/>
                  <p:nvPr/>
                </p:nvGrpSpPr>
                <p:grpSpPr>
                  <a:xfrm>
                    <a:off x="7346880" y="5284800"/>
                    <a:ext cx="225720" cy="114120"/>
                    <a:chOff x="7346880" y="5284800"/>
                    <a:chExt cx="225720" cy="114120"/>
                  </a:xfrm>
                </p:grpSpPr>
                <p:sp>
                  <p:nvSpPr>
                    <p:cNvPr id="1024" name=""/>
                    <p:cNvSpPr/>
                    <p:nvPr/>
                  </p:nvSpPr>
                  <p:spPr>
                    <a:xfrm>
                      <a:off x="7346880" y="5284800"/>
                      <a:ext cx="20520" cy="9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5" name=""/>
                    <p:cNvSpPr/>
                    <p:nvPr/>
                  </p:nvSpPr>
                  <p:spPr>
                    <a:xfrm>
                      <a:off x="7402680" y="5284800"/>
                      <a:ext cx="20520" cy="9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6" name=""/>
                    <p:cNvSpPr/>
                    <p:nvPr/>
                  </p:nvSpPr>
                  <p:spPr>
                    <a:xfrm>
                      <a:off x="7448400" y="5284800"/>
                      <a:ext cx="22320" cy="9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7" name=""/>
                    <p:cNvSpPr/>
                    <p:nvPr/>
                  </p:nvSpPr>
                  <p:spPr>
                    <a:xfrm>
                      <a:off x="7496280" y="5284800"/>
                      <a:ext cx="20520" cy="9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8" name=""/>
                    <p:cNvSpPr/>
                    <p:nvPr/>
                  </p:nvSpPr>
                  <p:spPr>
                    <a:xfrm>
                      <a:off x="7550280" y="5284800"/>
                      <a:ext cx="22320" cy="9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9" name=""/>
                    <p:cNvSpPr/>
                    <p:nvPr/>
                  </p:nvSpPr>
                  <p:spPr>
                    <a:xfrm>
                      <a:off x="7402680" y="5321160"/>
                      <a:ext cx="2052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0" name=""/>
                    <p:cNvSpPr/>
                    <p:nvPr/>
                  </p:nvSpPr>
                  <p:spPr>
                    <a:xfrm>
                      <a:off x="7448400" y="5321160"/>
                      <a:ext cx="2232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1" name=""/>
                    <p:cNvSpPr/>
                    <p:nvPr/>
                  </p:nvSpPr>
                  <p:spPr>
                    <a:xfrm>
                      <a:off x="7496280" y="5321160"/>
                      <a:ext cx="2052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"/>
                    <p:cNvSpPr/>
                    <p:nvPr/>
                  </p:nvSpPr>
                  <p:spPr>
                    <a:xfrm>
                      <a:off x="7402680" y="5354640"/>
                      <a:ext cx="20520" cy="9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>
                      <a:off x="7448400" y="5354640"/>
                      <a:ext cx="22320" cy="9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7496280" y="5354640"/>
                      <a:ext cx="20520" cy="9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7402680" y="5389560"/>
                      <a:ext cx="20520" cy="9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7448400" y="5389560"/>
                      <a:ext cx="22320" cy="9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>
                      <a:off x="7496280" y="5389560"/>
                      <a:ext cx="20520" cy="9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7346880" y="5375160"/>
                      <a:ext cx="2052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7346880" y="5321160"/>
                      <a:ext cx="2052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0" name=""/>
                    <p:cNvSpPr/>
                    <p:nvPr/>
                  </p:nvSpPr>
                  <p:spPr>
                    <a:xfrm>
                      <a:off x="7550280" y="5375160"/>
                      <a:ext cx="2232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1" name=""/>
                    <p:cNvSpPr/>
                    <p:nvPr/>
                  </p:nvSpPr>
                  <p:spPr>
                    <a:xfrm>
                      <a:off x="7550280" y="5321160"/>
                      <a:ext cx="2232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2" name=""/>
                  <p:cNvGrpSpPr/>
                  <p:nvPr/>
                </p:nvGrpSpPr>
                <p:grpSpPr>
                  <a:xfrm>
                    <a:off x="7346880" y="5286240"/>
                    <a:ext cx="24120" cy="11160"/>
                    <a:chOff x="7346880" y="5286240"/>
                    <a:chExt cx="24120" cy="11160"/>
                  </a:xfrm>
                </p:grpSpPr>
                <p:sp>
                  <p:nvSpPr>
                    <p:cNvPr id="1043" name=""/>
                    <p:cNvSpPr/>
                    <p:nvPr/>
                  </p:nvSpPr>
                  <p:spPr>
                    <a:xfrm>
                      <a:off x="7348680" y="5289480"/>
                      <a:ext cx="2232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4" name=""/>
                    <p:cNvSpPr/>
                    <p:nvPr/>
                  </p:nvSpPr>
                  <p:spPr>
                    <a:xfrm>
                      <a:off x="7346880" y="5286240"/>
                      <a:ext cx="1908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5" name=""/>
                  <p:cNvGrpSpPr/>
                  <p:nvPr/>
                </p:nvGrpSpPr>
                <p:grpSpPr>
                  <a:xfrm>
                    <a:off x="7402680" y="5286240"/>
                    <a:ext cx="23760" cy="11160"/>
                    <a:chOff x="7402680" y="5286240"/>
                    <a:chExt cx="23760" cy="11160"/>
                  </a:xfrm>
                </p:grpSpPr>
                <p:sp>
                  <p:nvSpPr>
                    <p:cNvPr id="1046" name=""/>
                    <p:cNvSpPr/>
                    <p:nvPr/>
                  </p:nvSpPr>
                  <p:spPr>
                    <a:xfrm>
                      <a:off x="7404120" y="5289480"/>
                      <a:ext cx="2232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7" name=""/>
                    <p:cNvSpPr/>
                    <p:nvPr/>
                  </p:nvSpPr>
                  <p:spPr>
                    <a:xfrm>
                      <a:off x="7402680" y="5286240"/>
                      <a:ext cx="2052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8" name=""/>
                  <p:cNvGrpSpPr/>
                  <p:nvPr/>
                </p:nvGrpSpPr>
                <p:grpSpPr>
                  <a:xfrm>
                    <a:off x="7450200" y="5286240"/>
                    <a:ext cx="21960" cy="11160"/>
                    <a:chOff x="7450200" y="5286240"/>
                    <a:chExt cx="21960" cy="11160"/>
                  </a:xfrm>
                </p:grpSpPr>
                <p:sp>
                  <p:nvSpPr>
                    <p:cNvPr id="1049" name=""/>
                    <p:cNvSpPr/>
                    <p:nvPr/>
                  </p:nvSpPr>
                  <p:spPr>
                    <a:xfrm>
                      <a:off x="7451640" y="5289480"/>
                      <a:ext cx="2052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0" name=""/>
                    <p:cNvSpPr/>
                    <p:nvPr/>
                  </p:nvSpPr>
                  <p:spPr>
                    <a:xfrm>
                      <a:off x="7450200" y="5286240"/>
                      <a:ext cx="1908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51" name=""/>
                  <p:cNvGrpSpPr/>
                  <p:nvPr/>
                </p:nvGrpSpPr>
                <p:grpSpPr>
                  <a:xfrm>
                    <a:off x="7497720" y="5286240"/>
                    <a:ext cx="22320" cy="11160"/>
                    <a:chOff x="7497720" y="5286240"/>
                    <a:chExt cx="22320" cy="11160"/>
                  </a:xfrm>
                </p:grpSpPr>
                <p:sp>
                  <p:nvSpPr>
                    <p:cNvPr id="1052" name=""/>
                    <p:cNvSpPr/>
                    <p:nvPr/>
                  </p:nvSpPr>
                  <p:spPr>
                    <a:xfrm>
                      <a:off x="7499520" y="5289480"/>
                      <a:ext cx="2052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3" name=""/>
                    <p:cNvSpPr/>
                    <p:nvPr/>
                  </p:nvSpPr>
                  <p:spPr>
                    <a:xfrm>
                      <a:off x="7497720" y="5286240"/>
                      <a:ext cx="1908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54" name=""/>
                  <p:cNvGrpSpPr/>
                  <p:nvPr/>
                </p:nvGrpSpPr>
                <p:grpSpPr>
                  <a:xfrm>
                    <a:off x="7551720" y="5286240"/>
                    <a:ext cx="21960" cy="11160"/>
                    <a:chOff x="7551720" y="5286240"/>
                    <a:chExt cx="21960" cy="11160"/>
                  </a:xfrm>
                </p:grpSpPr>
                <p:sp>
                  <p:nvSpPr>
                    <p:cNvPr id="1055" name=""/>
                    <p:cNvSpPr/>
                    <p:nvPr/>
                  </p:nvSpPr>
                  <p:spPr>
                    <a:xfrm>
                      <a:off x="7553160" y="5289480"/>
                      <a:ext cx="2052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6" name=""/>
                    <p:cNvSpPr/>
                    <p:nvPr/>
                  </p:nvSpPr>
                  <p:spPr>
                    <a:xfrm>
                      <a:off x="7551720" y="5286240"/>
                      <a:ext cx="1908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57" name=""/>
                  <p:cNvGrpSpPr/>
                  <p:nvPr/>
                </p:nvGrpSpPr>
                <p:grpSpPr>
                  <a:xfrm>
                    <a:off x="7402680" y="5321160"/>
                    <a:ext cx="23760" cy="12600"/>
                    <a:chOff x="7402680" y="5321160"/>
                    <a:chExt cx="23760" cy="12600"/>
                  </a:xfrm>
                </p:grpSpPr>
                <p:sp>
                  <p:nvSpPr>
                    <p:cNvPr id="1058" name=""/>
                    <p:cNvSpPr/>
                    <p:nvPr/>
                  </p:nvSpPr>
                  <p:spPr>
                    <a:xfrm>
                      <a:off x="7404120" y="5324400"/>
                      <a:ext cx="2232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9" name=""/>
                    <p:cNvSpPr/>
                    <p:nvPr/>
                  </p:nvSpPr>
                  <p:spPr>
                    <a:xfrm>
                      <a:off x="7402680" y="5321160"/>
                      <a:ext cx="2052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0" name=""/>
                  <p:cNvGrpSpPr/>
                  <p:nvPr/>
                </p:nvGrpSpPr>
                <p:grpSpPr>
                  <a:xfrm>
                    <a:off x="7450200" y="5321160"/>
                    <a:ext cx="21960" cy="11160"/>
                    <a:chOff x="7450200" y="5321160"/>
                    <a:chExt cx="21960" cy="11160"/>
                  </a:xfrm>
                </p:grpSpPr>
                <p:sp>
                  <p:nvSpPr>
                    <p:cNvPr id="1061" name=""/>
                    <p:cNvSpPr/>
                    <p:nvPr/>
                  </p:nvSpPr>
                  <p:spPr>
                    <a:xfrm>
                      <a:off x="7451640" y="5322960"/>
                      <a:ext cx="2052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2" name=""/>
                    <p:cNvSpPr/>
                    <p:nvPr/>
                  </p:nvSpPr>
                  <p:spPr>
                    <a:xfrm>
                      <a:off x="7450200" y="5321160"/>
                      <a:ext cx="1908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3" name=""/>
                  <p:cNvGrpSpPr/>
                  <p:nvPr/>
                </p:nvGrpSpPr>
                <p:grpSpPr>
                  <a:xfrm>
                    <a:off x="7497720" y="5321160"/>
                    <a:ext cx="22320" cy="11160"/>
                    <a:chOff x="7497720" y="5321160"/>
                    <a:chExt cx="22320" cy="11160"/>
                  </a:xfrm>
                </p:grpSpPr>
                <p:sp>
                  <p:nvSpPr>
                    <p:cNvPr id="1064" name=""/>
                    <p:cNvSpPr/>
                    <p:nvPr/>
                  </p:nvSpPr>
                  <p:spPr>
                    <a:xfrm>
                      <a:off x="7499520" y="5322960"/>
                      <a:ext cx="2052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5" name=""/>
                    <p:cNvSpPr/>
                    <p:nvPr/>
                  </p:nvSpPr>
                  <p:spPr>
                    <a:xfrm>
                      <a:off x="7497720" y="5321160"/>
                      <a:ext cx="1908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6" name=""/>
                  <p:cNvGrpSpPr/>
                  <p:nvPr/>
                </p:nvGrpSpPr>
                <p:grpSpPr>
                  <a:xfrm>
                    <a:off x="7402680" y="5356080"/>
                    <a:ext cx="23760" cy="11160"/>
                    <a:chOff x="7402680" y="5356080"/>
                    <a:chExt cx="23760" cy="11160"/>
                  </a:xfrm>
                </p:grpSpPr>
                <p:sp>
                  <p:nvSpPr>
                    <p:cNvPr id="1067" name=""/>
                    <p:cNvSpPr/>
                    <p:nvPr/>
                  </p:nvSpPr>
                  <p:spPr>
                    <a:xfrm>
                      <a:off x="7404120" y="5357880"/>
                      <a:ext cx="2232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8" name=""/>
                    <p:cNvSpPr/>
                    <p:nvPr/>
                  </p:nvSpPr>
                  <p:spPr>
                    <a:xfrm>
                      <a:off x="7402680" y="5356080"/>
                      <a:ext cx="2052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9" name=""/>
                  <p:cNvGrpSpPr/>
                  <p:nvPr/>
                </p:nvGrpSpPr>
                <p:grpSpPr>
                  <a:xfrm>
                    <a:off x="7450200" y="5356080"/>
                    <a:ext cx="21960" cy="11160"/>
                    <a:chOff x="7450200" y="5356080"/>
                    <a:chExt cx="21960" cy="11160"/>
                  </a:xfrm>
                </p:grpSpPr>
                <p:sp>
                  <p:nvSpPr>
                    <p:cNvPr id="1070" name=""/>
                    <p:cNvSpPr/>
                    <p:nvPr/>
                  </p:nvSpPr>
                  <p:spPr>
                    <a:xfrm>
                      <a:off x="7451640" y="5357880"/>
                      <a:ext cx="2052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1" name=""/>
                    <p:cNvSpPr/>
                    <p:nvPr/>
                  </p:nvSpPr>
                  <p:spPr>
                    <a:xfrm>
                      <a:off x="7450200" y="5356080"/>
                      <a:ext cx="1908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2" name=""/>
                  <p:cNvGrpSpPr/>
                  <p:nvPr/>
                </p:nvGrpSpPr>
                <p:grpSpPr>
                  <a:xfrm>
                    <a:off x="7497720" y="5356080"/>
                    <a:ext cx="22320" cy="11160"/>
                    <a:chOff x="7497720" y="5356080"/>
                    <a:chExt cx="22320" cy="11160"/>
                  </a:xfrm>
                </p:grpSpPr>
                <p:sp>
                  <p:nvSpPr>
                    <p:cNvPr id="1073" name=""/>
                    <p:cNvSpPr/>
                    <p:nvPr/>
                  </p:nvSpPr>
                  <p:spPr>
                    <a:xfrm>
                      <a:off x="7499520" y="5357880"/>
                      <a:ext cx="2052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4" name=""/>
                    <p:cNvSpPr/>
                    <p:nvPr/>
                  </p:nvSpPr>
                  <p:spPr>
                    <a:xfrm>
                      <a:off x="7497720" y="5356080"/>
                      <a:ext cx="1908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5" name=""/>
                  <p:cNvGrpSpPr/>
                  <p:nvPr/>
                </p:nvGrpSpPr>
                <p:grpSpPr>
                  <a:xfrm>
                    <a:off x="7402680" y="5391000"/>
                    <a:ext cx="23760" cy="11160"/>
                    <a:chOff x="7402680" y="5391000"/>
                    <a:chExt cx="23760" cy="11160"/>
                  </a:xfrm>
                </p:grpSpPr>
                <p:sp>
                  <p:nvSpPr>
                    <p:cNvPr id="1076" name=""/>
                    <p:cNvSpPr/>
                    <p:nvPr/>
                  </p:nvSpPr>
                  <p:spPr>
                    <a:xfrm>
                      <a:off x="7404120" y="5394240"/>
                      <a:ext cx="2232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7" name=""/>
                    <p:cNvSpPr/>
                    <p:nvPr/>
                  </p:nvSpPr>
                  <p:spPr>
                    <a:xfrm>
                      <a:off x="7402680" y="5391000"/>
                      <a:ext cx="2052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8" name=""/>
                  <p:cNvGrpSpPr/>
                  <p:nvPr/>
                </p:nvGrpSpPr>
                <p:grpSpPr>
                  <a:xfrm>
                    <a:off x="7450200" y="5391000"/>
                    <a:ext cx="21960" cy="11160"/>
                    <a:chOff x="7450200" y="5391000"/>
                    <a:chExt cx="21960" cy="11160"/>
                  </a:xfrm>
                </p:grpSpPr>
                <p:sp>
                  <p:nvSpPr>
                    <p:cNvPr id="1079" name=""/>
                    <p:cNvSpPr/>
                    <p:nvPr/>
                  </p:nvSpPr>
                  <p:spPr>
                    <a:xfrm>
                      <a:off x="7451640" y="5394240"/>
                      <a:ext cx="2052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0" name=""/>
                    <p:cNvSpPr/>
                    <p:nvPr/>
                  </p:nvSpPr>
                  <p:spPr>
                    <a:xfrm>
                      <a:off x="7450200" y="5391000"/>
                      <a:ext cx="1908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1" name=""/>
                  <p:cNvGrpSpPr/>
                  <p:nvPr/>
                </p:nvGrpSpPr>
                <p:grpSpPr>
                  <a:xfrm>
                    <a:off x="7497720" y="5391000"/>
                    <a:ext cx="22320" cy="11160"/>
                    <a:chOff x="7497720" y="5391000"/>
                    <a:chExt cx="22320" cy="11160"/>
                  </a:xfrm>
                </p:grpSpPr>
                <p:sp>
                  <p:nvSpPr>
                    <p:cNvPr id="1082" name=""/>
                    <p:cNvSpPr/>
                    <p:nvPr/>
                  </p:nvSpPr>
                  <p:spPr>
                    <a:xfrm>
                      <a:off x="7499520" y="5394240"/>
                      <a:ext cx="2052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3" name=""/>
                    <p:cNvSpPr/>
                    <p:nvPr/>
                  </p:nvSpPr>
                  <p:spPr>
                    <a:xfrm>
                      <a:off x="7497720" y="5391000"/>
                      <a:ext cx="1908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4" name=""/>
                  <p:cNvGrpSpPr/>
                  <p:nvPr/>
                </p:nvGrpSpPr>
                <p:grpSpPr>
                  <a:xfrm>
                    <a:off x="7346880" y="5376960"/>
                    <a:ext cx="24120" cy="10800"/>
                    <a:chOff x="7346880" y="5376960"/>
                    <a:chExt cx="24120" cy="10800"/>
                  </a:xfrm>
                </p:grpSpPr>
                <p:sp>
                  <p:nvSpPr>
                    <p:cNvPr id="1085" name=""/>
                    <p:cNvSpPr/>
                    <p:nvPr/>
                  </p:nvSpPr>
                  <p:spPr>
                    <a:xfrm>
                      <a:off x="7348680" y="5378400"/>
                      <a:ext cx="2232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7346880" y="5376960"/>
                      <a:ext cx="19080" cy="648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7" name=""/>
                  <p:cNvGrpSpPr/>
                  <p:nvPr/>
                </p:nvGrpSpPr>
                <p:grpSpPr>
                  <a:xfrm>
                    <a:off x="7346880" y="5321160"/>
                    <a:ext cx="24120" cy="12600"/>
                    <a:chOff x="7346880" y="5321160"/>
                    <a:chExt cx="24120" cy="12600"/>
                  </a:xfrm>
                </p:grpSpPr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7348680" y="5324400"/>
                      <a:ext cx="2232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7346880" y="5321160"/>
                      <a:ext cx="1908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0" name=""/>
                  <p:cNvGrpSpPr/>
                  <p:nvPr/>
                </p:nvGrpSpPr>
                <p:grpSpPr>
                  <a:xfrm>
                    <a:off x="7551720" y="5376960"/>
                    <a:ext cx="21960" cy="10800"/>
                    <a:chOff x="7551720" y="5376960"/>
                    <a:chExt cx="21960" cy="10800"/>
                  </a:xfrm>
                </p:grpSpPr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7553160" y="5378400"/>
                      <a:ext cx="2052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7551720" y="5376960"/>
                      <a:ext cx="19080" cy="648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3" name=""/>
                  <p:cNvGrpSpPr/>
                  <p:nvPr/>
                </p:nvGrpSpPr>
                <p:grpSpPr>
                  <a:xfrm>
                    <a:off x="7551720" y="5321160"/>
                    <a:ext cx="21960" cy="12600"/>
                    <a:chOff x="7551720" y="5321160"/>
                    <a:chExt cx="21960" cy="12600"/>
                  </a:xfrm>
                </p:grpSpPr>
                <p:sp>
                  <p:nvSpPr>
                    <p:cNvPr id="1094" name=""/>
                    <p:cNvSpPr/>
                    <p:nvPr/>
                  </p:nvSpPr>
                  <p:spPr>
                    <a:xfrm>
                      <a:off x="7553160" y="5324400"/>
                      <a:ext cx="2052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5" name=""/>
                    <p:cNvSpPr/>
                    <p:nvPr/>
                  </p:nvSpPr>
                  <p:spPr>
                    <a:xfrm>
                      <a:off x="7551720" y="5321160"/>
                      <a:ext cx="1908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96" name=""/>
              <p:cNvGrpSpPr/>
              <p:nvPr/>
            </p:nvGrpSpPr>
            <p:grpSpPr>
              <a:xfrm>
                <a:off x="7151760" y="5226120"/>
                <a:ext cx="58680" cy="168120"/>
                <a:chOff x="7151760" y="5226120"/>
                <a:chExt cx="58680" cy="168120"/>
              </a:xfrm>
            </p:grpSpPr>
            <p:sp>
              <p:nvSpPr>
                <p:cNvPr id="1097" name=""/>
                <p:cNvSpPr/>
                <p:nvPr/>
              </p:nvSpPr>
              <p:spPr>
                <a:xfrm>
                  <a:off x="7155000" y="5276880"/>
                  <a:ext cx="28440" cy="2844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7151760" y="5291280"/>
                  <a:ext cx="30240" cy="2376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7155000" y="5313240"/>
                  <a:ext cx="28440" cy="1116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7157880" y="5334120"/>
                  <a:ext cx="30240" cy="288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8240" bIns="-48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7162920" y="5351400"/>
                  <a:ext cx="29880" cy="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flipV="1">
                  <a:off x="7167600" y="5359320"/>
                  <a:ext cx="30240" cy="792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7159680" y="5261040"/>
                  <a:ext cx="25200" cy="3312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7165800" y="5243400"/>
                  <a:ext cx="20880" cy="4140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7176960" y="5232240"/>
                  <a:ext cx="14400" cy="4464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7194600" y="5226120"/>
                  <a:ext cx="4680" cy="4752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 flipV="1">
                  <a:off x="7176960" y="5362560"/>
                  <a:ext cx="25560" cy="2052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 flipV="1">
                  <a:off x="7191360" y="5361120"/>
                  <a:ext cx="19080" cy="3312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9" name=""/>
            <p:cNvSpPr/>
            <p:nvPr/>
          </p:nvSpPr>
          <p:spPr>
            <a:xfrm>
              <a:off x="7199280" y="4932360"/>
              <a:ext cx="1843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602400" y="5311800"/>
              <a:ext cx="619560" cy="70200"/>
            </a:xfrm>
            <a:custGeom>
              <a:avLst/>
              <a:gdLst/>
              <a:ahLst/>
              <a:rect l="0" t="0" r="r" b="b"/>
              <a:pathLst>
                <a:path fill="none" w="1721" h="195">
                  <a:moveTo>
                    <a:pt x="0" y="0"/>
                  </a:moveTo>
                  <a:lnTo>
                    <a:pt x="1116" y="0"/>
                  </a:lnTo>
                  <a:lnTo>
                    <a:pt x="913" y="195"/>
                  </a:lnTo>
                  <a:lnTo>
                    <a:pt x="1721" y="19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1" name=""/>
            <p:cNvGrpSpPr/>
            <p:nvPr/>
          </p:nvGrpSpPr>
          <p:grpSpPr>
            <a:xfrm>
              <a:off x="4449600" y="4708440"/>
              <a:ext cx="2192400" cy="1219320"/>
              <a:chOff x="4449600" y="4708440"/>
              <a:chExt cx="2192400" cy="1219320"/>
            </a:xfrm>
          </p:grpSpPr>
          <p:grpSp>
            <p:nvGrpSpPr>
              <p:cNvPr id="1112" name=""/>
              <p:cNvGrpSpPr/>
              <p:nvPr/>
            </p:nvGrpSpPr>
            <p:grpSpPr>
              <a:xfrm>
                <a:off x="5730840" y="4819680"/>
                <a:ext cx="911160" cy="1050840"/>
                <a:chOff x="5730840" y="4819680"/>
                <a:chExt cx="911160" cy="1050840"/>
              </a:xfrm>
            </p:grpSpPr>
            <p:grpSp>
              <p:nvGrpSpPr>
                <p:cNvPr id="1113" name=""/>
                <p:cNvGrpSpPr/>
                <p:nvPr/>
              </p:nvGrpSpPr>
              <p:grpSpPr>
                <a:xfrm>
                  <a:off x="6080040" y="4819680"/>
                  <a:ext cx="561960" cy="847440"/>
                  <a:chOff x="6080040" y="4819680"/>
                  <a:chExt cx="561960" cy="847440"/>
                </a:xfrm>
              </p:grpSpPr>
              <p:grpSp>
                <p:nvGrpSpPr>
                  <p:cNvPr id="1114" name=""/>
                  <p:cNvGrpSpPr/>
                  <p:nvPr/>
                </p:nvGrpSpPr>
                <p:grpSpPr>
                  <a:xfrm>
                    <a:off x="6221520" y="4930920"/>
                    <a:ext cx="420480" cy="623520"/>
                    <a:chOff x="6221520" y="4930920"/>
                    <a:chExt cx="420480" cy="623520"/>
                  </a:xfrm>
                </p:grpSpPr>
                <p:grpSp>
                  <p:nvGrpSpPr>
                    <p:cNvPr id="1115" name=""/>
                    <p:cNvGrpSpPr/>
                    <p:nvPr/>
                  </p:nvGrpSpPr>
                  <p:grpSpPr>
                    <a:xfrm>
                      <a:off x="6221520" y="4930920"/>
                      <a:ext cx="420480" cy="623520"/>
                      <a:chOff x="6221520" y="4930920"/>
                      <a:chExt cx="420480" cy="623520"/>
                    </a:xfrm>
                  </p:grpSpPr>
                  <p:grpSp>
                    <p:nvGrpSpPr>
                      <p:cNvPr id="1116" name=""/>
                      <p:cNvGrpSpPr/>
                      <p:nvPr/>
                    </p:nvGrpSpPr>
                    <p:grpSpPr>
                      <a:xfrm>
                        <a:off x="6329520" y="4967280"/>
                        <a:ext cx="312480" cy="512640"/>
                        <a:chOff x="6329520" y="4967280"/>
                        <a:chExt cx="312480" cy="512640"/>
                      </a:xfrm>
                    </p:grpSpPr>
                    <p:grpSp>
                      <p:nvGrpSpPr>
                        <p:cNvPr id="1117" name=""/>
                        <p:cNvGrpSpPr/>
                        <p:nvPr/>
                      </p:nvGrpSpPr>
                      <p:grpSpPr>
                        <a:xfrm>
                          <a:off x="6365880" y="4967280"/>
                          <a:ext cx="276120" cy="512640"/>
                          <a:chOff x="6365880" y="4967280"/>
                          <a:chExt cx="276120" cy="512640"/>
                        </a:xfrm>
                      </p:grpSpPr>
                      <p:sp>
                        <p:nvSpPr>
                          <p:cNvPr id="1118" name=""/>
                          <p:cNvSpPr/>
                          <p:nvPr/>
                        </p:nvSpPr>
                        <p:spPr>
                          <a:xfrm>
                            <a:off x="6507000" y="5265720"/>
                            <a:ext cx="135000" cy="139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9" name=""/>
                          <p:cNvSpPr/>
                          <p:nvPr/>
                        </p:nvSpPr>
                        <p:spPr>
                          <a:xfrm>
                            <a:off x="6399360" y="5302080"/>
                            <a:ext cx="169920" cy="1778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0" name=""/>
                          <p:cNvSpPr/>
                          <p:nvPr/>
                        </p:nvSpPr>
                        <p:spPr>
                          <a:xfrm>
                            <a:off x="6472080" y="5079960"/>
                            <a:ext cx="135000" cy="139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1" name=""/>
                          <p:cNvSpPr/>
                          <p:nvPr/>
                        </p:nvSpPr>
                        <p:spPr>
                          <a:xfrm>
                            <a:off x="6365880" y="4967280"/>
                            <a:ext cx="169920" cy="1778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2" name=""/>
                          <p:cNvSpPr/>
                          <p:nvPr/>
                        </p:nvSpPr>
                        <p:spPr>
                          <a:xfrm>
                            <a:off x="6478560" y="5084640"/>
                            <a:ext cx="109800" cy="28440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305" h="790">
                                <a:moveTo>
                                  <a:pt x="305" y="785"/>
                                </a:moveTo>
                                <a:lnTo>
                                  <a:pt x="172" y="790"/>
                                </a:lnTo>
                                <a:lnTo>
                                  <a:pt x="0" y="0"/>
                                </a:lnTo>
                                <a:lnTo>
                                  <a:pt x="190" y="61"/>
                                </a:lnTo>
                                <a:lnTo>
                                  <a:pt x="195" y="450"/>
                                </a:lnTo>
                                <a:lnTo>
                                  <a:pt x="305" y="78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5000" bIns="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123" name=""/>
                        <p:cNvSpPr/>
                        <p:nvPr/>
                      </p:nvSpPr>
                      <p:spPr>
                        <a:xfrm>
                          <a:off x="6329520" y="5116680"/>
                          <a:ext cx="241200" cy="25236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4" name=""/>
                        <p:cNvSpPr/>
                        <p:nvPr/>
                      </p:nvSpPr>
                      <p:spPr>
                        <a:xfrm>
                          <a:off x="6329520" y="5265720"/>
                          <a:ext cx="169920" cy="1778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5" name=""/>
                        <p:cNvSpPr/>
                        <p:nvPr/>
                      </p:nvSpPr>
                      <p:spPr>
                        <a:xfrm>
                          <a:off x="6384960" y="5052960"/>
                          <a:ext cx="116280" cy="30672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323" h="852">
                              <a:moveTo>
                                <a:pt x="297" y="145"/>
                              </a:moveTo>
                              <a:lnTo>
                                <a:pt x="262" y="321"/>
                              </a:lnTo>
                              <a:lnTo>
                                <a:pt x="323" y="733"/>
                              </a:lnTo>
                              <a:lnTo>
                                <a:pt x="195" y="852"/>
                              </a:lnTo>
                              <a:lnTo>
                                <a:pt x="0" y="357"/>
                              </a:lnTo>
                              <a:lnTo>
                                <a:pt x="155" y="0"/>
                              </a:lnTo>
                              <a:lnTo>
                                <a:pt x="297" y="14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126" name=""/>
                      <p:cNvSpPr/>
                      <p:nvPr/>
                    </p:nvSpPr>
                    <p:spPr>
                      <a:xfrm>
                        <a:off x="6329520" y="5413320"/>
                        <a:ext cx="133200" cy="1411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7" name=""/>
                      <p:cNvSpPr/>
                      <p:nvPr/>
                    </p:nvSpPr>
                    <p:spPr>
                      <a:xfrm>
                        <a:off x="6221520" y="4930920"/>
                        <a:ext cx="171360" cy="1792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8" name=""/>
                      <p:cNvSpPr/>
                      <p:nvPr/>
                    </p:nvSpPr>
                    <p:spPr>
                      <a:xfrm>
                        <a:off x="6373800" y="5386320"/>
                        <a:ext cx="82800" cy="55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30" h="155">
                            <a:moveTo>
                              <a:pt x="230" y="93"/>
                            </a:moveTo>
                            <a:lnTo>
                              <a:pt x="159" y="155"/>
                            </a:lnTo>
                            <a:lnTo>
                              <a:pt x="0" y="74"/>
                            </a:lnTo>
                            <a:lnTo>
                              <a:pt x="159" y="0"/>
                            </a:lnTo>
                            <a:lnTo>
                              <a:pt x="230" y="9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txBody>
                      <a:bodyPr lIns="90000" rIns="90000" tIns="10800" bIns="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129" name=""/>
                    <p:cNvSpPr/>
                    <p:nvPr/>
                  </p:nvSpPr>
                  <p:spPr>
                    <a:xfrm>
                      <a:off x="6359400" y="5018040"/>
                      <a:ext cx="44640" cy="92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24" h="257">
                          <a:moveTo>
                            <a:pt x="61" y="0"/>
                          </a:moveTo>
                          <a:lnTo>
                            <a:pt x="124" y="4"/>
                          </a:lnTo>
                          <a:lnTo>
                            <a:pt x="102" y="257"/>
                          </a:lnTo>
                          <a:lnTo>
                            <a:pt x="0" y="209"/>
                          </a:lnTo>
                          <a:lnTo>
                            <a:pt x="61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6080040" y="4819680"/>
                    <a:ext cx="382680" cy="772920"/>
                    <a:chOff x="6080040" y="4819680"/>
                    <a:chExt cx="382680" cy="77292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6114960" y="5265720"/>
                      <a:ext cx="312840" cy="326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>
                      <a:off x="6149880" y="5041800"/>
                      <a:ext cx="312840" cy="326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>
                      <a:off x="6080040" y="4819680"/>
                      <a:ext cx="241200" cy="252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6221520" y="4967280"/>
                      <a:ext cx="135000" cy="141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>
                      <a:off x="6156360" y="4946760"/>
                      <a:ext cx="201960" cy="275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61" h="764">
                          <a:moveTo>
                            <a:pt x="397" y="30"/>
                          </a:moveTo>
                          <a:lnTo>
                            <a:pt x="393" y="123"/>
                          </a:lnTo>
                          <a:lnTo>
                            <a:pt x="525" y="292"/>
                          </a:lnTo>
                          <a:lnTo>
                            <a:pt x="561" y="314"/>
                          </a:lnTo>
                          <a:lnTo>
                            <a:pt x="362" y="764"/>
                          </a:lnTo>
                          <a:lnTo>
                            <a:pt x="0" y="0"/>
                          </a:lnTo>
                          <a:lnTo>
                            <a:pt x="397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6256440" y="5330880"/>
                      <a:ext cx="128880" cy="7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58" h="208">
                          <a:moveTo>
                            <a:pt x="318" y="30"/>
                          </a:moveTo>
                          <a:lnTo>
                            <a:pt x="358" y="92"/>
                          </a:lnTo>
                          <a:lnTo>
                            <a:pt x="0" y="208"/>
                          </a:lnTo>
                          <a:lnTo>
                            <a:pt x="13" y="0"/>
                          </a:lnTo>
                          <a:lnTo>
                            <a:pt x="318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29880" bIns="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7" name=""/>
                  <p:cNvSpPr/>
                  <p:nvPr/>
                </p:nvSpPr>
                <p:spPr>
                  <a:xfrm>
                    <a:off x="6080040" y="5487840"/>
                    <a:ext cx="169920" cy="179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6195960" y="5475240"/>
                    <a:ext cx="84600" cy="89280"/>
                  </a:xfrm>
                  <a:custGeom>
                    <a:avLst/>
                    <a:gdLst/>
                    <a:ahLst/>
                    <a:rect l="0" t="0" r="r" b="b"/>
                    <a:pathLst>
                      <a:path w="235" h="248">
                        <a:moveTo>
                          <a:pt x="93" y="248"/>
                        </a:moveTo>
                        <a:lnTo>
                          <a:pt x="235" y="164"/>
                        </a:lnTo>
                        <a:lnTo>
                          <a:pt x="75" y="0"/>
                        </a:lnTo>
                        <a:lnTo>
                          <a:pt x="0" y="93"/>
                        </a:lnTo>
                        <a:lnTo>
                          <a:pt x="93" y="24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9" name=""/>
                <p:cNvSpPr/>
                <p:nvPr/>
              </p:nvSpPr>
              <p:spPr>
                <a:xfrm>
                  <a:off x="5730840" y="5656320"/>
                  <a:ext cx="206280" cy="2142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5900760" y="5656320"/>
                  <a:ext cx="171360" cy="177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5999040" y="5595840"/>
                  <a:ext cx="169920" cy="177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5861160" y="5573880"/>
                  <a:ext cx="335160" cy="232200"/>
                </a:xfrm>
                <a:custGeom>
                  <a:avLst/>
                  <a:gdLst/>
                  <a:ahLst/>
                  <a:rect l="0" t="0" r="r" b="b"/>
                  <a:pathLst>
                    <a:path w="931" h="645">
                      <a:moveTo>
                        <a:pt x="869" y="190"/>
                      </a:moveTo>
                      <a:lnTo>
                        <a:pt x="781" y="230"/>
                      </a:lnTo>
                      <a:lnTo>
                        <a:pt x="530" y="487"/>
                      </a:lnTo>
                      <a:lnTo>
                        <a:pt x="472" y="597"/>
                      </a:lnTo>
                      <a:lnTo>
                        <a:pt x="198" y="597"/>
                      </a:lnTo>
                      <a:lnTo>
                        <a:pt x="141" y="645"/>
                      </a:lnTo>
                      <a:lnTo>
                        <a:pt x="0" y="455"/>
                      </a:lnTo>
                      <a:lnTo>
                        <a:pt x="631" y="0"/>
                      </a:lnTo>
                      <a:lnTo>
                        <a:pt x="931" y="105"/>
                      </a:lnTo>
                      <a:lnTo>
                        <a:pt x="869" y="1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4449600" y="4827600"/>
                <a:ext cx="547560" cy="728640"/>
                <a:chOff x="4449600" y="4827600"/>
                <a:chExt cx="547560" cy="728640"/>
              </a:xfrm>
            </p:grpSpPr>
            <p:grpSp>
              <p:nvGrpSpPr>
                <p:cNvPr id="1144" name=""/>
                <p:cNvGrpSpPr/>
                <p:nvPr/>
              </p:nvGrpSpPr>
              <p:grpSpPr>
                <a:xfrm>
                  <a:off x="4449600" y="4930920"/>
                  <a:ext cx="298440" cy="438120"/>
                  <a:chOff x="4449600" y="4930920"/>
                  <a:chExt cx="298440" cy="438120"/>
                </a:xfrm>
              </p:grpSpPr>
              <p:sp>
                <p:nvSpPr>
                  <p:cNvPr id="1145" name=""/>
                  <p:cNvSpPr/>
                  <p:nvPr/>
                </p:nvSpPr>
                <p:spPr>
                  <a:xfrm>
                    <a:off x="4449600" y="5079960"/>
                    <a:ext cx="133200" cy="139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4471920" y="5191200"/>
                    <a:ext cx="169920" cy="177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4506840" y="4930920"/>
                    <a:ext cx="241200" cy="252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4495680" y="5100480"/>
                    <a:ext cx="81360" cy="132120"/>
                  </a:xfrm>
                  <a:custGeom>
                    <a:avLst/>
                    <a:gdLst/>
                    <a:ahLst/>
                    <a:rect l="0" t="0" r="r" b="b"/>
                    <a:pathLst>
                      <a:path w="226" h="367">
                        <a:moveTo>
                          <a:pt x="128" y="0"/>
                        </a:moveTo>
                        <a:lnTo>
                          <a:pt x="0" y="70"/>
                        </a:lnTo>
                        <a:lnTo>
                          <a:pt x="4" y="296"/>
                        </a:lnTo>
                        <a:lnTo>
                          <a:pt x="48" y="367"/>
                        </a:lnTo>
                        <a:lnTo>
                          <a:pt x="226" y="296"/>
                        </a:lnTo>
                        <a:lnTo>
                          <a:pt x="12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9" name=""/>
                <p:cNvGrpSpPr/>
                <p:nvPr/>
              </p:nvGrpSpPr>
              <p:grpSpPr>
                <a:xfrm>
                  <a:off x="4543560" y="4827600"/>
                  <a:ext cx="453600" cy="728640"/>
                  <a:chOff x="4543560" y="4827600"/>
                  <a:chExt cx="453600" cy="728640"/>
                </a:xfrm>
              </p:grpSpPr>
              <p:sp>
                <p:nvSpPr>
                  <p:cNvPr id="1150" name=""/>
                  <p:cNvSpPr/>
                  <p:nvPr/>
                </p:nvSpPr>
                <p:spPr>
                  <a:xfrm>
                    <a:off x="4686120" y="4857840"/>
                    <a:ext cx="311040" cy="325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4543560" y="5079960"/>
                    <a:ext cx="169920" cy="177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4578480" y="5191200"/>
                    <a:ext cx="243000" cy="252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4649760" y="5302080"/>
                    <a:ext cx="241200" cy="254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4667400" y="5010120"/>
                    <a:ext cx="216000" cy="219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4846680" y="4827600"/>
                    <a:ext cx="135000" cy="13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4740120" y="4973760"/>
                    <a:ext cx="144720" cy="10512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92">
                        <a:moveTo>
                          <a:pt x="0" y="79"/>
                        </a:moveTo>
                        <a:lnTo>
                          <a:pt x="48" y="217"/>
                        </a:lnTo>
                        <a:lnTo>
                          <a:pt x="402" y="292"/>
                        </a:lnTo>
                        <a:lnTo>
                          <a:pt x="402" y="110"/>
                        </a:lnTo>
                        <a:lnTo>
                          <a:pt x="26" y="0"/>
                        </a:lnTo>
                        <a:lnTo>
                          <a:pt x="0" y="7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4595760" y="5164200"/>
                    <a:ext cx="167040" cy="217800"/>
                  </a:xfrm>
                  <a:custGeom>
                    <a:avLst/>
                    <a:gdLst/>
                    <a:ahLst/>
                    <a:rect l="0" t="0" r="r" b="b"/>
                    <a:pathLst>
                      <a:path w="464" h="605">
                        <a:moveTo>
                          <a:pt x="287" y="0"/>
                        </a:moveTo>
                        <a:lnTo>
                          <a:pt x="0" y="149"/>
                        </a:lnTo>
                        <a:lnTo>
                          <a:pt x="119" y="268"/>
                        </a:lnTo>
                        <a:lnTo>
                          <a:pt x="136" y="565"/>
                        </a:lnTo>
                        <a:lnTo>
                          <a:pt x="202" y="605"/>
                        </a:lnTo>
                        <a:lnTo>
                          <a:pt x="446" y="415"/>
                        </a:lnTo>
                        <a:lnTo>
                          <a:pt x="464" y="57"/>
                        </a:lnTo>
                        <a:lnTo>
                          <a:pt x="28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8" name=""/>
                <p:cNvSpPr/>
                <p:nvPr/>
              </p:nvSpPr>
              <p:spPr>
                <a:xfrm>
                  <a:off x="4843440" y="4908600"/>
                  <a:ext cx="86040" cy="101880"/>
                </a:xfrm>
                <a:custGeom>
                  <a:avLst/>
                  <a:gdLst/>
                  <a:ahLst/>
                  <a:rect l="0" t="0" r="r" b="b"/>
                  <a:pathLst>
                    <a:path w="239" h="283">
                      <a:moveTo>
                        <a:pt x="0" y="155"/>
                      </a:moveTo>
                      <a:lnTo>
                        <a:pt x="101" y="0"/>
                      </a:lnTo>
                      <a:lnTo>
                        <a:pt x="239" y="155"/>
                      </a:lnTo>
                      <a:lnTo>
                        <a:pt x="124" y="283"/>
                      </a:lnTo>
                      <a:lnTo>
                        <a:pt x="0" y="1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"/>
              <p:cNvGrpSpPr/>
              <p:nvPr/>
            </p:nvGrpSpPr>
            <p:grpSpPr>
              <a:xfrm>
                <a:off x="4722840" y="4708440"/>
                <a:ext cx="1598760" cy="1219320"/>
                <a:chOff x="4722840" y="4708440"/>
                <a:chExt cx="1598760" cy="121932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5221440" y="4745160"/>
                  <a:ext cx="385920" cy="399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5543640" y="4708440"/>
                  <a:ext cx="312840" cy="325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5829480" y="5041800"/>
                  <a:ext cx="492120" cy="514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4900680" y="5265720"/>
                  <a:ext cx="561960" cy="5875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5686560" y="5338800"/>
                  <a:ext cx="419040" cy="438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756320" y="5378400"/>
                  <a:ext cx="314280" cy="325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4722840" y="5116680"/>
                  <a:ext cx="311040" cy="326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4863960" y="4819680"/>
                  <a:ext cx="492120" cy="51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5292720" y="5413320"/>
                  <a:ext cx="493560" cy="514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5900760" y="4857840"/>
                  <a:ext cx="384120" cy="399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5792760" y="4708440"/>
                  <a:ext cx="349200" cy="361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4854600" y="4808520"/>
                  <a:ext cx="1375200" cy="957600"/>
                </a:xfrm>
                <a:custGeom>
                  <a:avLst/>
                  <a:gdLst/>
                  <a:ahLst/>
                  <a:rect l="0" t="0" r="r" b="b"/>
                  <a:pathLst>
                    <a:path w="3820" h="2660">
                      <a:moveTo>
                        <a:pt x="1178" y="264"/>
                      </a:moveTo>
                      <a:lnTo>
                        <a:pt x="1337" y="79"/>
                      </a:lnTo>
                      <a:lnTo>
                        <a:pt x="2051" y="92"/>
                      </a:lnTo>
                      <a:lnTo>
                        <a:pt x="2558" y="0"/>
                      </a:lnTo>
                      <a:lnTo>
                        <a:pt x="3190" y="317"/>
                      </a:lnTo>
                      <a:lnTo>
                        <a:pt x="3516" y="224"/>
                      </a:lnTo>
                      <a:lnTo>
                        <a:pt x="3679" y="264"/>
                      </a:lnTo>
                      <a:lnTo>
                        <a:pt x="3719" y="1058"/>
                      </a:lnTo>
                      <a:lnTo>
                        <a:pt x="3820" y="1181"/>
                      </a:lnTo>
                      <a:lnTo>
                        <a:pt x="3525" y="1795"/>
                      </a:lnTo>
                      <a:lnTo>
                        <a:pt x="3203" y="1376"/>
                      </a:lnTo>
                      <a:lnTo>
                        <a:pt x="3115" y="1592"/>
                      </a:lnTo>
                      <a:lnTo>
                        <a:pt x="2664" y="2430"/>
                      </a:lnTo>
                      <a:lnTo>
                        <a:pt x="1156" y="2660"/>
                      </a:lnTo>
                      <a:lnTo>
                        <a:pt x="366" y="2492"/>
                      </a:lnTo>
                      <a:lnTo>
                        <a:pt x="123" y="1976"/>
                      </a:lnTo>
                      <a:lnTo>
                        <a:pt x="123" y="1442"/>
                      </a:lnTo>
                      <a:lnTo>
                        <a:pt x="0" y="992"/>
                      </a:lnTo>
                      <a:lnTo>
                        <a:pt x="1178" y="2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2" name=""/>
            <p:cNvGrpSpPr/>
            <p:nvPr/>
          </p:nvGrpSpPr>
          <p:grpSpPr>
            <a:xfrm>
              <a:off x="4984920" y="5048280"/>
              <a:ext cx="1073160" cy="680760"/>
              <a:chOff x="4984920" y="5048280"/>
              <a:chExt cx="1073160" cy="680760"/>
            </a:xfrm>
          </p:grpSpPr>
          <p:sp>
            <p:nvSpPr>
              <p:cNvPr id="1173" name=""/>
              <p:cNvSpPr txBox="1"/>
              <p:nvPr/>
            </p:nvSpPr>
            <p:spPr>
              <a:xfrm>
                <a:off x="4984920" y="5048280"/>
                <a:ext cx="107316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TCP/RNI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 txBox="1"/>
              <p:nvPr/>
            </p:nvSpPr>
            <p:spPr>
              <a:xfrm>
                <a:off x="5207040" y="5240160"/>
                <a:ext cx="606600" cy="488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GSM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L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884160" y="5083200"/>
              <a:ext cx="589320" cy="383040"/>
              <a:chOff x="884160" y="5083200"/>
              <a:chExt cx="589320" cy="383040"/>
            </a:xfrm>
          </p:grpSpPr>
          <p:grpSp>
            <p:nvGrpSpPr>
              <p:cNvPr id="1176" name=""/>
              <p:cNvGrpSpPr/>
              <p:nvPr/>
            </p:nvGrpSpPr>
            <p:grpSpPr>
              <a:xfrm>
                <a:off x="933480" y="5083200"/>
                <a:ext cx="540000" cy="165600"/>
                <a:chOff x="933480" y="5083200"/>
                <a:chExt cx="540000" cy="16560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36720" y="5145120"/>
                  <a:ext cx="533880" cy="103680"/>
                </a:xfrm>
                <a:custGeom>
                  <a:avLst/>
                  <a:gdLst/>
                  <a:ahLst/>
                  <a:rect l="0" t="0" r="r" b="b"/>
                  <a:pathLst>
                    <a:path w="1483" h="288">
                      <a:moveTo>
                        <a:pt x="0" y="177"/>
                      </a:moveTo>
                      <a:lnTo>
                        <a:pt x="176" y="89"/>
                      </a:lnTo>
                      <a:lnTo>
                        <a:pt x="565" y="0"/>
                      </a:lnTo>
                      <a:lnTo>
                        <a:pt x="1019" y="26"/>
                      </a:lnTo>
                      <a:lnTo>
                        <a:pt x="1249" y="89"/>
                      </a:lnTo>
                      <a:lnTo>
                        <a:pt x="1483" y="235"/>
                      </a:lnTo>
                      <a:lnTo>
                        <a:pt x="1457" y="257"/>
                      </a:lnTo>
                      <a:lnTo>
                        <a:pt x="1448" y="275"/>
                      </a:lnTo>
                      <a:lnTo>
                        <a:pt x="1430" y="284"/>
                      </a:lnTo>
                      <a:lnTo>
                        <a:pt x="1417" y="288"/>
                      </a:lnTo>
                      <a:lnTo>
                        <a:pt x="1404" y="288"/>
                      </a:lnTo>
                      <a:lnTo>
                        <a:pt x="1391" y="288"/>
                      </a:lnTo>
                      <a:lnTo>
                        <a:pt x="1382" y="288"/>
                      </a:lnTo>
                      <a:lnTo>
                        <a:pt x="1369" y="288"/>
                      </a:lnTo>
                      <a:lnTo>
                        <a:pt x="1355" y="284"/>
                      </a:lnTo>
                      <a:lnTo>
                        <a:pt x="1342" y="284"/>
                      </a:lnTo>
                      <a:lnTo>
                        <a:pt x="1329" y="279"/>
                      </a:lnTo>
                      <a:lnTo>
                        <a:pt x="1316" y="275"/>
                      </a:lnTo>
                      <a:lnTo>
                        <a:pt x="1302" y="270"/>
                      </a:lnTo>
                      <a:lnTo>
                        <a:pt x="1285" y="266"/>
                      </a:lnTo>
                      <a:lnTo>
                        <a:pt x="1272" y="262"/>
                      </a:lnTo>
                      <a:lnTo>
                        <a:pt x="1267" y="257"/>
                      </a:lnTo>
                      <a:lnTo>
                        <a:pt x="1254" y="253"/>
                      </a:lnTo>
                      <a:lnTo>
                        <a:pt x="1241" y="244"/>
                      </a:lnTo>
                      <a:lnTo>
                        <a:pt x="1227" y="244"/>
                      </a:lnTo>
                      <a:lnTo>
                        <a:pt x="1214" y="240"/>
                      </a:lnTo>
                      <a:lnTo>
                        <a:pt x="1201" y="240"/>
                      </a:lnTo>
                      <a:lnTo>
                        <a:pt x="1188" y="231"/>
                      </a:lnTo>
                      <a:lnTo>
                        <a:pt x="1179" y="226"/>
                      </a:lnTo>
                      <a:lnTo>
                        <a:pt x="1166" y="222"/>
                      </a:lnTo>
                      <a:lnTo>
                        <a:pt x="1148" y="212"/>
                      </a:lnTo>
                      <a:lnTo>
                        <a:pt x="1139" y="208"/>
                      </a:lnTo>
                      <a:lnTo>
                        <a:pt x="1126" y="203"/>
                      </a:lnTo>
                      <a:lnTo>
                        <a:pt x="1117" y="199"/>
                      </a:lnTo>
                      <a:lnTo>
                        <a:pt x="1099" y="190"/>
                      </a:lnTo>
                      <a:lnTo>
                        <a:pt x="1090" y="181"/>
                      </a:lnTo>
                      <a:lnTo>
                        <a:pt x="1076" y="172"/>
                      </a:lnTo>
                      <a:lnTo>
                        <a:pt x="1063" y="164"/>
                      </a:lnTo>
                      <a:lnTo>
                        <a:pt x="1054" y="155"/>
                      </a:lnTo>
                      <a:lnTo>
                        <a:pt x="1046" y="146"/>
                      </a:lnTo>
                      <a:lnTo>
                        <a:pt x="1032" y="133"/>
                      </a:lnTo>
                      <a:lnTo>
                        <a:pt x="1019" y="124"/>
                      </a:lnTo>
                      <a:lnTo>
                        <a:pt x="1010" y="115"/>
                      </a:lnTo>
                      <a:lnTo>
                        <a:pt x="993" y="106"/>
                      </a:lnTo>
                      <a:lnTo>
                        <a:pt x="979" y="102"/>
                      </a:lnTo>
                      <a:lnTo>
                        <a:pt x="971" y="93"/>
                      </a:lnTo>
                      <a:lnTo>
                        <a:pt x="953" y="89"/>
                      </a:lnTo>
                      <a:lnTo>
                        <a:pt x="940" y="84"/>
                      </a:lnTo>
                      <a:lnTo>
                        <a:pt x="931" y="80"/>
                      </a:lnTo>
                      <a:lnTo>
                        <a:pt x="918" y="80"/>
                      </a:lnTo>
                      <a:lnTo>
                        <a:pt x="904" y="75"/>
                      </a:lnTo>
                      <a:lnTo>
                        <a:pt x="891" y="75"/>
                      </a:lnTo>
                      <a:lnTo>
                        <a:pt x="865" y="75"/>
                      </a:lnTo>
                      <a:lnTo>
                        <a:pt x="838" y="75"/>
                      </a:lnTo>
                      <a:lnTo>
                        <a:pt x="794" y="70"/>
                      </a:lnTo>
                      <a:lnTo>
                        <a:pt x="768" y="70"/>
                      </a:lnTo>
                      <a:lnTo>
                        <a:pt x="719" y="70"/>
                      </a:lnTo>
                      <a:lnTo>
                        <a:pt x="706" y="70"/>
                      </a:lnTo>
                      <a:lnTo>
                        <a:pt x="688" y="70"/>
                      </a:lnTo>
                      <a:lnTo>
                        <a:pt x="666" y="70"/>
                      </a:lnTo>
                      <a:lnTo>
                        <a:pt x="600" y="70"/>
                      </a:lnTo>
                      <a:lnTo>
                        <a:pt x="556" y="75"/>
                      </a:lnTo>
                      <a:lnTo>
                        <a:pt x="525" y="75"/>
                      </a:lnTo>
                      <a:lnTo>
                        <a:pt x="516" y="75"/>
                      </a:lnTo>
                      <a:lnTo>
                        <a:pt x="503" y="80"/>
                      </a:lnTo>
                      <a:lnTo>
                        <a:pt x="490" y="84"/>
                      </a:lnTo>
                      <a:lnTo>
                        <a:pt x="477" y="89"/>
                      </a:lnTo>
                      <a:lnTo>
                        <a:pt x="468" y="93"/>
                      </a:lnTo>
                      <a:lnTo>
                        <a:pt x="455" y="102"/>
                      </a:lnTo>
                      <a:lnTo>
                        <a:pt x="441" y="111"/>
                      </a:lnTo>
                      <a:lnTo>
                        <a:pt x="433" y="115"/>
                      </a:lnTo>
                      <a:lnTo>
                        <a:pt x="419" y="128"/>
                      </a:lnTo>
                      <a:lnTo>
                        <a:pt x="411" y="133"/>
                      </a:lnTo>
                      <a:lnTo>
                        <a:pt x="397" y="146"/>
                      </a:lnTo>
                      <a:lnTo>
                        <a:pt x="389" y="155"/>
                      </a:lnTo>
                      <a:lnTo>
                        <a:pt x="375" y="164"/>
                      </a:lnTo>
                      <a:lnTo>
                        <a:pt x="357" y="172"/>
                      </a:lnTo>
                      <a:lnTo>
                        <a:pt x="352" y="177"/>
                      </a:lnTo>
                      <a:lnTo>
                        <a:pt x="335" y="186"/>
                      </a:lnTo>
                      <a:lnTo>
                        <a:pt x="321" y="195"/>
                      </a:lnTo>
                      <a:lnTo>
                        <a:pt x="313" y="199"/>
                      </a:lnTo>
                      <a:lnTo>
                        <a:pt x="299" y="203"/>
                      </a:lnTo>
                      <a:lnTo>
                        <a:pt x="286" y="208"/>
                      </a:lnTo>
                      <a:lnTo>
                        <a:pt x="273" y="212"/>
                      </a:lnTo>
                      <a:lnTo>
                        <a:pt x="260" y="222"/>
                      </a:lnTo>
                      <a:lnTo>
                        <a:pt x="246" y="226"/>
                      </a:lnTo>
                      <a:lnTo>
                        <a:pt x="233" y="231"/>
                      </a:lnTo>
                      <a:lnTo>
                        <a:pt x="220" y="240"/>
                      </a:lnTo>
                      <a:lnTo>
                        <a:pt x="202" y="240"/>
                      </a:lnTo>
                      <a:lnTo>
                        <a:pt x="185" y="244"/>
                      </a:lnTo>
                      <a:lnTo>
                        <a:pt x="176" y="244"/>
                      </a:lnTo>
                      <a:lnTo>
                        <a:pt x="163" y="248"/>
                      </a:lnTo>
                      <a:lnTo>
                        <a:pt x="149" y="253"/>
                      </a:lnTo>
                      <a:lnTo>
                        <a:pt x="136" y="257"/>
                      </a:lnTo>
                      <a:lnTo>
                        <a:pt x="123" y="262"/>
                      </a:lnTo>
                      <a:lnTo>
                        <a:pt x="110" y="266"/>
                      </a:lnTo>
                      <a:lnTo>
                        <a:pt x="97" y="266"/>
                      </a:lnTo>
                      <a:lnTo>
                        <a:pt x="83" y="270"/>
                      </a:lnTo>
                      <a:lnTo>
                        <a:pt x="70" y="270"/>
                      </a:lnTo>
                      <a:lnTo>
                        <a:pt x="61" y="270"/>
                      </a:lnTo>
                      <a:lnTo>
                        <a:pt x="44" y="270"/>
                      </a:lnTo>
                      <a:lnTo>
                        <a:pt x="30" y="270"/>
                      </a:lnTo>
                      <a:lnTo>
                        <a:pt x="17" y="262"/>
                      </a:lnTo>
                      <a:lnTo>
                        <a:pt x="13" y="244"/>
                      </a:lnTo>
                      <a:lnTo>
                        <a:pt x="8" y="231"/>
                      </a:lnTo>
                      <a:lnTo>
                        <a:pt x="4" y="212"/>
                      </a:lnTo>
                      <a:lnTo>
                        <a:pt x="4" y="199"/>
                      </a:lnTo>
                      <a:lnTo>
                        <a:pt x="0" y="186"/>
                      </a:lnTo>
                      <a:lnTo>
                        <a:pt x="0" y="168"/>
                      </a:lnTo>
                      <a:lnTo>
                        <a:pt x="0" y="177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33480" y="5083200"/>
                  <a:ext cx="540000" cy="149760"/>
                </a:xfrm>
                <a:custGeom>
                  <a:avLst/>
                  <a:gdLst/>
                  <a:ahLst/>
                  <a:rect l="0" t="0" r="r" b="b"/>
                  <a:pathLst>
                    <a:path w="1500" h="416">
                      <a:moveTo>
                        <a:pt x="35" y="159"/>
                      </a:moveTo>
                      <a:lnTo>
                        <a:pt x="66" y="142"/>
                      </a:lnTo>
                      <a:lnTo>
                        <a:pt x="105" y="124"/>
                      </a:lnTo>
                      <a:lnTo>
                        <a:pt x="123" y="111"/>
                      </a:lnTo>
                      <a:lnTo>
                        <a:pt x="149" y="101"/>
                      </a:lnTo>
                      <a:lnTo>
                        <a:pt x="163" y="92"/>
                      </a:lnTo>
                      <a:lnTo>
                        <a:pt x="189" y="79"/>
                      </a:lnTo>
                      <a:lnTo>
                        <a:pt x="202" y="74"/>
                      </a:lnTo>
                      <a:lnTo>
                        <a:pt x="216" y="70"/>
                      </a:lnTo>
                      <a:lnTo>
                        <a:pt x="242" y="57"/>
                      </a:lnTo>
                      <a:lnTo>
                        <a:pt x="268" y="48"/>
                      </a:lnTo>
                      <a:lnTo>
                        <a:pt x="286" y="39"/>
                      </a:lnTo>
                      <a:lnTo>
                        <a:pt x="317" y="35"/>
                      </a:lnTo>
                      <a:lnTo>
                        <a:pt x="330" y="30"/>
                      </a:lnTo>
                      <a:lnTo>
                        <a:pt x="366" y="22"/>
                      </a:lnTo>
                      <a:lnTo>
                        <a:pt x="392" y="17"/>
                      </a:lnTo>
                      <a:lnTo>
                        <a:pt x="467" y="8"/>
                      </a:lnTo>
                      <a:lnTo>
                        <a:pt x="485" y="4"/>
                      </a:lnTo>
                      <a:lnTo>
                        <a:pt x="511" y="4"/>
                      </a:lnTo>
                      <a:lnTo>
                        <a:pt x="551" y="0"/>
                      </a:lnTo>
                      <a:lnTo>
                        <a:pt x="573" y="0"/>
                      </a:lnTo>
                      <a:lnTo>
                        <a:pt x="595" y="0"/>
                      </a:lnTo>
                      <a:lnTo>
                        <a:pt x="630" y="0"/>
                      </a:lnTo>
                      <a:lnTo>
                        <a:pt x="652" y="0"/>
                      </a:lnTo>
                      <a:lnTo>
                        <a:pt x="665" y="0"/>
                      </a:lnTo>
                      <a:lnTo>
                        <a:pt x="718" y="0"/>
                      </a:lnTo>
                      <a:lnTo>
                        <a:pt x="732" y="0"/>
                      </a:lnTo>
                      <a:lnTo>
                        <a:pt x="755" y="0"/>
                      </a:lnTo>
                      <a:lnTo>
                        <a:pt x="772" y="0"/>
                      </a:lnTo>
                      <a:lnTo>
                        <a:pt x="799" y="0"/>
                      </a:lnTo>
                      <a:lnTo>
                        <a:pt x="812" y="0"/>
                      </a:lnTo>
                      <a:lnTo>
                        <a:pt x="843" y="0"/>
                      </a:lnTo>
                      <a:lnTo>
                        <a:pt x="865" y="0"/>
                      </a:lnTo>
                      <a:lnTo>
                        <a:pt x="891" y="4"/>
                      </a:lnTo>
                      <a:lnTo>
                        <a:pt x="900" y="4"/>
                      </a:lnTo>
                      <a:lnTo>
                        <a:pt x="927" y="8"/>
                      </a:lnTo>
                      <a:lnTo>
                        <a:pt x="957" y="13"/>
                      </a:lnTo>
                      <a:lnTo>
                        <a:pt x="984" y="17"/>
                      </a:lnTo>
                      <a:lnTo>
                        <a:pt x="1046" y="30"/>
                      </a:lnTo>
                      <a:lnTo>
                        <a:pt x="1099" y="39"/>
                      </a:lnTo>
                      <a:lnTo>
                        <a:pt x="1129" y="44"/>
                      </a:lnTo>
                      <a:lnTo>
                        <a:pt x="1160" y="52"/>
                      </a:lnTo>
                      <a:lnTo>
                        <a:pt x="1182" y="57"/>
                      </a:lnTo>
                      <a:lnTo>
                        <a:pt x="1204" y="70"/>
                      </a:lnTo>
                      <a:lnTo>
                        <a:pt x="1235" y="79"/>
                      </a:lnTo>
                      <a:lnTo>
                        <a:pt x="1262" y="88"/>
                      </a:lnTo>
                      <a:lnTo>
                        <a:pt x="1275" y="92"/>
                      </a:lnTo>
                      <a:lnTo>
                        <a:pt x="1297" y="101"/>
                      </a:lnTo>
                      <a:lnTo>
                        <a:pt x="1319" y="111"/>
                      </a:lnTo>
                      <a:lnTo>
                        <a:pt x="1345" y="124"/>
                      </a:lnTo>
                      <a:lnTo>
                        <a:pt x="1368" y="133"/>
                      </a:lnTo>
                      <a:lnTo>
                        <a:pt x="1398" y="146"/>
                      </a:lnTo>
                      <a:lnTo>
                        <a:pt x="1420" y="164"/>
                      </a:lnTo>
                      <a:lnTo>
                        <a:pt x="1447" y="177"/>
                      </a:lnTo>
                      <a:lnTo>
                        <a:pt x="1465" y="190"/>
                      </a:lnTo>
                      <a:lnTo>
                        <a:pt x="1465" y="195"/>
                      </a:lnTo>
                      <a:lnTo>
                        <a:pt x="1478" y="208"/>
                      </a:lnTo>
                      <a:lnTo>
                        <a:pt x="1482" y="221"/>
                      </a:lnTo>
                      <a:lnTo>
                        <a:pt x="1482" y="239"/>
                      </a:lnTo>
                      <a:lnTo>
                        <a:pt x="1487" y="252"/>
                      </a:lnTo>
                      <a:lnTo>
                        <a:pt x="1491" y="265"/>
                      </a:lnTo>
                      <a:lnTo>
                        <a:pt x="1491" y="287"/>
                      </a:lnTo>
                      <a:lnTo>
                        <a:pt x="1495" y="296"/>
                      </a:lnTo>
                      <a:lnTo>
                        <a:pt x="1495" y="315"/>
                      </a:lnTo>
                      <a:lnTo>
                        <a:pt x="1500" y="328"/>
                      </a:lnTo>
                      <a:lnTo>
                        <a:pt x="1500" y="341"/>
                      </a:lnTo>
                      <a:lnTo>
                        <a:pt x="1500" y="359"/>
                      </a:lnTo>
                      <a:lnTo>
                        <a:pt x="1500" y="372"/>
                      </a:lnTo>
                      <a:lnTo>
                        <a:pt x="1500" y="385"/>
                      </a:lnTo>
                      <a:lnTo>
                        <a:pt x="1500" y="403"/>
                      </a:lnTo>
                      <a:lnTo>
                        <a:pt x="1500" y="416"/>
                      </a:lnTo>
                      <a:lnTo>
                        <a:pt x="1487" y="407"/>
                      </a:lnTo>
                      <a:lnTo>
                        <a:pt x="1478" y="403"/>
                      </a:lnTo>
                      <a:lnTo>
                        <a:pt x="1465" y="394"/>
                      </a:lnTo>
                      <a:lnTo>
                        <a:pt x="1442" y="385"/>
                      </a:lnTo>
                      <a:lnTo>
                        <a:pt x="1412" y="372"/>
                      </a:lnTo>
                      <a:lnTo>
                        <a:pt x="1363" y="345"/>
                      </a:lnTo>
                      <a:lnTo>
                        <a:pt x="1354" y="337"/>
                      </a:lnTo>
                      <a:lnTo>
                        <a:pt x="1341" y="332"/>
                      </a:lnTo>
                      <a:lnTo>
                        <a:pt x="1328" y="323"/>
                      </a:lnTo>
                      <a:lnTo>
                        <a:pt x="1315" y="319"/>
                      </a:lnTo>
                      <a:lnTo>
                        <a:pt x="1301" y="315"/>
                      </a:lnTo>
                      <a:lnTo>
                        <a:pt x="1288" y="305"/>
                      </a:lnTo>
                      <a:lnTo>
                        <a:pt x="1275" y="300"/>
                      </a:lnTo>
                      <a:lnTo>
                        <a:pt x="1266" y="296"/>
                      </a:lnTo>
                      <a:lnTo>
                        <a:pt x="1253" y="292"/>
                      </a:lnTo>
                      <a:lnTo>
                        <a:pt x="1240" y="287"/>
                      </a:lnTo>
                      <a:lnTo>
                        <a:pt x="1231" y="283"/>
                      </a:lnTo>
                      <a:lnTo>
                        <a:pt x="1218" y="278"/>
                      </a:lnTo>
                      <a:lnTo>
                        <a:pt x="1204" y="274"/>
                      </a:lnTo>
                      <a:lnTo>
                        <a:pt x="1138" y="247"/>
                      </a:lnTo>
                      <a:lnTo>
                        <a:pt x="1103" y="239"/>
                      </a:lnTo>
                      <a:lnTo>
                        <a:pt x="1085" y="239"/>
                      </a:lnTo>
                      <a:lnTo>
                        <a:pt x="1072" y="234"/>
                      </a:lnTo>
                      <a:lnTo>
                        <a:pt x="1050" y="230"/>
                      </a:lnTo>
                      <a:lnTo>
                        <a:pt x="1028" y="221"/>
                      </a:lnTo>
                      <a:lnTo>
                        <a:pt x="997" y="217"/>
                      </a:lnTo>
                      <a:lnTo>
                        <a:pt x="984" y="212"/>
                      </a:lnTo>
                      <a:lnTo>
                        <a:pt x="966" y="208"/>
                      </a:lnTo>
                      <a:lnTo>
                        <a:pt x="949" y="208"/>
                      </a:lnTo>
                      <a:lnTo>
                        <a:pt x="913" y="203"/>
                      </a:lnTo>
                      <a:lnTo>
                        <a:pt x="891" y="199"/>
                      </a:lnTo>
                      <a:lnTo>
                        <a:pt x="874" y="199"/>
                      </a:lnTo>
                      <a:lnTo>
                        <a:pt x="852" y="195"/>
                      </a:lnTo>
                      <a:lnTo>
                        <a:pt x="830" y="195"/>
                      </a:lnTo>
                      <a:lnTo>
                        <a:pt x="812" y="190"/>
                      </a:lnTo>
                      <a:lnTo>
                        <a:pt x="785" y="190"/>
                      </a:lnTo>
                      <a:lnTo>
                        <a:pt x="768" y="190"/>
                      </a:lnTo>
                      <a:lnTo>
                        <a:pt x="749" y="190"/>
                      </a:lnTo>
                      <a:lnTo>
                        <a:pt x="718" y="190"/>
                      </a:lnTo>
                      <a:lnTo>
                        <a:pt x="679" y="190"/>
                      </a:lnTo>
                      <a:lnTo>
                        <a:pt x="657" y="190"/>
                      </a:lnTo>
                      <a:lnTo>
                        <a:pt x="630" y="190"/>
                      </a:lnTo>
                      <a:lnTo>
                        <a:pt x="608" y="190"/>
                      </a:lnTo>
                      <a:lnTo>
                        <a:pt x="595" y="190"/>
                      </a:lnTo>
                      <a:lnTo>
                        <a:pt x="555" y="195"/>
                      </a:lnTo>
                      <a:lnTo>
                        <a:pt x="537" y="195"/>
                      </a:lnTo>
                      <a:lnTo>
                        <a:pt x="524" y="199"/>
                      </a:lnTo>
                      <a:lnTo>
                        <a:pt x="511" y="199"/>
                      </a:lnTo>
                      <a:lnTo>
                        <a:pt x="489" y="203"/>
                      </a:lnTo>
                      <a:lnTo>
                        <a:pt x="467" y="208"/>
                      </a:lnTo>
                      <a:lnTo>
                        <a:pt x="440" y="212"/>
                      </a:lnTo>
                      <a:lnTo>
                        <a:pt x="405" y="221"/>
                      </a:lnTo>
                      <a:lnTo>
                        <a:pt x="366" y="234"/>
                      </a:lnTo>
                      <a:lnTo>
                        <a:pt x="343" y="239"/>
                      </a:lnTo>
                      <a:lnTo>
                        <a:pt x="326" y="243"/>
                      </a:lnTo>
                      <a:lnTo>
                        <a:pt x="317" y="247"/>
                      </a:lnTo>
                      <a:lnTo>
                        <a:pt x="299" y="252"/>
                      </a:lnTo>
                      <a:lnTo>
                        <a:pt x="286" y="256"/>
                      </a:lnTo>
                      <a:lnTo>
                        <a:pt x="277" y="261"/>
                      </a:lnTo>
                      <a:lnTo>
                        <a:pt x="233" y="283"/>
                      </a:lnTo>
                      <a:lnTo>
                        <a:pt x="194" y="296"/>
                      </a:lnTo>
                      <a:lnTo>
                        <a:pt x="180" y="300"/>
                      </a:lnTo>
                      <a:lnTo>
                        <a:pt x="167" y="305"/>
                      </a:lnTo>
                      <a:lnTo>
                        <a:pt x="154" y="315"/>
                      </a:lnTo>
                      <a:lnTo>
                        <a:pt x="145" y="319"/>
                      </a:lnTo>
                      <a:lnTo>
                        <a:pt x="132" y="323"/>
                      </a:lnTo>
                      <a:lnTo>
                        <a:pt x="119" y="328"/>
                      </a:lnTo>
                      <a:lnTo>
                        <a:pt x="110" y="332"/>
                      </a:lnTo>
                      <a:lnTo>
                        <a:pt x="83" y="341"/>
                      </a:lnTo>
                      <a:lnTo>
                        <a:pt x="70" y="345"/>
                      </a:lnTo>
                      <a:lnTo>
                        <a:pt x="57" y="354"/>
                      </a:lnTo>
                      <a:lnTo>
                        <a:pt x="44" y="359"/>
                      </a:lnTo>
                      <a:lnTo>
                        <a:pt x="30" y="363"/>
                      </a:lnTo>
                      <a:lnTo>
                        <a:pt x="22" y="368"/>
                      </a:lnTo>
                      <a:lnTo>
                        <a:pt x="8" y="372"/>
                      </a:lnTo>
                      <a:lnTo>
                        <a:pt x="0" y="372"/>
                      </a:lnTo>
                      <a:lnTo>
                        <a:pt x="0" y="359"/>
                      </a:lnTo>
                      <a:lnTo>
                        <a:pt x="0" y="341"/>
                      </a:lnTo>
                      <a:lnTo>
                        <a:pt x="0" y="328"/>
                      </a:lnTo>
                      <a:lnTo>
                        <a:pt x="0" y="315"/>
                      </a:lnTo>
                      <a:lnTo>
                        <a:pt x="0" y="296"/>
                      </a:lnTo>
                      <a:lnTo>
                        <a:pt x="0" y="283"/>
                      </a:lnTo>
                      <a:lnTo>
                        <a:pt x="0" y="265"/>
                      </a:lnTo>
                      <a:lnTo>
                        <a:pt x="4" y="230"/>
                      </a:lnTo>
                      <a:lnTo>
                        <a:pt x="8" y="203"/>
                      </a:lnTo>
                      <a:lnTo>
                        <a:pt x="13" y="186"/>
                      </a:lnTo>
                      <a:lnTo>
                        <a:pt x="26" y="164"/>
                      </a:lnTo>
                      <a:lnTo>
                        <a:pt x="35" y="159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9" name=""/>
              <p:cNvGrpSpPr/>
              <p:nvPr/>
            </p:nvGrpSpPr>
            <p:grpSpPr>
              <a:xfrm>
                <a:off x="941400" y="5146560"/>
                <a:ext cx="519480" cy="319680"/>
                <a:chOff x="941400" y="5146560"/>
                <a:chExt cx="519480" cy="319680"/>
              </a:xfrm>
            </p:grpSpPr>
            <p:grpSp>
              <p:nvGrpSpPr>
                <p:cNvPr id="1180" name=""/>
                <p:cNvGrpSpPr/>
                <p:nvPr/>
              </p:nvGrpSpPr>
              <p:grpSpPr>
                <a:xfrm>
                  <a:off x="941400" y="5146560"/>
                  <a:ext cx="519480" cy="319680"/>
                  <a:chOff x="941400" y="5146560"/>
                  <a:chExt cx="519480" cy="319680"/>
                </a:xfrm>
              </p:grpSpPr>
              <p:sp>
                <p:nvSpPr>
                  <p:cNvPr id="1181" name=""/>
                  <p:cNvSpPr/>
                  <p:nvPr/>
                </p:nvSpPr>
                <p:spPr>
                  <a:xfrm>
                    <a:off x="942840" y="5146560"/>
                    <a:ext cx="518040" cy="249480"/>
                  </a:xfrm>
                  <a:custGeom>
                    <a:avLst/>
                    <a:gdLst/>
                    <a:ahLst/>
                    <a:rect l="0" t="0" r="r" b="b"/>
                    <a:pathLst>
                      <a:path w="1439" h="693">
                        <a:moveTo>
                          <a:pt x="0" y="693"/>
                        </a:moveTo>
                        <a:lnTo>
                          <a:pt x="0" y="202"/>
                        </a:lnTo>
                        <a:lnTo>
                          <a:pt x="402" y="88"/>
                        </a:lnTo>
                        <a:lnTo>
                          <a:pt x="424" y="0"/>
                        </a:lnTo>
                        <a:lnTo>
                          <a:pt x="481" y="4"/>
                        </a:lnTo>
                        <a:lnTo>
                          <a:pt x="499" y="88"/>
                        </a:lnTo>
                        <a:lnTo>
                          <a:pt x="913" y="88"/>
                        </a:lnTo>
                        <a:lnTo>
                          <a:pt x="927" y="4"/>
                        </a:lnTo>
                        <a:lnTo>
                          <a:pt x="984" y="4"/>
                        </a:lnTo>
                        <a:lnTo>
                          <a:pt x="1002" y="88"/>
                        </a:lnTo>
                        <a:lnTo>
                          <a:pt x="1439" y="233"/>
                        </a:lnTo>
                        <a:lnTo>
                          <a:pt x="1439" y="688"/>
                        </a:lnTo>
                        <a:lnTo>
                          <a:pt x="0" y="693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941400" y="5394240"/>
                    <a:ext cx="519480" cy="46440"/>
                  </a:xfrm>
                  <a:custGeom>
                    <a:avLst/>
                    <a:gdLst/>
                    <a:ahLst/>
                    <a:rect l="0" t="0" r="r" b="b"/>
                    <a:pathLst>
                      <a:path w="1443" h="129">
                        <a:moveTo>
                          <a:pt x="0" y="0"/>
                        </a:moveTo>
                        <a:lnTo>
                          <a:pt x="17" y="129"/>
                        </a:lnTo>
                        <a:lnTo>
                          <a:pt x="1417" y="129"/>
                        </a:lnTo>
                        <a:lnTo>
                          <a:pt x="1443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950760" y="5440320"/>
                    <a:ext cx="5004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390" h="72">
                        <a:moveTo>
                          <a:pt x="0" y="0"/>
                        </a:moveTo>
                        <a:lnTo>
                          <a:pt x="57" y="72"/>
                        </a:lnTo>
                        <a:lnTo>
                          <a:pt x="1337" y="72"/>
                        </a:lnTo>
                        <a:lnTo>
                          <a:pt x="139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ecece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4" name=""/>
                <p:cNvGrpSpPr/>
                <p:nvPr/>
              </p:nvGrpSpPr>
              <p:grpSpPr>
                <a:xfrm>
                  <a:off x="1077840" y="5216400"/>
                  <a:ext cx="227160" cy="117360"/>
                  <a:chOff x="1077840" y="5216400"/>
                  <a:chExt cx="227160" cy="117360"/>
                </a:xfrm>
              </p:grpSpPr>
              <p:grpSp>
                <p:nvGrpSpPr>
                  <p:cNvPr id="1185" name=""/>
                  <p:cNvGrpSpPr/>
                  <p:nvPr/>
                </p:nvGrpSpPr>
                <p:grpSpPr>
                  <a:xfrm>
                    <a:off x="1077840" y="5216400"/>
                    <a:ext cx="227160" cy="114120"/>
                    <a:chOff x="1077840" y="5216400"/>
                    <a:chExt cx="227160" cy="114120"/>
                  </a:xfrm>
                </p:grpSpPr>
                <p:sp>
                  <p:nvSpPr>
                    <p:cNvPr id="1186" name=""/>
                    <p:cNvSpPr/>
                    <p:nvPr/>
                  </p:nvSpPr>
                  <p:spPr>
                    <a:xfrm>
                      <a:off x="1077840" y="5216400"/>
                      <a:ext cx="2052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7" name=""/>
                    <p:cNvSpPr/>
                    <p:nvPr/>
                  </p:nvSpPr>
                  <p:spPr>
                    <a:xfrm>
                      <a:off x="1135080" y="5216400"/>
                      <a:ext cx="2052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8" name=""/>
                    <p:cNvSpPr/>
                    <p:nvPr/>
                  </p:nvSpPr>
                  <p:spPr>
                    <a:xfrm>
                      <a:off x="1181160" y="5216400"/>
                      <a:ext cx="2052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9" name=""/>
                    <p:cNvSpPr/>
                    <p:nvPr/>
                  </p:nvSpPr>
                  <p:spPr>
                    <a:xfrm>
                      <a:off x="1227240" y="5216400"/>
                      <a:ext cx="2052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0" name=""/>
                    <p:cNvSpPr/>
                    <p:nvPr/>
                  </p:nvSpPr>
                  <p:spPr>
                    <a:xfrm>
                      <a:off x="1282680" y="5216400"/>
                      <a:ext cx="2232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>
                      <a:off x="1135080" y="5251320"/>
                      <a:ext cx="20520" cy="9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>
                      <a:off x="1181160" y="5251320"/>
                      <a:ext cx="20520" cy="9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>
                      <a:off x="1227240" y="5251320"/>
                      <a:ext cx="20520" cy="9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1135080" y="5286240"/>
                      <a:ext cx="2052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>
                      <a:off x="1181160" y="5286240"/>
                      <a:ext cx="2052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6" name=""/>
                    <p:cNvSpPr/>
                    <p:nvPr/>
                  </p:nvSpPr>
                  <p:spPr>
                    <a:xfrm>
                      <a:off x="1227240" y="5286240"/>
                      <a:ext cx="2052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7" name=""/>
                    <p:cNvSpPr/>
                    <p:nvPr/>
                  </p:nvSpPr>
                  <p:spPr>
                    <a:xfrm>
                      <a:off x="1135080" y="5321160"/>
                      <a:ext cx="20520" cy="9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8" name=""/>
                    <p:cNvSpPr/>
                    <p:nvPr/>
                  </p:nvSpPr>
                  <p:spPr>
                    <a:xfrm>
                      <a:off x="1181160" y="5321160"/>
                      <a:ext cx="20520" cy="9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9" name=""/>
                    <p:cNvSpPr/>
                    <p:nvPr/>
                  </p:nvSpPr>
                  <p:spPr>
                    <a:xfrm>
                      <a:off x="1227240" y="5321160"/>
                      <a:ext cx="20520" cy="9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0" name=""/>
                    <p:cNvSpPr/>
                    <p:nvPr/>
                  </p:nvSpPr>
                  <p:spPr>
                    <a:xfrm>
                      <a:off x="1077840" y="5307120"/>
                      <a:ext cx="2052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1" name=""/>
                    <p:cNvSpPr/>
                    <p:nvPr/>
                  </p:nvSpPr>
                  <p:spPr>
                    <a:xfrm>
                      <a:off x="1077840" y="5251320"/>
                      <a:ext cx="20520" cy="9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2" name=""/>
                    <p:cNvSpPr/>
                    <p:nvPr/>
                  </p:nvSpPr>
                  <p:spPr>
                    <a:xfrm>
                      <a:off x="1282680" y="5307120"/>
                      <a:ext cx="2232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3" name=""/>
                    <p:cNvSpPr/>
                    <p:nvPr/>
                  </p:nvSpPr>
                  <p:spPr>
                    <a:xfrm>
                      <a:off x="1282680" y="5251320"/>
                      <a:ext cx="22320" cy="9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4" name=""/>
                  <p:cNvGrpSpPr/>
                  <p:nvPr/>
                </p:nvGrpSpPr>
                <p:grpSpPr>
                  <a:xfrm>
                    <a:off x="1077840" y="5216400"/>
                    <a:ext cx="24120" cy="12600"/>
                    <a:chOff x="1077840" y="5216400"/>
                    <a:chExt cx="24120" cy="12600"/>
                  </a:xfrm>
                </p:grpSpPr>
                <p:sp>
                  <p:nvSpPr>
                    <p:cNvPr id="1205" name=""/>
                    <p:cNvSpPr/>
                    <p:nvPr/>
                  </p:nvSpPr>
                  <p:spPr>
                    <a:xfrm>
                      <a:off x="1079640" y="5219640"/>
                      <a:ext cx="2232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6" name=""/>
                    <p:cNvSpPr/>
                    <p:nvPr/>
                  </p:nvSpPr>
                  <p:spPr>
                    <a:xfrm>
                      <a:off x="1077840" y="5216400"/>
                      <a:ext cx="1908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7" name=""/>
                  <p:cNvGrpSpPr/>
                  <p:nvPr/>
                </p:nvGrpSpPr>
                <p:grpSpPr>
                  <a:xfrm>
                    <a:off x="1135080" y="5216400"/>
                    <a:ext cx="21960" cy="12600"/>
                    <a:chOff x="1135080" y="5216400"/>
                    <a:chExt cx="21960" cy="12600"/>
                  </a:xfrm>
                </p:grpSpPr>
                <p:sp>
                  <p:nvSpPr>
                    <p:cNvPr id="1208" name=""/>
                    <p:cNvSpPr/>
                    <p:nvPr/>
                  </p:nvSpPr>
                  <p:spPr>
                    <a:xfrm>
                      <a:off x="1136520" y="5219640"/>
                      <a:ext cx="2052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9" name=""/>
                    <p:cNvSpPr/>
                    <p:nvPr/>
                  </p:nvSpPr>
                  <p:spPr>
                    <a:xfrm>
                      <a:off x="1135080" y="5216400"/>
                      <a:ext cx="2052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0" name=""/>
                  <p:cNvGrpSpPr/>
                  <p:nvPr/>
                </p:nvGrpSpPr>
                <p:grpSpPr>
                  <a:xfrm>
                    <a:off x="1182600" y="5216400"/>
                    <a:ext cx="20520" cy="12600"/>
                    <a:chOff x="1182600" y="5216400"/>
                    <a:chExt cx="20520" cy="12600"/>
                  </a:xfrm>
                </p:grpSpPr>
                <p:sp>
                  <p:nvSpPr>
                    <p:cNvPr id="1211" name=""/>
                    <p:cNvSpPr/>
                    <p:nvPr/>
                  </p:nvSpPr>
                  <p:spPr>
                    <a:xfrm>
                      <a:off x="1182600" y="5219640"/>
                      <a:ext cx="2052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2" name=""/>
                    <p:cNvSpPr/>
                    <p:nvPr/>
                  </p:nvSpPr>
                  <p:spPr>
                    <a:xfrm>
                      <a:off x="1182600" y="5216400"/>
                      <a:ext cx="1764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3" name=""/>
                  <p:cNvGrpSpPr/>
                  <p:nvPr/>
                </p:nvGrpSpPr>
                <p:grpSpPr>
                  <a:xfrm>
                    <a:off x="1228680" y="5216400"/>
                    <a:ext cx="22320" cy="12600"/>
                    <a:chOff x="1228680" y="5216400"/>
                    <a:chExt cx="22320" cy="12600"/>
                  </a:xfrm>
                </p:grpSpPr>
                <p:sp>
                  <p:nvSpPr>
                    <p:cNvPr id="1214" name=""/>
                    <p:cNvSpPr/>
                    <p:nvPr/>
                  </p:nvSpPr>
                  <p:spPr>
                    <a:xfrm>
                      <a:off x="1230480" y="5219640"/>
                      <a:ext cx="2052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5" name=""/>
                    <p:cNvSpPr/>
                    <p:nvPr/>
                  </p:nvSpPr>
                  <p:spPr>
                    <a:xfrm>
                      <a:off x="1228680" y="5216400"/>
                      <a:ext cx="1908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6" name=""/>
                  <p:cNvGrpSpPr/>
                  <p:nvPr/>
                </p:nvGrpSpPr>
                <p:grpSpPr>
                  <a:xfrm>
                    <a:off x="1284120" y="5216400"/>
                    <a:ext cx="20880" cy="12600"/>
                    <a:chOff x="1284120" y="5216400"/>
                    <a:chExt cx="20880" cy="12600"/>
                  </a:xfrm>
                </p:grpSpPr>
                <p:sp>
                  <p:nvSpPr>
                    <p:cNvPr id="1217" name=""/>
                    <p:cNvSpPr/>
                    <p:nvPr/>
                  </p:nvSpPr>
                  <p:spPr>
                    <a:xfrm>
                      <a:off x="1285920" y="5219640"/>
                      <a:ext cx="1908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8" name=""/>
                    <p:cNvSpPr/>
                    <p:nvPr/>
                  </p:nvSpPr>
                  <p:spPr>
                    <a:xfrm>
                      <a:off x="1284120" y="5216400"/>
                      <a:ext cx="1908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9" name=""/>
                  <p:cNvGrpSpPr/>
                  <p:nvPr/>
                </p:nvGrpSpPr>
                <p:grpSpPr>
                  <a:xfrm>
                    <a:off x="1135080" y="5253120"/>
                    <a:ext cx="21960" cy="11160"/>
                    <a:chOff x="1135080" y="5253120"/>
                    <a:chExt cx="21960" cy="11160"/>
                  </a:xfrm>
                </p:grpSpPr>
                <p:sp>
                  <p:nvSpPr>
                    <p:cNvPr id="1220" name=""/>
                    <p:cNvSpPr/>
                    <p:nvPr/>
                  </p:nvSpPr>
                  <p:spPr>
                    <a:xfrm>
                      <a:off x="1136520" y="5256360"/>
                      <a:ext cx="2052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1" name=""/>
                    <p:cNvSpPr/>
                    <p:nvPr/>
                  </p:nvSpPr>
                  <p:spPr>
                    <a:xfrm>
                      <a:off x="1135080" y="5253120"/>
                      <a:ext cx="2052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2" name=""/>
                  <p:cNvGrpSpPr/>
                  <p:nvPr/>
                </p:nvGrpSpPr>
                <p:grpSpPr>
                  <a:xfrm>
                    <a:off x="1182600" y="5253120"/>
                    <a:ext cx="20520" cy="10800"/>
                    <a:chOff x="1182600" y="5253120"/>
                    <a:chExt cx="20520" cy="10800"/>
                  </a:xfrm>
                </p:grpSpPr>
                <p:sp>
                  <p:nvSpPr>
                    <p:cNvPr id="1223" name=""/>
                    <p:cNvSpPr/>
                    <p:nvPr/>
                  </p:nvSpPr>
                  <p:spPr>
                    <a:xfrm>
                      <a:off x="1182600" y="5254560"/>
                      <a:ext cx="2052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4" name=""/>
                    <p:cNvSpPr/>
                    <p:nvPr/>
                  </p:nvSpPr>
                  <p:spPr>
                    <a:xfrm>
                      <a:off x="1182600" y="5253120"/>
                      <a:ext cx="1764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5" name=""/>
                  <p:cNvGrpSpPr/>
                  <p:nvPr/>
                </p:nvGrpSpPr>
                <p:grpSpPr>
                  <a:xfrm>
                    <a:off x="1228680" y="5253120"/>
                    <a:ext cx="22320" cy="10800"/>
                    <a:chOff x="1228680" y="5253120"/>
                    <a:chExt cx="22320" cy="10800"/>
                  </a:xfrm>
                </p:grpSpPr>
                <p:sp>
                  <p:nvSpPr>
                    <p:cNvPr id="1226" name=""/>
                    <p:cNvSpPr/>
                    <p:nvPr/>
                  </p:nvSpPr>
                  <p:spPr>
                    <a:xfrm>
                      <a:off x="1230480" y="5254560"/>
                      <a:ext cx="2052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7" name=""/>
                    <p:cNvSpPr/>
                    <p:nvPr/>
                  </p:nvSpPr>
                  <p:spPr>
                    <a:xfrm>
                      <a:off x="1228680" y="5253120"/>
                      <a:ext cx="1908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8" name=""/>
                  <p:cNvGrpSpPr/>
                  <p:nvPr/>
                </p:nvGrpSpPr>
                <p:grpSpPr>
                  <a:xfrm>
                    <a:off x="1135080" y="5288040"/>
                    <a:ext cx="21960" cy="9360"/>
                    <a:chOff x="1135080" y="5288040"/>
                    <a:chExt cx="21960" cy="9360"/>
                  </a:xfrm>
                </p:grpSpPr>
                <p:sp>
                  <p:nvSpPr>
                    <p:cNvPr id="1229" name=""/>
                    <p:cNvSpPr/>
                    <p:nvPr/>
                  </p:nvSpPr>
                  <p:spPr>
                    <a:xfrm>
                      <a:off x="1136520" y="5289480"/>
                      <a:ext cx="2052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0" name=""/>
                    <p:cNvSpPr/>
                    <p:nvPr/>
                  </p:nvSpPr>
                  <p:spPr>
                    <a:xfrm>
                      <a:off x="1135080" y="5288040"/>
                      <a:ext cx="20520" cy="648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1" name=""/>
                  <p:cNvGrpSpPr/>
                  <p:nvPr/>
                </p:nvGrpSpPr>
                <p:grpSpPr>
                  <a:xfrm>
                    <a:off x="1182600" y="5288040"/>
                    <a:ext cx="20520" cy="9360"/>
                    <a:chOff x="1182600" y="5288040"/>
                    <a:chExt cx="20520" cy="9360"/>
                  </a:xfrm>
                </p:grpSpPr>
                <p:sp>
                  <p:nvSpPr>
                    <p:cNvPr id="1232" name=""/>
                    <p:cNvSpPr/>
                    <p:nvPr/>
                  </p:nvSpPr>
                  <p:spPr>
                    <a:xfrm>
                      <a:off x="1182600" y="5289480"/>
                      <a:ext cx="2052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3" name=""/>
                    <p:cNvSpPr/>
                    <p:nvPr/>
                  </p:nvSpPr>
                  <p:spPr>
                    <a:xfrm>
                      <a:off x="1182600" y="5288040"/>
                      <a:ext cx="17640" cy="648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4" name=""/>
                  <p:cNvGrpSpPr/>
                  <p:nvPr/>
                </p:nvGrpSpPr>
                <p:grpSpPr>
                  <a:xfrm>
                    <a:off x="1228680" y="5288040"/>
                    <a:ext cx="22320" cy="9360"/>
                    <a:chOff x="1228680" y="5288040"/>
                    <a:chExt cx="22320" cy="9360"/>
                  </a:xfrm>
                </p:grpSpPr>
                <p:sp>
                  <p:nvSpPr>
                    <p:cNvPr id="1235" name=""/>
                    <p:cNvSpPr/>
                    <p:nvPr/>
                  </p:nvSpPr>
                  <p:spPr>
                    <a:xfrm>
                      <a:off x="1230480" y="5289480"/>
                      <a:ext cx="2052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6" name=""/>
                    <p:cNvSpPr/>
                    <p:nvPr/>
                  </p:nvSpPr>
                  <p:spPr>
                    <a:xfrm>
                      <a:off x="1228680" y="5288040"/>
                      <a:ext cx="19080" cy="648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7" name=""/>
                  <p:cNvGrpSpPr/>
                  <p:nvPr/>
                </p:nvGrpSpPr>
                <p:grpSpPr>
                  <a:xfrm>
                    <a:off x="1135080" y="5321160"/>
                    <a:ext cx="21960" cy="12600"/>
                    <a:chOff x="1135080" y="5321160"/>
                    <a:chExt cx="21960" cy="12600"/>
                  </a:xfrm>
                </p:grpSpPr>
                <p:sp>
                  <p:nvSpPr>
                    <p:cNvPr id="1238" name=""/>
                    <p:cNvSpPr/>
                    <p:nvPr/>
                  </p:nvSpPr>
                  <p:spPr>
                    <a:xfrm>
                      <a:off x="1136520" y="5324400"/>
                      <a:ext cx="2052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9" name=""/>
                    <p:cNvSpPr/>
                    <p:nvPr/>
                  </p:nvSpPr>
                  <p:spPr>
                    <a:xfrm>
                      <a:off x="1135080" y="5321160"/>
                      <a:ext cx="20520" cy="93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0" name=""/>
                  <p:cNvGrpSpPr/>
                  <p:nvPr/>
                </p:nvGrpSpPr>
                <p:grpSpPr>
                  <a:xfrm>
                    <a:off x="1182600" y="5321160"/>
                    <a:ext cx="20520" cy="12600"/>
                    <a:chOff x="1182600" y="5321160"/>
                    <a:chExt cx="20520" cy="12600"/>
                  </a:xfrm>
                </p:grpSpPr>
                <p:sp>
                  <p:nvSpPr>
                    <p:cNvPr id="1241" name=""/>
                    <p:cNvSpPr/>
                    <p:nvPr/>
                  </p:nvSpPr>
                  <p:spPr>
                    <a:xfrm>
                      <a:off x="1182600" y="5324400"/>
                      <a:ext cx="2052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2" name=""/>
                    <p:cNvSpPr/>
                    <p:nvPr/>
                  </p:nvSpPr>
                  <p:spPr>
                    <a:xfrm>
                      <a:off x="1182600" y="5321160"/>
                      <a:ext cx="17640" cy="93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3" name=""/>
                  <p:cNvGrpSpPr/>
                  <p:nvPr/>
                </p:nvGrpSpPr>
                <p:grpSpPr>
                  <a:xfrm>
                    <a:off x="1228680" y="5321160"/>
                    <a:ext cx="22320" cy="12600"/>
                    <a:chOff x="1228680" y="5321160"/>
                    <a:chExt cx="22320" cy="12600"/>
                  </a:xfrm>
                </p:grpSpPr>
                <p:sp>
                  <p:nvSpPr>
                    <p:cNvPr id="1244" name=""/>
                    <p:cNvSpPr/>
                    <p:nvPr/>
                  </p:nvSpPr>
                  <p:spPr>
                    <a:xfrm>
                      <a:off x="1230480" y="5324400"/>
                      <a:ext cx="2052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5" name=""/>
                    <p:cNvSpPr/>
                    <p:nvPr/>
                  </p:nvSpPr>
                  <p:spPr>
                    <a:xfrm>
                      <a:off x="1228680" y="5321160"/>
                      <a:ext cx="19080" cy="93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6" name=""/>
                  <p:cNvGrpSpPr/>
                  <p:nvPr/>
                </p:nvGrpSpPr>
                <p:grpSpPr>
                  <a:xfrm>
                    <a:off x="1077840" y="5307120"/>
                    <a:ext cx="24120" cy="12600"/>
                    <a:chOff x="1077840" y="5307120"/>
                    <a:chExt cx="24120" cy="12600"/>
                  </a:xfrm>
                </p:grpSpPr>
                <p:sp>
                  <p:nvSpPr>
                    <p:cNvPr id="1247" name=""/>
                    <p:cNvSpPr/>
                    <p:nvPr/>
                  </p:nvSpPr>
                  <p:spPr>
                    <a:xfrm>
                      <a:off x="1079640" y="5308560"/>
                      <a:ext cx="22320" cy="11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8" name=""/>
                    <p:cNvSpPr/>
                    <p:nvPr/>
                  </p:nvSpPr>
                  <p:spPr>
                    <a:xfrm>
                      <a:off x="1077840" y="5307120"/>
                      <a:ext cx="1908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9" name=""/>
                  <p:cNvGrpSpPr/>
                  <p:nvPr/>
                </p:nvGrpSpPr>
                <p:grpSpPr>
                  <a:xfrm>
                    <a:off x="1077840" y="5253120"/>
                    <a:ext cx="24120" cy="11160"/>
                    <a:chOff x="1077840" y="5253120"/>
                    <a:chExt cx="24120" cy="11160"/>
                  </a:xfrm>
                </p:grpSpPr>
                <p:sp>
                  <p:nvSpPr>
                    <p:cNvPr id="1250" name=""/>
                    <p:cNvSpPr/>
                    <p:nvPr/>
                  </p:nvSpPr>
                  <p:spPr>
                    <a:xfrm>
                      <a:off x="1079640" y="5256360"/>
                      <a:ext cx="2232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1" name=""/>
                    <p:cNvSpPr/>
                    <p:nvPr/>
                  </p:nvSpPr>
                  <p:spPr>
                    <a:xfrm>
                      <a:off x="1077840" y="5253120"/>
                      <a:ext cx="1908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2" name=""/>
                  <p:cNvGrpSpPr/>
                  <p:nvPr/>
                </p:nvGrpSpPr>
                <p:grpSpPr>
                  <a:xfrm>
                    <a:off x="1284120" y="5307120"/>
                    <a:ext cx="20880" cy="12600"/>
                    <a:chOff x="1284120" y="5307120"/>
                    <a:chExt cx="20880" cy="12600"/>
                  </a:xfrm>
                </p:grpSpPr>
                <p:sp>
                  <p:nvSpPr>
                    <p:cNvPr id="1253" name=""/>
                    <p:cNvSpPr/>
                    <p:nvPr/>
                  </p:nvSpPr>
                  <p:spPr>
                    <a:xfrm>
                      <a:off x="1285920" y="5308560"/>
                      <a:ext cx="19080" cy="11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4" name=""/>
                    <p:cNvSpPr/>
                    <p:nvPr/>
                  </p:nvSpPr>
                  <p:spPr>
                    <a:xfrm>
                      <a:off x="1284120" y="5307120"/>
                      <a:ext cx="1908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5" name=""/>
                  <p:cNvGrpSpPr/>
                  <p:nvPr/>
                </p:nvGrpSpPr>
                <p:grpSpPr>
                  <a:xfrm>
                    <a:off x="1284120" y="5253120"/>
                    <a:ext cx="20880" cy="11160"/>
                    <a:chOff x="1284120" y="5253120"/>
                    <a:chExt cx="20880" cy="11160"/>
                  </a:xfrm>
                </p:grpSpPr>
                <p:sp>
                  <p:nvSpPr>
                    <p:cNvPr id="1256" name=""/>
                    <p:cNvSpPr/>
                    <p:nvPr/>
                  </p:nvSpPr>
                  <p:spPr>
                    <a:xfrm>
                      <a:off x="1285920" y="5256360"/>
                      <a:ext cx="1908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7" name=""/>
                    <p:cNvSpPr/>
                    <p:nvPr/>
                  </p:nvSpPr>
                  <p:spPr>
                    <a:xfrm>
                      <a:off x="1284120" y="5253120"/>
                      <a:ext cx="19080" cy="792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12600">
                      <a:solidFill>
                        <a:srgbClr val="8080ff"/>
                      </a:solidFill>
                      <a:round/>
                    </a:ln>
                  </p:spPr>
                  <p:txBody>
                    <a:bodyPr lIns="96120" rIns="9612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258" name=""/>
              <p:cNvGrpSpPr/>
              <p:nvPr/>
            </p:nvGrpSpPr>
            <p:grpSpPr>
              <a:xfrm>
                <a:off x="884160" y="5157720"/>
                <a:ext cx="57240" cy="163440"/>
                <a:chOff x="884160" y="5157720"/>
                <a:chExt cx="57240" cy="163440"/>
              </a:xfrm>
            </p:grpSpPr>
            <p:sp>
              <p:nvSpPr>
                <p:cNvPr id="1259" name=""/>
                <p:cNvSpPr/>
                <p:nvPr/>
              </p:nvSpPr>
              <p:spPr>
                <a:xfrm>
                  <a:off x="885960" y="5207040"/>
                  <a:ext cx="28440" cy="2844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884160" y="5222880"/>
                  <a:ext cx="28800" cy="2232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885960" y="5243400"/>
                  <a:ext cx="28440" cy="1116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888840" y="5264280"/>
                  <a:ext cx="30240" cy="288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8240" bIns="-48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 flipV="1">
                  <a:off x="895320" y="5280120"/>
                  <a:ext cx="30240" cy="144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 flipV="1">
                  <a:off x="898560" y="5291280"/>
                  <a:ext cx="30240" cy="792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890640" y="5191200"/>
                  <a:ext cx="25200" cy="3312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898560" y="5175360"/>
                  <a:ext cx="20520" cy="3960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909720" y="5162400"/>
                  <a:ext cx="14040" cy="4464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925560" y="5157720"/>
                  <a:ext cx="3240" cy="4608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 flipV="1">
                  <a:off x="909720" y="5294160"/>
                  <a:ext cx="27000" cy="2088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 flipV="1">
                  <a:off x="923760" y="5291280"/>
                  <a:ext cx="17640" cy="29880"/>
                </a:xfrm>
                <a:prstGeom prst="line">
                  <a:avLst/>
                </a:prstGeom>
                <a:ln w="12600">
                  <a:solidFill>
                    <a:srgbClr val="4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1" name=""/>
            <p:cNvSpPr/>
            <p:nvPr/>
          </p:nvSpPr>
          <p:spPr>
            <a:xfrm>
              <a:off x="930240" y="4863960"/>
              <a:ext cx="1843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436760" y="5243400"/>
              <a:ext cx="757440" cy="68760"/>
            </a:xfrm>
            <a:custGeom>
              <a:avLst/>
              <a:gdLst/>
              <a:ahLst/>
              <a:rect l="0" t="0" r="r" b="b"/>
              <a:pathLst>
                <a:path fill="none" w="2104" h="191">
                  <a:moveTo>
                    <a:pt x="0" y="0"/>
                  </a:moveTo>
                  <a:lnTo>
                    <a:pt x="1363" y="0"/>
                  </a:lnTo>
                  <a:lnTo>
                    <a:pt x="1116" y="191"/>
                  </a:lnTo>
                  <a:lnTo>
                    <a:pt x="2104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2108160" y="4708440"/>
              <a:ext cx="2192400" cy="1219320"/>
              <a:chOff x="2108160" y="4708440"/>
              <a:chExt cx="2192400" cy="1219320"/>
            </a:xfrm>
          </p:grpSpPr>
          <p:grpSp>
            <p:nvGrpSpPr>
              <p:cNvPr id="1274" name=""/>
              <p:cNvGrpSpPr/>
              <p:nvPr/>
            </p:nvGrpSpPr>
            <p:grpSpPr>
              <a:xfrm>
                <a:off x="3389400" y="4819680"/>
                <a:ext cx="911160" cy="1050840"/>
                <a:chOff x="3389400" y="4819680"/>
                <a:chExt cx="911160" cy="1050840"/>
              </a:xfrm>
            </p:grpSpPr>
            <p:grpSp>
              <p:nvGrpSpPr>
                <p:cNvPr id="1275" name=""/>
                <p:cNvGrpSpPr/>
                <p:nvPr/>
              </p:nvGrpSpPr>
              <p:grpSpPr>
                <a:xfrm>
                  <a:off x="3738600" y="4819680"/>
                  <a:ext cx="561960" cy="847440"/>
                  <a:chOff x="3738600" y="4819680"/>
                  <a:chExt cx="561960" cy="847440"/>
                </a:xfrm>
              </p:grpSpPr>
              <p:grpSp>
                <p:nvGrpSpPr>
                  <p:cNvPr id="1276" name=""/>
                  <p:cNvGrpSpPr/>
                  <p:nvPr/>
                </p:nvGrpSpPr>
                <p:grpSpPr>
                  <a:xfrm>
                    <a:off x="3879720" y="4930920"/>
                    <a:ext cx="420840" cy="623520"/>
                    <a:chOff x="3879720" y="4930920"/>
                    <a:chExt cx="420840" cy="623520"/>
                  </a:xfrm>
                </p:grpSpPr>
                <p:grpSp>
                  <p:nvGrpSpPr>
                    <p:cNvPr id="1277" name=""/>
                    <p:cNvGrpSpPr/>
                    <p:nvPr/>
                  </p:nvGrpSpPr>
                  <p:grpSpPr>
                    <a:xfrm>
                      <a:off x="3879720" y="4930920"/>
                      <a:ext cx="420840" cy="623520"/>
                      <a:chOff x="3879720" y="4930920"/>
                      <a:chExt cx="420840" cy="623520"/>
                    </a:xfrm>
                  </p:grpSpPr>
                  <p:grpSp>
                    <p:nvGrpSpPr>
                      <p:cNvPr id="1278" name=""/>
                      <p:cNvGrpSpPr/>
                      <p:nvPr/>
                    </p:nvGrpSpPr>
                    <p:grpSpPr>
                      <a:xfrm>
                        <a:off x="3987720" y="4967280"/>
                        <a:ext cx="312840" cy="512640"/>
                        <a:chOff x="3987720" y="4967280"/>
                        <a:chExt cx="312840" cy="512640"/>
                      </a:xfrm>
                    </p:grpSpPr>
                    <p:grpSp>
                      <p:nvGrpSpPr>
                        <p:cNvPr id="1279" name=""/>
                        <p:cNvGrpSpPr/>
                        <p:nvPr/>
                      </p:nvGrpSpPr>
                      <p:grpSpPr>
                        <a:xfrm>
                          <a:off x="4022640" y="4967280"/>
                          <a:ext cx="277920" cy="512640"/>
                          <a:chOff x="4022640" y="4967280"/>
                          <a:chExt cx="277920" cy="512640"/>
                        </a:xfrm>
                      </p:grpSpPr>
                      <p:sp>
                        <p:nvSpPr>
                          <p:cNvPr id="1280" name=""/>
                          <p:cNvSpPr/>
                          <p:nvPr/>
                        </p:nvSpPr>
                        <p:spPr>
                          <a:xfrm>
                            <a:off x="4165560" y="5265720"/>
                            <a:ext cx="135000" cy="139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81" name=""/>
                          <p:cNvSpPr/>
                          <p:nvPr/>
                        </p:nvSpPr>
                        <p:spPr>
                          <a:xfrm>
                            <a:off x="4057560" y="5302080"/>
                            <a:ext cx="169920" cy="1778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82" name=""/>
                          <p:cNvSpPr/>
                          <p:nvPr/>
                        </p:nvSpPr>
                        <p:spPr>
                          <a:xfrm>
                            <a:off x="4129200" y="5079960"/>
                            <a:ext cx="135000" cy="139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83" name=""/>
                          <p:cNvSpPr/>
                          <p:nvPr/>
                        </p:nvSpPr>
                        <p:spPr>
                          <a:xfrm>
                            <a:off x="4022640" y="4967280"/>
                            <a:ext cx="169920" cy="1778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84" name=""/>
                          <p:cNvSpPr/>
                          <p:nvPr/>
                        </p:nvSpPr>
                        <p:spPr>
                          <a:xfrm>
                            <a:off x="4137120" y="5084640"/>
                            <a:ext cx="109800" cy="28440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305" h="790">
                                <a:moveTo>
                                  <a:pt x="305" y="785"/>
                                </a:moveTo>
                                <a:lnTo>
                                  <a:pt x="172" y="790"/>
                                </a:lnTo>
                                <a:lnTo>
                                  <a:pt x="0" y="0"/>
                                </a:lnTo>
                                <a:lnTo>
                                  <a:pt x="190" y="61"/>
                                </a:lnTo>
                                <a:lnTo>
                                  <a:pt x="195" y="450"/>
                                </a:lnTo>
                                <a:lnTo>
                                  <a:pt x="305" y="78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5000" bIns="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285" name=""/>
                        <p:cNvSpPr/>
                        <p:nvPr/>
                      </p:nvSpPr>
                      <p:spPr>
                        <a:xfrm>
                          <a:off x="3987720" y="5116680"/>
                          <a:ext cx="241200" cy="25236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6" name=""/>
                        <p:cNvSpPr/>
                        <p:nvPr/>
                      </p:nvSpPr>
                      <p:spPr>
                        <a:xfrm>
                          <a:off x="3987720" y="5265720"/>
                          <a:ext cx="169920" cy="1778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7" name=""/>
                        <p:cNvSpPr/>
                        <p:nvPr/>
                      </p:nvSpPr>
                      <p:spPr>
                        <a:xfrm>
                          <a:off x="4043520" y="5052960"/>
                          <a:ext cx="116280" cy="30672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323" h="852">
                              <a:moveTo>
                                <a:pt x="293" y="145"/>
                              </a:moveTo>
                              <a:lnTo>
                                <a:pt x="257" y="321"/>
                              </a:lnTo>
                              <a:lnTo>
                                <a:pt x="323" y="733"/>
                              </a:lnTo>
                              <a:lnTo>
                                <a:pt x="195" y="852"/>
                              </a:lnTo>
                              <a:lnTo>
                                <a:pt x="0" y="357"/>
                              </a:lnTo>
                              <a:lnTo>
                                <a:pt x="155" y="0"/>
                              </a:lnTo>
                              <a:lnTo>
                                <a:pt x="293" y="14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288" name=""/>
                      <p:cNvSpPr/>
                      <p:nvPr/>
                    </p:nvSpPr>
                    <p:spPr>
                      <a:xfrm>
                        <a:off x="3987720" y="5413320"/>
                        <a:ext cx="133200" cy="1411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9" name=""/>
                      <p:cNvSpPr/>
                      <p:nvPr/>
                    </p:nvSpPr>
                    <p:spPr>
                      <a:xfrm>
                        <a:off x="3879720" y="4930920"/>
                        <a:ext cx="171360" cy="1792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0" name=""/>
                      <p:cNvSpPr/>
                      <p:nvPr/>
                    </p:nvSpPr>
                    <p:spPr>
                      <a:xfrm>
                        <a:off x="4032360" y="5386320"/>
                        <a:ext cx="82800" cy="55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30" h="155">
                            <a:moveTo>
                              <a:pt x="230" y="93"/>
                            </a:moveTo>
                            <a:lnTo>
                              <a:pt x="159" y="155"/>
                            </a:lnTo>
                            <a:lnTo>
                              <a:pt x="0" y="74"/>
                            </a:lnTo>
                            <a:lnTo>
                              <a:pt x="159" y="0"/>
                            </a:lnTo>
                            <a:lnTo>
                              <a:pt x="230" y="9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txBody>
                      <a:bodyPr lIns="90000" rIns="90000" tIns="10800" bIns="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91" name=""/>
                    <p:cNvSpPr/>
                    <p:nvPr/>
                  </p:nvSpPr>
                  <p:spPr>
                    <a:xfrm>
                      <a:off x="4017960" y="5018040"/>
                      <a:ext cx="44640" cy="92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24" h="257">
                          <a:moveTo>
                            <a:pt x="61" y="0"/>
                          </a:moveTo>
                          <a:lnTo>
                            <a:pt x="124" y="4"/>
                          </a:lnTo>
                          <a:lnTo>
                            <a:pt x="102" y="257"/>
                          </a:lnTo>
                          <a:lnTo>
                            <a:pt x="0" y="209"/>
                          </a:lnTo>
                          <a:lnTo>
                            <a:pt x="61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2" name=""/>
                  <p:cNvGrpSpPr/>
                  <p:nvPr/>
                </p:nvGrpSpPr>
                <p:grpSpPr>
                  <a:xfrm>
                    <a:off x="3738600" y="4819680"/>
                    <a:ext cx="382680" cy="772920"/>
                    <a:chOff x="3738600" y="4819680"/>
                    <a:chExt cx="382680" cy="772920"/>
                  </a:xfrm>
                </p:grpSpPr>
                <p:sp>
                  <p:nvSpPr>
                    <p:cNvPr id="1293" name=""/>
                    <p:cNvSpPr/>
                    <p:nvPr/>
                  </p:nvSpPr>
                  <p:spPr>
                    <a:xfrm>
                      <a:off x="3771720" y="5265720"/>
                      <a:ext cx="312840" cy="326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4" name=""/>
                    <p:cNvSpPr/>
                    <p:nvPr/>
                  </p:nvSpPr>
                  <p:spPr>
                    <a:xfrm>
                      <a:off x="3808440" y="5041800"/>
                      <a:ext cx="312840" cy="326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5" name=""/>
                    <p:cNvSpPr/>
                    <p:nvPr/>
                  </p:nvSpPr>
                  <p:spPr>
                    <a:xfrm>
                      <a:off x="3738600" y="4819680"/>
                      <a:ext cx="241200" cy="252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6" name=""/>
                    <p:cNvSpPr/>
                    <p:nvPr/>
                  </p:nvSpPr>
                  <p:spPr>
                    <a:xfrm>
                      <a:off x="3879720" y="4967280"/>
                      <a:ext cx="133200" cy="141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7" name=""/>
                    <p:cNvSpPr/>
                    <p:nvPr/>
                  </p:nvSpPr>
                  <p:spPr>
                    <a:xfrm>
                      <a:off x="3813120" y="4946760"/>
                      <a:ext cx="203400" cy="275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65" h="764">
                          <a:moveTo>
                            <a:pt x="397" y="30"/>
                          </a:moveTo>
                          <a:lnTo>
                            <a:pt x="393" y="123"/>
                          </a:lnTo>
                          <a:lnTo>
                            <a:pt x="530" y="292"/>
                          </a:lnTo>
                          <a:lnTo>
                            <a:pt x="565" y="314"/>
                          </a:lnTo>
                          <a:lnTo>
                            <a:pt x="367" y="764"/>
                          </a:lnTo>
                          <a:lnTo>
                            <a:pt x="0" y="0"/>
                          </a:lnTo>
                          <a:lnTo>
                            <a:pt x="397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8" name=""/>
                    <p:cNvSpPr/>
                    <p:nvPr/>
                  </p:nvSpPr>
                  <p:spPr>
                    <a:xfrm>
                      <a:off x="3914640" y="5330880"/>
                      <a:ext cx="127440" cy="7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54" h="208">
                          <a:moveTo>
                            <a:pt x="315" y="30"/>
                          </a:moveTo>
                          <a:lnTo>
                            <a:pt x="354" y="92"/>
                          </a:lnTo>
                          <a:lnTo>
                            <a:pt x="0" y="208"/>
                          </a:lnTo>
                          <a:lnTo>
                            <a:pt x="8" y="0"/>
                          </a:lnTo>
                          <a:lnTo>
                            <a:pt x="315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29880" bIns="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9" name=""/>
                  <p:cNvSpPr/>
                  <p:nvPr/>
                </p:nvSpPr>
                <p:spPr>
                  <a:xfrm>
                    <a:off x="3738600" y="5487840"/>
                    <a:ext cx="168120" cy="179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3854520" y="5475240"/>
                    <a:ext cx="82800" cy="89280"/>
                  </a:xfrm>
                  <a:custGeom>
                    <a:avLst/>
                    <a:gdLst/>
                    <a:ahLst/>
                    <a:rect l="0" t="0" r="r" b="b"/>
                    <a:pathLst>
                      <a:path w="230" h="248">
                        <a:moveTo>
                          <a:pt x="92" y="248"/>
                        </a:moveTo>
                        <a:lnTo>
                          <a:pt x="230" y="164"/>
                        </a:lnTo>
                        <a:lnTo>
                          <a:pt x="70" y="0"/>
                        </a:lnTo>
                        <a:lnTo>
                          <a:pt x="0" y="93"/>
                        </a:lnTo>
                        <a:lnTo>
                          <a:pt x="92" y="24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1" name=""/>
                <p:cNvSpPr/>
                <p:nvPr/>
              </p:nvSpPr>
              <p:spPr>
                <a:xfrm>
                  <a:off x="3389400" y="5656320"/>
                  <a:ext cx="204840" cy="2142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3559320" y="5656320"/>
                  <a:ext cx="169920" cy="177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3657600" y="5595840"/>
                  <a:ext cx="169920" cy="177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3519360" y="5573880"/>
                  <a:ext cx="335160" cy="232200"/>
                </a:xfrm>
                <a:custGeom>
                  <a:avLst/>
                  <a:gdLst/>
                  <a:ahLst/>
                  <a:rect l="0" t="0" r="r" b="b"/>
                  <a:pathLst>
                    <a:path w="931" h="645">
                      <a:moveTo>
                        <a:pt x="869" y="190"/>
                      </a:moveTo>
                      <a:lnTo>
                        <a:pt x="781" y="230"/>
                      </a:lnTo>
                      <a:lnTo>
                        <a:pt x="530" y="487"/>
                      </a:lnTo>
                      <a:lnTo>
                        <a:pt x="468" y="597"/>
                      </a:lnTo>
                      <a:lnTo>
                        <a:pt x="194" y="597"/>
                      </a:lnTo>
                      <a:lnTo>
                        <a:pt x="141" y="645"/>
                      </a:lnTo>
                      <a:lnTo>
                        <a:pt x="0" y="455"/>
                      </a:lnTo>
                      <a:lnTo>
                        <a:pt x="627" y="0"/>
                      </a:lnTo>
                      <a:lnTo>
                        <a:pt x="931" y="105"/>
                      </a:lnTo>
                      <a:lnTo>
                        <a:pt x="869" y="1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5" name=""/>
              <p:cNvGrpSpPr/>
              <p:nvPr/>
            </p:nvGrpSpPr>
            <p:grpSpPr>
              <a:xfrm>
                <a:off x="2108160" y="4827600"/>
                <a:ext cx="547560" cy="728640"/>
                <a:chOff x="2108160" y="4827600"/>
                <a:chExt cx="547560" cy="728640"/>
              </a:xfrm>
            </p:grpSpPr>
            <p:grpSp>
              <p:nvGrpSpPr>
                <p:cNvPr id="1306" name=""/>
                <p:cNvGrpSpPr/>
                <p:nvPr/>
              </p:nvGrpSpPr>
              <p:grpSpPr>
                <a:xfrm>
                  <a:off x="2108160" y="4930920"/>
                  <a:ext cx="298440" cy="438120"/>
                  <a:chOff x="2108160" y="4930920"/>
                  <a:chExt cx="298440" cy="438120"/>
                </a:xfrm>
              </p:grpSpPr>
              <p:sp>
                <p:nvSpPr>
                  <p:cNvPr id="1307" name=""/>
                  <p:cNvSpPr/>
                  <p:nvPr/>
                </p:nvSpPr>
                <p:spPr>
                  <a:xfrm>
                    <a:off x="2108160" y="5079960"/>
                    <a:ext cx="133200" cy="139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>
                    <a:off x="2130480" y="5191200"/>
                    <a:ext cx="169920" cy="177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2165400" y="4930920"/>
                    <a:ext cx="241200" cy="252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2154240" y="5100480"/>
                    <a:ext cx="79560" cy="132120"/>
                  </a:xfrm>
                  <a:custGeom>
                    <a:avLst/>
                    <a:gdLst/>
                    <a:ahLst/>
                    <a:rect l="0" t="0" r="r" b="b"/>
                    <a:pathLst>
                      <a:path w="221" h="367">
                        <a:moveTo>
                          <a:pt x="128" y="0"/>
                        </a:moveTo>
                        <a:lnTo>
                          <a:pt x="0" y="70"/>
                        </a:lnTo>
                        <a:lnTo>
                          <a:pt x="0" y="296"/>
                        </a:lnTo>
                        <a:lnTo>
                          <a:pt x="44" y="367"/>
                        </a:lnTo>
                        <a:lnTo>
                          <a:pt x="221" y="296"/>
                        </a:lnTo>
                        <a:lnTo>
                          <a:pt x="12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1" name=""/>
                <p:cNvGrpSpPr/>
                <p:nvPr/>
              </p:nvGrpSpPr>
              <p:grpSpPr>
                <a:xfrm>
                  <a:off x="2200320" y="4827600"/>
                  <a:ext cx="455400" cy="728640"/>
                  <a:chOff x="2200320" y="4827600"/>
                  <a:chExt cx="455400" cy="728640"/>
                </a:xfrm>
              </p:grpSpPr>
              <p:sp>
                <p:nvSpPr>
                  <p:cNvPr id="1312" name=""/>
                  <p:cNvSpPr/>
                  <p:nvPr/>
                </p:nvSpPr>
                <p:spPr>
                  <a:xfrm>
                    <a:off x="2344680" y="4857840"/>
                    <a:ext cx="311040" cy="325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>
                    <a:off x="2200320" y="5079960"/>
                    <a:ext cx="171360" cy="177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2236680" y="5191200"/>
                    <a:ext cx="243000" cy="252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2308320" y="5302080"/>
                    <a:ext cx="241200" cy="254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2325600" y="5010120"/>
                    <a:ext cx="216000" cy="219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2505240" y="4827600"/>
                    <a:ext cx="133200" cy="13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2397240" y="4973760"/>
                    <a:ext cx="146520" cy="105120"/>
                  </a:xfrm>
                  <a:custGeom>
                    <a:avLst/>
                    <a:gdLst/>
                    <a:ahLst/>
                    <a:rect l="0" t="0" r="r" b="b"/>
                    <a:pathLst>
                      <a:path w="407" h="292">
                        <a:moveTo>
                          <a:pt x="0" y="79"/>
                        </a:moveTo>
                        <a:lnTo>
                          <a:pt x="52" y="217"/>
                        </a:lnTo>
                        <a:lnTo>
                          <a:pt x="407" y="292"/>
                        </a:lnTo>
                        <a:lnTo>
                          <a:pt x="407" y="110"/>
                        </a:lnTo>
                        <a:lnTo>
                          <a:pt x="26" y="0"/>
                        </a:lnTo>
                        <a:lnTo>
                          <a:pt x="0" y="7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>
                    <a:off x="2254320" y="5164200"/>
                    <a:ext cx="167040" cy="217800"/>
                  </a:xfrm>
                  <a:custGeom>
                    <a:avLst/>
                    <a:gdLst/>
                    <a:ahLst/>
                    <a:rect l="0" t="0" r="r" b="b"/>
                    <a:pathLst>
                      <a:path w="464" h="605">
                        <a:moveTo>
                          <a:pt x="283" y="0"/>
                        </a:moveTo>
                        <a:lnTo>
                          <a:pt x="0" y="149"/>
                        </a:lnTo>
                        <a:lnTo>
                          <a:pt x="119" y="268"/>
                        </a:lnTo>
                        <a:lnTo>
                          <a:pt x="132" y="565"/>
                        </a:lnTo>
                        <a:lnTo>
                          <a:pt x="202" y="605"/>
                        </a:lnTo>
                        <a:lnTo>
                          <a:pt x="441" y="415"/>
                        </a:lnTo>
                        <a:lnTo>
                          <a:pt x="464" y="57"/>
                        </a:lnTo>
                        <a:lnTo>
                          <a:pt x="28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0" name=""/>
                <p:cNvSpPr/>
                <p:nvPr/>
              </p:nvSpPr>
              <p:spPr>
                <a:xfrm>
                  <a:off x="2500200" y="4908600"/>
                  <a:ext cx="87840" cy="101880"/>
                </a:xfrm>
                <a:custGeom>
                  <a:avLst/>
                  <a:gdLst/>
                  <a:ahLst/>
                  <a:rect l="0" t="0" r="r" b="b"/>
                  <a:pathLst>
                    <a:path w="244" h="283">
                      <a:moveTo>
                        <a:pt x="0" y="155"/>
                      </a:moveTo>
                      <a:lnTo>
                        <a:pt x="106" y="0"/>
                      </a:lnTo>
                      <a:lnTo>
                        <a:pt x="244" y="155"/>
                      </a:lnTo>
                      <a:lnTo>
                        <a:pt x="128" y="283"/>
                      </a:lnTo>
                      <a:lnTo>
                        <a:pt x="0" y="1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1" name=""/>
              <p:cNvGrpSpPr/>
              <p:nvPr/>
            </p:nvGrpSpPr>
            <p:grpSpPr>
              <a:xfrm>
                <a:off x="2379600" y="4708440"/>
                <a:ext cx="1600200" cy="1219320"/>
                <a:chOff x="2379600" y="4708440"/>
                <a:chExt cx="1600200" cy="1219320"/>
              </a:xfrm>
            </p:grpSpPr>
            <p:sp>
              <p:nvSpPr>
                <p:cNvPr id="1322" name=""/>
                <p:cNvSpPr/>
                <p:nvPr/>
              </p:nvSpPr>
              <p:spPr>
                <a:xfrm>
                  <a:off x="2879640" y="4745160"/>
                  <a:ext cx="384120" cy="399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3200400" y="4708440"/>
                  <a:ext cx="314280" cy="325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486240" y="5041800"/>
                  <a:ext cx="493560" cy="514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2557440" y="5265720"/>
                  <a:ext cx="563400" cy="5875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3344760" y="5338800"/>
                  <a:ext cx="419040" cy="438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2414520" y="5378400"/>
                  <a:ext cx="312840" cy="325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379600" y="5116680"/>
                  <a:ext cx="312840" cy="326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2522520" y="4819680"/>
                  <a:ext cx="492120" cy="51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2951280" y="5413320"/>
                  <a:ext cx="492120" cy="514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3559320" y="4857840"/>
                  <a:ext cx="384120" cy="399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3451320" y="4708440"/>
                  <a:ext cx="349200" cy="361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513160" y="4808520"/>
                  <a:ext cx="1375200" cy="957600"/>
                </a:xfrm>
                <a:custGeom>
                  <a:avLst/>
                  <a:gdLst/>
                  <a:ahLst/>
                  <a:rect l="0" t="0" r="r" b="b"/>
                  <a:pathLst>
                    <a:path w="3820" h="2660">
                      <a:moveTo>
                        <a:pt x="1178" y="264"/>
                      </a:moveTo>
                      <a:lnTo>
                        <a:pt x="1337" y="79"/>
                      </a:lnTo>
                      <a:lnTo>
                        <a:pt x="2051" y="92"/>
                      </a:lnTo>
                      <a:lnTo>
                        <a:pt x="2554" y="0"/>
                      </a:lnTo>
                      <a:lnTo>
                        <a:pt x="3190" y="317"/>
                      </a:lnTo>
                      <a:lnTo>
                        <a:pt x="3512" y="224"/>
                      </a:lnTo>
                      <a:lnTo>
                        <a:pt x="3679" y="264"/>
                      </a:lnTo>
                      <a:lnTo>
                        <a:pt x="3719" y="1058"/>
                      </a:lnTo>
                      <a:lnTo>
                        <a:pt x="3820" y="1181"/>
                      </a:lnTo>
                      <a:lnTo>
                        <a:pt x="3525" y="1795"/>
                      </a:lnTo>
                      <a:lnTo>
                        <a:pt x="3203" y="1376"/>
                      </a:lnTo>
                      <a:lnTo>
                        <a:pt x="3115" y="1592"/>
                      </a:lnTo>
                      <a:lnTo>
                        <a:pt x="2664" y="2430"/>
                      </a:lnTo>
                      <a:lnTo>
                        <a:pt x="1156" y="2660"/>
                      </a:lnTo>
                      <a:lnTo>
                        <a:pt x="366" y="2492"/>
                      </a:lnTo>
                      <a:lnTo>
                        <a:pt x="123" y="1976"/>
                      </a:lnTo>
                      <a:lnTo>
                        <a:pt x="123" y="1442"/>
                      </a:lnTo>
                      <a:lnTo>
                        <a:pt x="0" y="992"/>
                      </a:lnTo>
                      <a:lnTo>
                        <a:pt x="1178" y="2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4" name=""/>
            <p:cNvGrpSpPr/>
            <p:nvPr/>
          </p:nvGrpSpPr>
          <p:grpSpPr>
            <a:xfrm>
              <a:off x="2643120" y="5048280"/>
              <a:ext cx="1073160" cy="680760"/>
              <a:chOff x="2643120" y="5048280"/>
              <a:chExt cx="1073160" cy="680760"/>
            </a:xfrm>
          </p:grpSpPr>
          <p:sp>
            <p:nvSpPr>
              <p:cNvPr id="1335" name=""/>
              <p:cNvSpPr txBox="1"/>
              <p:nvPr/>
            </p:nvSpPr>
            <p:spPr>
              <a:xfrm>
                <a:off x="2643120" y="5048280"/>
                <a:ext cx="107316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TCP/RNI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 txBox="1"/>
              <p:nvPr/>
            </p:nvSpPr>
            <p:spPr>
              <a:xfrm>
                <a:off x="2865600" y="5240160"/>
                <a:ext cx="606600" cy="488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GSM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L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3209760" y="2090880"/>
              <a:ext cx="2192400" cy="1218960"/>
              <a:chOff x="3209760" y="2090880"/>
              <a:chExt cx="2192400" cy="1218960"/>
            </a:xfrm>
          </p:grpSpPr>
          <p:grpSp>
            <p:nvGrpSpPr>
              <p:cNvPr id="1338" name=""/>
              <p:cNvGrpSpPr/>
              <p:nvPr/>
            </p:nvGrpSpPr>
            <p:grpSpPr>
              <a:xfrm>
                <a:off x="4491000" y="2203560"/>
                <a:ext cx="911160" cy="1049040"/>
                <a:chOff x="4491000" y="2203560"/>
                <a:chExt cx="911160" cy="1049040"/>
              </a:xfrm>
            </p:grpSpPr>
            <p:grpSp>
              <p:nvGrpSpPr>
                <p:cNvPr id="1339" name=""/>
                <p:cNvGrpSpPr/>
                <p:nvPr/>
              </p:nvGrpSpPr>
              <p:grpSpPr>
                <a:xfrm>
                  <a:off x="4840200" y="2203560"/>
                  <a:ext cx="561960" cy="846000"/>
                  <a:chOff x="4840200" y="2203560"/>
                  <a:chExt cx="561960" cy="846000"/>
                </a:xfrm>
              </p:grpSpPr>
              <p:grpSp>
                <p:nvGrpSpPr>
                  <p:cNvPr id="1340" name=""/>
                  <p:cNvGrpSpPr/>
                  <p:nvPr/>
                </p:nvGrpSpPr>
                <p:grpSpPr>
                  <a:xfrm>
                    <a:off x="4981680" y="2313000"/>
                    <a:ext cx="420480" cy="623880"/>
                    <a:chOff x="4981680" y="2313000"/>
                    <a:chExt cx="420480" cy="623880"/>
                  </a:xfrm>
                </p:grpSpPr>
                <p:grpSp>
                  <p:nvGrpSpPr>
                    <p:cNvPr id="1341" name=""/>
                    <p:cNvGrpSpPr/>
                    <p:nvPr/>
                  </p:nvGrpSpPr>
                  <p:grpSpPr>
                    <a:xfrm>
                      <a:off x="4981680" y="2313000"/>
                      <a:ext cx="420480" cy="623880"/>
                      <a:chOff x="4981680" y="2313000"/>
                      <a:chExt cx="420480" cy="623880"/>
                    </a:xfrm>
                  </p:grpSpPr>
                  <p:grpSp>
                    <p:nvGrpSpPr>
                      <p:cNvPr id="1342" name=""/>
                      <p:cNvGrpSpPr/>
                      <p:nvPr/>
                    </p:nvGrpSpPr>
                    <p:grpSpPr>
                      <a:xfrm>
                        <a:off x="5089680" y="2351160"/>
                        <a:ext cx="312480" cy="511200"/>
                        <a:chOff x="5089680" y="2351160"/>
                        <a:chExt cx="312480" cy="511200"/>
                      </a:xfrm>
                    </p:grpSpPr>
                    <p:grpSp>
                      <p:nvGrpSpPr>
                        <p:cNvPr id="1343" name=""/>
                        <p:cNvGrpSpPr/>
                        <p:nvPr/>
                      </p:nvGrpSpPr>
                      <p:grpSpPr>
                        <a:xfrm>
                          <a:off x="5126040" y="2351160"/>
                          <a:ext cx="276120" cy="511200"/>
                          <a:chOff x="5126040" y="2351160"/>
                          <a:chExt cx="276120" cy="511200"/>
                        </a:xfrm>
                      </p:grpSpPr>
                      <p:sp>
                        <p:nvSpPr>
                          <p:cNvPr id="1344" name=""/>
                          <p:cNvSpPr/>
                          <p:nvPr/>
                        </p:nvSpPr>
                        <p:spPr>
                          <a:xfrm>
                            <a:off x="5267160" y="2649600"/>
                            <a:ext cx="135000" cy="138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45" name=""/>
                          <p:cNvSpPr/>
                          <p:nvPr/>
                        </p:nvSpPr>
                        <p:spPr>
                          <a:xfrm>
                            <a:off x="5159520" y="2684520"/>
                            <a:ext cx="169920" cy="1778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46" name=""/>
                          <p:cNvSpPr/>
                          <p:nvPr/>
                        </p:nvSpPr>
                        <p:spPr>
                          <a:xfrm>
                            <a:off x="5232240" y="2462040"/>
                            <a:ext cx="135000" cy="1411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47" name=""/>
                          <p:cNvSpPr/>
                          <p:nvPr/>
                        </p:nvSpPr>
                        <p:spPr>
                          <a:xfrm>
                            <a:off x="5126040" y="2351160"/>
                            <a:ext cx="169920" cy="1778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48" name=""/>
                          <p:cNvSpPr/>
                          <p:nvPr/>
                        </p:nvSpPr>
                        <p:spPr>
                          <a:xfrm>
                            <a:off x="5238720" y="2468520"/>
                            <a:ext cx="109800" cy="28440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305" h="790">
                                <a:moveTo>
                                  <a:pt x="305" y="781"/>
                                </a:moveTo>
                                <a:lnTo>
                                  <a:pt x="172" y="790"/>
                                </a:lnTo>
                                <a:lnTo>
                                  <a:pt x="0" y="0"/>
                                </a:lnTo>
                                <a:lnTo>
                                  <a:pt x="190" y="57"/>
                                </a:lnTo>
                                <a:lnTo>
                                  <a:pt x="195" y="446"/>
                                </a:lnTo>
                                <a:lnTo>
                                  <a:pt x="305" y="78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5000" bIns="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349" name=""/>
                        <p:cNvSpPr/>
                        <p:nvPr/>
                      </p:nvSpPr>
                      <p:spPr>
                        <a:xfrm>
                          <a:off x="5089680" y="2500200"/>
                          <a:ext cx="241200" cy="25236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0" name=""/>
                        <p:cNvSpPr/>
                        <p:nvPr/>
                      </p:nvSpPr>
                      <p:spPr>
                        <a:xfrm>
                          <a:off x="5089680" y="2649600"/>
                          <a:ext cx="169920" cy="1778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1" name=""/>
                        <p:cNvSpPr/>
                        <p:nvPr/>
                      </p:nvSpPr>
                      <p:spPr>
                        <a:xfrm>
                          <a:off x="5145120" y="2435400"/>
                          <a:ext cx="116280" cy="30672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323" h="852">
                              <a:moveTo>
                                <a:pt x="297" y="145"/>
                              </a:moveTo>
                              <a:lnTo>
                                <a:pt x="262" y="326"/>
                              </a:lnTo>
                              <a:lnTo>
                                <a:pt x="323" y="733"/>
                              </a:lnTo>
                              <a:lnTo>
                                <a:pt x="195" y="852"/>
                              </a:lnTo>
                              <a:lnTo>
                                <a:pt x="0" y="361"/>
                              </a:lnTo>
                              <a:lnTo>
                                <a:pt x="155" y="0"/>
                              </a:lnTo>
                              <a:lnTo>
                                <a:pt x="297" y="14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52" name=""/>
                      <p:cNvSpPr/>
                      <p:nvPr/>
                    </p:nvSpPr>
                    <p:spPr>
                      <a:xfrm>
                        <a:off x="5089680" y="2797200"/>
                        <a:ext cx="133200" cy="139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3" name=""/>
                      <p:cNvSpPr/>
                      <p:nvPr/>
                    </p:nvSpPr>
                    <p:spPr>
                      <a:xfrm>
                        <a:off x="4981680" y="2313000"/>
                        <a:ext cx="171360" cy="1792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4" name=""/>
                      <p:cNvSpPr/>
                      <p:nvPr/>
                    </p:nvSpPr>
                    <p:spPr>
                      <a:xfrm>
                        <a:off x="5133960" y="2770200"/>
                        <a:ext cx="82800" cy="543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30" h="151">
                            <a:moveTo>
                              <a:pt x="230" y="93"/>
                            </a:moveTo>
                            <a:lnTo>
                              <a:pt x="159" y="151"/>
                            </a:lnTo>
                            <a:lnTo>
                              <a:pt x="0" y="71"/>
                            </a:lnTo>
                            <a:lnTo>
                              <a:pt x="159" y="0"/>
                            </a:lnTo>
                            <a:lnTo>
                              <a:pt x="230" y="9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txBody>
                      <a:bodyPr lIns="90000" rIns="90000" tIns="9360" bIns="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55" name=""/>
                    <p:cNvSpPr/>
                    <p:nvPr/>
                  </p:nvSpPr>
                  <p:spPr>
                    <a:xfrm>
                      <a:off x="5119560" y="2400480"/>
                      <a:ext cx="44640" cy="92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24" h="257">
                          <a:moveTo>
                            <a:pt x="61" y="0"/>
                          </a:moveTo>
                          <a:lnTo>
                            <a:pt x="124" y="4"/>
                          </a:lnTo>
                          <a:lnTo>
                            <a:pt x="102" y="257"/>
                          </a:lnTo>
                          <a:lnTo>
                            <a:pt x="0" y="209"/>
                          </a:lnTo>
                          <a:lnTo>
                            <a:pt x="61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6" name=""/>
                  <p:cNvGrpSpPr/>
                  <p:nvPr/>
                </p:nvGrpSpPr>
                <p:grpSpPr>
                  <a:xfrm>
                    <a:off x="4840200" y="2203560"/>
                    <a:ext cx="382680" cy="771480"/>
                    <a:chOff x="4840200" y="2203560"/>
                    <a:chExt cx="382680" cy="771480"/>
                  </a:xfrm>
                </p:grpSpPr>
                <p:sp>
                  <p:nvSpPr>
                    <p:cNvPr id="1357" name=""/>
                    <p:cNvSpPr/>
                    <p:nvPr/>
                  </p:nvSpPr>
                  <p:spPr>
                    <a:xfrm>
                      <a:off x="4875120" y="2649600"/>
                      <a:ext cx="312840" cy="32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8" name=""/>
                    <p:cNvSpPr/>
                    <p:nvPr/>
                  </p:nvSpPr>
                  <p:spPr>
                    <a:xfrm>
                      <a:off x="4910040" y="2425680"/>
                      <a:ext cx="312840" cy="326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9" name=""/>
                    <p:cNvSpPr/>
                    <p:nvPr/>
                  </p:nvSpPr>
                  <p:spPr>
                    <a:xfrm>
                      <a:off x="4840200" y="2203560"/>
                      <a:ext cx="241200" cy="252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0" name=""/>
                    <p:cNvSpPr/>
                    <p:nvPr/>
                  </p:nvSpPr>
                  <p:spPr>
                    <a:xfrm>
                      <a:off x="4981680" y="2351160"/>
                      <a:ext cx="135000" cy="139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1" name=""/>
                    <p:cNvSpPr/>
                    <p:nvPr/>
                  </p:nvSpPr>
                  <p:spPr>
                    <a:xfrm>
                      <a:off x="4916520" y="2328840"/>
                      <a:ext cx="201960" cy="2764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61" h="768">
                          <a:moveTo>
                            <a:pt x="397" y="30"/>
                          </a:moveTo>
                          <a:lnTo>
                            <a:pt x="393" y="123"/>
                          </a:lnTo>
                          <a:lnTo>
                            <a:pt x="525" y="295"/>
                          </a:lnTo>
                          <a:lnTo>
                            <a:pt x="561" y="313"/>
                          </a:lnTo>
                          <a:lnTo>
                            <a:pt x="362" y="768"/>
                          </a:lnTo>
                          <a:lnTo>
                            <a:pt x="0" y="0"/>
                          </a:lnTo>
                          <a:lnTo>
                            <a:pt x="397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2" name=""/>
                    <p:cNvSpPr/>
                    <p:nvPr/>
                  </p:nvSpPr>
                  <p:spPr>
                    <a:xfrm>
                      <a:off x="5016600" y="2712960"/>
                      <a:ext cx="128880" cy="7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58" h="208">
                          <a:moveTo>
                            <a:pt x="318" y="30"/>
                          </a:moveTo>
                          <a:lnTo>
                            <a:pt x="358" y="97"/>
                          </a:lnTo>
                          <a:lnTo>
                            <a:pt x="0" y="208"/>
                          </a:lnTo>
                          <a:lnTo>
                            <a:pt x="13" y="0"/>
                          </a:lnTo>
                          <a:lnTo>
                            <a:pt x="318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29880" bIns="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"/>
                  <p:cNvSpPr/>
                  <p:nvPr/>
                </p:nvSpPr>
                <p:spPr>
                  <a:xfrm>
                    <a:off x="4840200" y="2871720"/>
                    <a:ext cx="169920" cy="177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>
                    <a:off x="4956120" y="2859120"/>
                    <a:ext cx="84600" cy="89280"/>
                  </a:xfrm>
                  <a:custGeom>
                    <a:avLst/>
                    <a:gdLst/>
                    <a:ahLst/>
                    <a:rect l="0" t="0" r="r" b="b"/>
                    <a:pathLst>
                      <a:path w="235" h="248">
                        <a:moveTo>
                          <a:pt x="93" y="248"/>
                        </a:moveTo>
                        <a:lnTo>
                          <a:pt x="235" y="159"/>
                        </a:lnTo>
                        <a:lnTo>
                          <a:pt x="75" y="0"/>
                        </a:lnTo>
                        <a:lnTo>
                          <a:pt x="0" y="89"/>
                        </a:lnTo>
                        <a:lnTo>
                          <a:pt x="93" y="24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5" name=""/>
                <p:cNvSpPr/>
                <p:nvPr/>
              </p:nvSpPr>
              <p:spPr>
                <a:xfrm>
                  <a:off x="4491000" y="3038400"/>
                  <a:ext cx="206280" cy="2142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4660920" y="3038400"/>
                  <a:ext cx="171360" cy="179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4759200" y="2978280"/>
                  <a:ext cx="169920" cy="179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4621320" y="2955960"/>
                  <a:ext cx="335160" cy="233640"/>
                </a:xfrm>
                <a:custGeom>
                  <a:avLst/>
                  <a:gdLst/>
                  <a:ahLst/>
                  <a:rect l="0" t="0" r="r" b="b"/>
                  <a:pathLst>
                    <a:path w="931" h="649">
                      <a:moveTo>
                        <a:pt x="869" y="189"/>
                      </a:moveTo>
                      <a:lnTo>
                        <a:pt x="781" y="229"/>
                      </a:lnTo>
                      <a:lnTo>
                        <a:pt x="530" y="490"/>
                      </a:lnTo>
                      <a:lnTo>
                        <a:pt x="472" y="600"/>
                      </a:lnTo>
                      <a:lnTo>
                        <a:pt x="198" y="600"/>
                      </a:lnTo>
                      <a:lnTo>
                        <a:pt x="141" y="649"/>
                      </a:lnTo>
                      <a:lnTo>
                        <a:pt x="0" y="455"/>
                      </a:lnTo>
                      <a:lnTo>
                        <a:pt x="631" y="0"/>
                      </a:lnTo>
                      <a:lnTo>
                        <a:pt x="931" y="105"/>
                      </a:lnTo>
                      <a:lnTo>
                        <a:pt x="869" y="18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9" name=""/>
              <p:cNvGrpSpPr/>
              <p:nvPr/>
            </p:nvGrpSpPr>
            <p:grpSpPr>
              <a:xfrm>
                <a:off x="3209760" y="2209680"/>
                <a:ext cx="547920" cy="729000"/>
                <a:chOff x="3209760" y="2209680"/>
                <a:chExt cx="547920" cy="729000"/>
              </a:xfrm>
            </p:grpSpPr>
            <p:grpSp>
              <p:nvGrpSpPr>
                <p:cNvPr id="1370" name=""/>
                <p:cNvGrpSpPr/>
                <p:nvPr/>
              </p:nvGrpSpPr>
              <p:grpSpPr>
                <a:xfrm>
                  <a:off x="3209760" y="2313000"/>
                  <a:ext cx="298440" cy="439920"/>
                  <a:chOff x="3209760" y="2313000"/>
                  <a:chExt cx="298440" cy="439920"/>
                </a:xfrm>
              </p:grpSpPr>
              <p:sp>
                <p:nvSpPr>
                  <p:cNvPr id="1371" name=""/>
                  <p:cNvSpPr/>
                  <p:nvPr/>
                </p:nvSpPr>
                <p:spPr>
                  <a:xfrm>
                    <a:off x="3209760" y="2462040"/>
                    <a:ext cx="133200" cy="141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>
                    <a:off x="3232080" y="2575080"/>
                    <a:ext cx="169920" cy="177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>
                    <a:off x="3267000" y="2313000"/>
                    <a:ext cx="241200" cy="252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3255840" y="2484360"/>
                    <a:ext cx="81360" cy="130680"/>
                  </a:xfrm>
                  <a:custGeom>
                    <a:avLst/>
                    <a:gdLst/>
                    <a:ahLst/>
                    <a:rect l="0" t="0" r="r" b="b"/>
                    <a:pathLst>
                      <a:path w="226" h="363">
                        <a:moveTo>
                          <a:pt x="128" y="0"/>
                        </a:moveTo>
                        <a:lnTo>
                          <a:pt x="0" y="70"/>
                        </a:lnTo>
                        <a:lnTo>
                          <a:pt x="4" y="293"/>
                        </a:lnTo>
                        <a:lnTo>
                          <a:pt x="44" y="363"/>
                        </a:lnTo>
                        <a:lnTo>
                          <a:pt x="226" y="293"/>
                        </a:lnTo>
                        <a:lnTo>
                          <a:pt x="12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5" name=""/>
                <p:cNvGrpSpPr/>
                <p:nvPr/>
              </p:nvGrpSpPr>
              <p:grpSpPr>
                <a:xfrm>
                  <a:off x="3303720" y="2209680"/>
                  <a:ext cx="453960" cy="729000"/>
                  <a:chOff x="3303720" y="2209680"/>
                  <a:chExt cx="453960" cy="729000"/>
                </a:xfrm>
              </p:grpSpPr>
              <p:sp>
                <p:nvSpPr>
                  <p:cNvPr id="1376" name=""/>
                  <p:cNvSpPr/>
                  <p:nvPr/>
                </p:nvSpPr>
                <p:spPr>
                  <a:xfrm>
                    <a:off x="3446640" y="2239920"/>
                    <a:ext cx="311040" cy="325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"/>
                  <p:cNvSpPr/>
                  <p:nvPr/>
                </p:nvSpPr>
                <p:spPr>
                  <a:xfrm>
                    <a:off x="3303720" y="2462040"/>
                    <a:ext cx="169920" cy="177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"/>
                  <p:cNvSpPr/>
                  <p:nvPr/>
                </p:nvSpPr>
                <p:spPr>
                  <a:xfrm>
                    <a:off x="3338640" y="2575080"/>
                    <a:ext cx="243000" cy="252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"/>
                  <p:cNvSpPr/>
                  <p:nvPr/>
                </p:nvSpPr>
                <p:spPr>
                  <a:xfrm>
                    <a:off x="3409920" y="2684520"/>
                    <a:ext cx="241200" cy="254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" name=""/>
                  <p:cNvSpPr/>
                  <p:nvPr/>
                </p:nvSpPr>
                <p:spPr>
                  <a:xfrm>
                    <a:off x="3427560" y="2394000"/>
                    <a:ext cx="2160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"/>
                  <p:cNvSpPr/>
                  <p:nvPr/>
                </p:nvSpPr>
                <p:spPr>
                  <a:xfrm>
                    <a:off x="3606840" y="2209680"/>
                    <a:ext cx="133200" cy="139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3498840" y="2355840"/>
                    <a:ext cx="146520" cy="105120"/>
                  </a:xfrm>
                  <a:custGeom>
                    <a:avLst/>
                    <a:gdLst/>
                    <a:ahLst/>
                    <a:rect l="0" t="0" r="r" b="b"/>
                    <a:pathLst>
                      <a:path w="407" h="292">
                        <a:moveTo>
                          <a:pt x="0" y="79"/>
                        </a:moveTo>
                        <a:lnTo>
                          <a:pt x="52" y="217"/>
                        </a:lnTo>
                        <a:lnTo>
                          <a:pt x="407" y="292"/>
                        </a:lnTo>
                        <a:lnTo>
                          <a:pt x="407" y="110"/>
                        </a:lnTo>
                        <a:lnTo>
                          <a:pt x="26" y="0"/>
                        </a:lnTo>
                        <a:lnTo>
                          <a:pt x="0" y="7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3355920" y="2546280"/>
                    <a:ext cx="167040" cy="217800"/>
                  </a:xfrm>
                  <a:custGeom>
                    <a:avLst/>
                    <a:gdLst/>
                    <a:ahLst/>
                    <a:rect l="0" t="0" r="r" b="b"/>
                    <a:pathLst>
                      <a:path w="464" h="605">
                        <a:moveTo>
                          <a:pt x="287" y="0"/>
                        </a:moveTo>
                        <a:lnTo>
                          <a:pt x="0" y="154"/>
                        </a:lnTo>
                        <a:lnTo>
                          <a:pt x="119" y="273"/>
                        </a:lnTo>
                        <a:lnTo>
                          <a:pt x="136" y="565"/>
                        </a:lnTo>
                        <a:lnTo>
                          <a:pt x="202" y="605"/>
                        </a:lnTo>
                        <a:lnTo>
                          <a:pt x="446" y="415"/>
                        </a:lnTo>
                        <a:lnTo>
                          <a:pt x="464" y="61"/>
                        </a:lnTo>
                        <a:lnTo>
                          <a:pt x="28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4" name=""/>
                <p:cNvSpPr/>
                <p:nvPr/>
              </p:nvSpPr>
              <p:spPr>
                <a:xfrm>
                  <a:off x="3603600" y="2292480"/>
                  <a:ext cx="86040" cy="101880"/>
                </a:xfrm>
                <a:custGeom>
                  <a:avLst/>
                  <a:gdLst/>
                  <a:ahLst/>
                  <a:rect l="0" t="0" r="r" b="b"/>
                  <a:pathLst>
                    <a:path w="239" h="283">
                      <a:moveTo>
                        <a:pt x="0" y="150"/>
                      </a:moveTo>
                      <a:lnTo>
                        <a:pt x="101" y="0"/>
                      </a:lnTo>
                      <a:lnTo>
                        <a:pt x="239" y="150"/>
                      </a:lnTo>
                      <a:lnTo>
                        <a:pt x="124" y="283"/>
                      </a:lnTo>
                      <a:lnTo>
                        <a:pt x="0" y="15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3483000" y="2090880"/>
                <a:ext cx="1598760" cy="1218960"/>
                <a:chOff x="3483000" y="2090880"/>
                <a:chExt cx="1598760" cy="121896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3981600" y="2128680"/>
                  <a:ext cx="385920" cy="399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303800" y="2090880"/>
                  <a:ext cx="312840" cy="325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4589640" y="2425680"/>
                  <a:ext cx="492120" cy="51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3660840" y="2649600"/>
                  <a:ext cx="561960" cy="5857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4446720" y="2722680"/>
                  <a:ext cx="419040" cy="438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3516480" y="2760840"/>
                  <a:ext cx="314280" cy="325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3483000" y="2500200"/>
                  <a:ext cx="311040" cy="325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3624120" y="2203560"/>
                  <a:ext cx="492120" cy="5112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4052880" y="2797200"/>
                  <a:ext cx="493560" cy="51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4660920" y="2239920"/>
                  <a:ext cx="384120" cy="399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4552920" y="2090880"/>
                  <a:ext cx="349200" cy="363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3614760" y="2190600"/>
                  <a:ext cx="1375200" cy="957600"/>
                </a:xfrm>
                <a:custGeom>
                  <a:avLst/>
                  <a:gdLst/>
                  <a:ahLst/>
                  <a:rect l="0" t="0" r="r" b="b"/>
                  <a:pathLst>
                    <a:path w="3820" h="2660">
                      <a:moveTo>
                        <a:pt x="1178" y="268"/>
                      </a:moveTo>
                      <a:lnTo>
                        <a:pt x="1337" y="79"/>
                      </a:lnTo>
                      <a:lnTo>
                        <a:pt x="2051" y="92"/>
                      </a:lnTo>
                      <a:lnTo>
                        <a:pt x="2558" y="0"/>
                      </a:lnTo>
                      <a:lnTo>
                        <a:pt x="3190" y="317"/>
                      </a:lnTo>
                      <a:lnTo>
                        <a:pt x="3512" y="229"/>
                      </a:lnTo>
                      <a:lnTo>
                        <a:pt x="3679" y="268"/>
                      </a:lnTo>
                      <a:lnTo>
                        <a:pt x="3719" y="1058"/>
                      </a:lnTo>
                      <a:lnTo>
                        <a:pt x="3820" y="1181"/>
                      </a:lnTo>
                      <a:lnTo>
                        <a:pt x="3525" y="1795"/>
                      </a:lnTo>
                      <a:lnTo>
                        <a:pt x="3203" y="1381"/>
                      </a:lnTo>
                      <a:lnTo>
                        <a:pt x="3115" y="1592"/>
                      </a:lnTo>
                      <a:lnTo>
                        <a:pt x="2664" y="2435"/>
                      </a:lnTo>
                      <a:lnTo>
                        <a:pt x="1156" y="2660"/>
                      </a:lnTo>
                      <a:lnTo>
                        <a:pt x="366" y="2492"/>
                      </a:lnTo>
                      <a:lnTo>
                        <a:pt x="123" y="1976"/>
                      </a:lnTo>
                      <a:lnTo>
                        <a:pt x="123" y="1442"/>
                      </a:lnTo>
                      <a:lnTo>
                        <a:pt x="0" y="992"/>
                      </a:lnTo>
                      <a:lnTo>
                        <a:pt x="1178" y="2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8" name=""/>
            <p:cNvSpPr txBox="1"/>
            <p:nvPr/>
          </p:nvSpPr>
          <p:spPr>
            <a:xfrm>
              <a:off x="3754440" y="2568600"/>
              <a:ext cx="1019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Réseau IP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4678200" y="2905200"/>
              <a:ext cx="495720" cy="2022480"/>
              <a:chOff x="4678200" y="2905200"/>
              <a:chExt cx="495720" cy="2022480"/>
            </a:xfrm>
          </p:grpSpPr>
          <p:sp>
            <p:nvSpPr>
              <p:cNvPr id="1400" name=""/>
              <p:cNvSpPr/>
              <p:nvPr/>
            </p:nvSpPr>
            <p:spPr>
              <a:xfrm>
                <a:off x="4702320" y="2905200"/>
                <a:ext cx="471600" cy="2022480"/>
              </a:xfrm>
              <a:prstGeom prst="rect">
                <a:avLst/>
              </a:prstGeom>
              <a:solidFill>
                <a:srgbClr val="fda4b5"/>
              </a:solidFill>
              <a:ln w="12600">
                <a:solidFill>
                  <a:srgbClr val="cccc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678200" y="3711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3459240" y="2905200"/>
              <a:ext cx="1163520" cy="2022480"/>
              <a:chOff x="3459240" y="2905200"/>
              <a:chExt cx="1163520" cy="2022480"/>
            </a:xfrm>
          </p:grpSpPr>
          <p:sp>
            <p:nvSpPr>
              <p:cNvPr id="1403" name=""/>
              <p:cNvSpPr/>
              <p:nvPr/>
            </p:nvSpPr>
            <p:spPr>
              <a:xfrm>
                <a:off x="3483000" y="2905200"/>
                <a:ext cx="471600" cy="2022480"/>
              </a:xfrm>
              <a:prstGeom prst="rect">
                <a:avLst/>
              </a:prstGeom>
              <a:solidFill>
                <a:srgbClr val="fda4b5"/>
              </a:solidFill>
              <a:ln w="12600">
                <a:solidFill>
                  <a:srgbClr val="cccc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 txBox="1"/>
              <p:nvPr/>
            </p:nvSpPr>
            <p:spPr>
              <a:xfrm>
                <a:off x="3459240" y="3711600"/>
                <a:ext cx="11635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sserell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5" name=""/>
          <p:cNvSpPr txBox="1"/>
          <p:nvPr/>
        </p:nvSpPr>
        <p:spPr>
          <a:xfrm>
            <a:off x="1203480" y="517680"/>
            <a:ext cx="690732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énario 3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 téléphone à téléphone via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533520" y="13716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533520" y="6324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33520" y="137160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8763120" y="137160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T</dc:creator>
  <dc:description/>
  <dc:language>en-US</dc:language>
  <cp:lastModifiedBy>ART</cp:lastModifiedBy>
  <cp:revision>0</cp:revision>
  <dc:subject/>
  <dc:title>Téléphonie sur Internet</dc:title>
</cp:coreProperties>
</file>