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finition de la téléphonie voc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le 1er de la directive 90/388/CEE du 28 juin 1990 précisé par la Communication de la Commission au PE et au Conseil du 20 octobre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On entend par téléphonie vocale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xploitation commercia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le 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 transport direct et de la commutation de la voi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temps ré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 départ et à destination des points de terminaison du réseau public commuté permettant à tout utilisateur d’utiliser l’équipement connecté à un tel point de terminaison pour communiquer avec un autre point de terminaison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 téléphonique au publ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le L.32 7° du code des postes et télécommun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On entend par service téléphonique au public l’exploitation commerciale pour le public du transfert direct de la voix en temps réel au départ et à destination de réseaux ouverts au public commutés, entre utilisateurs fixes ou mobiles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T</dc:creator>
  <dc:description/>
  <dc:language>en-US</dc:language>
  <cp:lastModifiedBy>ART</cp:lastModifiedBy>
  <cp:revision>0</cp:revision>
  <dc:subject/>
  <dc:title>Téléphonie sur Internet</dc:title>
</cp:coreProperties>
</file>