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99E-841E-401E-99C2-60EB9918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778-FA34-4EAC-B448-91CB0DB6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1AE-BE00-4851-9764-70337D36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995-502D-43DE-A832-FF33D2B4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B80-00AC-4512-9042-23182D2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862-D415-40AF-8926-D7F8D85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A43-862C-4B09-A7F2-FB3D8A4D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C0C-1FDB-4567-ACDF-A231437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B89-B106-41A2-8B61-9ED4EA6A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088-D8FD-4033-8828-B2DEEE4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64-33E9-47FA-BAB4-20FAC92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10-31AB-4F03-861A-0D31CCC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37F6-44A2-47E9-8E50-A6C70A53D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91120" y="14479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5720" y="1447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505320"/>
            <a:ext cx="1526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343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053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on 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905120"/>
            <a:ext cx="1752480" cy="152280"/>
          </a:xfrm>
          <a:prstGeom prst="leftRightArrow">
            <a:avLst>
              <a:gd name="adj1" fmla="val 50000"/>
              <a:gd name="adj2" fmla="val 2291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48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28195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AP G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0080" y="548640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62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65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280" y="76212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’s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3880" y="76212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 operato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9948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1800" y="2209680"/>
            <a:ext cx="673200" cy="160020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358128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5812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7000" y="4038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760" y="3886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1911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160" y="58672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7760" y="556272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0" y="541008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54100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22200" y="548640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1720" y="60958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7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50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8320" y="56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0" y="3657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6483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4267080"/>
          <a:ext cx="53352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267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91120" y="5181480"/>
          <a:ext cx="53316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5181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623000" y="28954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mpeti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7040" y="434340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telecom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89280" y="31240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05Z</cp:lastPrinted>
  <dcterms:modified xsi:type="dcterms:W3CDTF">2000-11-21T10:58:33Z</dcterms:modified>
  <cp:revision>22</cp:revision>
  <dc:subject/>
  <dc:title>Aucun titre de diapositive</dc:title>
</cp:coreProperties>
</file>