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81B-5A12-48BB-A76F-E9F2D969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B44-9AD6-4782-ABFF-E2F69F46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5E3-C4CC-43D4-95FB-B9345764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89B-1A95-4F39-9662-E59B4808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B61-FD0D-4881-9E05-AFE9563E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6BC-684E-48F6-B2AC-9D98FE14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3AF-D7BA-42D0-8C89-02D69881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C19-3410-4BF9-B82E-0C71FFBE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AAE-0CD4-4266-ACA9-F831E294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63A-F3B6-4D2E-AFAA-0378B043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5FD-28C0-483E-B48E-3C4A6A0C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5A4-CACF-4343-993D-7AEC7BB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0382-13A3-4C4F-8B63-232232CD6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286000"/>
            <a:ext cx="23623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obil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371240" y="31240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76320"/>
            <a:ext cx="426708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ppendi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WAP architectures on GPRS (examp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133720"/>
            <a:ext cx="2209680" cy="152280"/>
          </a:xfrm>
          <a:prstGeom prst="leftRightArrow">
            <a:avLst>
              <a:gd name="adj1" fmla="val 50000"/>
              <a:gd name="adj2" fmla="val 28886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4120" y="17524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8520" y="2819520"/>
            <a:ext cx="9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PR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477120" y="518148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5181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59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3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64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65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66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9640" y="762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perato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obile opera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22800" y="762120"/>
            <a:ext cx="85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erator’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0720" y="11430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rtner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640" y="228600"/>
            <a:ext cx="195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erator’s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0760" y="34290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1800" y="2209680"/>
            <a:ext cx="2044800" cy="175284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86600" y="365760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3657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1480" y="386064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6720" y="41148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7440" y="568944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5840" y="54864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43000" y="525780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52578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03840" y="538488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3640" y="61722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892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172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295280" y="4876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4960" y="571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197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4038480"/>
          <a:ext cx="53316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4038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57800" y="4724280"/>
          <a:ext cx="5335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57800" y="47242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619040" y="287028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53840" y="213372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886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6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7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7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09880" y="16765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9280" y="320040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leco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09680" y="4038480"/>
            <a:ext cx="1141560" cy="990720"/>
            <a:chOff x="2209680" y="4038480"/>
            <a:chExt cx="1141560" cy="990720"/>
          </a:xfrm>
        </p:grpSpPr>
        <p:grpSp>
          <p:nvGrpSpPr>
            <p:cNvPr id="237" name=""/>
            <p:cNvGrpSpPr/>
            <p:nvPr/>
          </p:nvGrpSpPr>
          <p:grpSpPr>
            <a:xfrm>
              <a:off x="2209680" y="4038480"/>
              <a:ext cx="1141560" cy="990720"/>
              <a:chOff x="2209680" y="4038480"/>
              <a:chExt cx="1141560" cy="9907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881800" y="4131000"/>
                <a:ext cx="469440" cy="851040"/>
                <a:chOff x="2881800" y="4131000"/>
                <a:chExt cx="469440" cy="85104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064680" y="4131000"/>
                  <a:ext cx="286560" cy="684360"/>
                  <a:chOff x="3064680" y="4131000"/>
                  <a:chExt cx="286560" cy="68436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139200" y="4220640"/>
                    <a:ext cx="212040" cy="500400"/>
                    <a:chOff x="3139200" y="4220640"/>
                    <a:chExt cx="212040" cy="50040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3139200" y="4220640"/>
                      <a:ext cx="212040" cy="500400"/>
                      <a:chOff x="3139200" y="4220640"/>
                      <a:chExt cx="212040" cy="50040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3194640" y="4251960"/>
                        <a:ext cx="156600" cy="408960"/>
                        <a:chOff x="3194640" y="4251960"/>
                        <a:chExt cx="156600" cy="40896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3213720" y="4251960"/>
                          <a:ext cx="137520" cy="408960"/>
                          <a:chOff x="3213720" y="4251960"/>
                          <a:chExt cx="137520" cy="408960"/>
                        </a:xfrm>
                      </p:grpSpPr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3288240" y="4495680"/>
                            <a:ext cx="63000" cy="1040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000" bIns="27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3231720" y="4525560"/>
                            <a:ext cx="8028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3269160" y="4343040"/>
                            <a:ext cx="64080" cy="105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720" bIns="27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3213720" y="4251960"/>
                            <a:ext cx="8136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3269880" y="4343040"/>
                            <a:ext cx="56160" cy="23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3194640" y="4372920"/>
                          <a:ext cx="118800" cy="1980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3194640" y="4495680"/>
                          <a:ext cx="81360" cy="136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3220200" y="4314600"/>
                          <a:ext cx="61200" cy="25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3194640" y="4617000"/>
                        <a:ext cx="61920" cy="1040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3139200" y="4220640"/>
                        <a:ext cx="82080" cy="136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3214440" y="4591080"/>
                        <a:ext cx="432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206880" y="4288320"/>
                      <a:ext cx="237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3064680" y="4131000"/>
                    <a:ext cx="192240" cy="622800"/>
                    <a:chOff x="3064680" y="4131000"/>
                    <a:chExt cx="192240" cy="62280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081600" y="4496040"/>
                      <a:ext cx="156960" cy="257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3101040" y="4312080"/>
                      <a:ext cx="15588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064680" y="4131000"/>
                      <a:ext cx="118440" cy="196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139200" y="4251960"/>
                      <a:ext cx="62280" cy="104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3101040" y="4228560"/>
                      <a:ext cx="10584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3153600" y="4545360"/>
                      <a:ext cx="6768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3" name=""/>
                  <p:cNvSpPr/>
                  <p:nvPr/>
                </p:nvSpPr>
                <p:spPr>
                  <a:xfrm>
                    <a:off x="3064680" y="468000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21920" y="4664160"/>
                    <a:ext cx="4356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2881800" y="4816800"/>
                  <a:ext cx="100440" cy="165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70720" y="4816800"/>
                  <a:ext cx="82080" cy="136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022560" y="4768200"/>
                  <a:ext cx="81360" cy="134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46960" y="4743720"/>
                  <a:ext cx="176040" cy="19152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209680" y="4136040"/>
                <a:ext cx="279360" cy="587520"/>
                <a:chOff x="2209680" y="4136040"/>
                <a:chExt cx="279360" cy="58752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2209680" y="4220280"/>
                  <a:ext cx="147600" cy="350280"/>
                  <a:chOff x="2209680" y="4220280"/>
                  <a:chExt cx="147600" cy="3502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209680" y="4342680"/>
                    <a:ext cx="61920" cy="10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220120" y="4434120"/>
                    <a:ext cx="83520" cy="13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239200" y="4220280"/>
                    <a:ext cx="11808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229480" y="4354560"/>
                    <a:ext cx="432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2258280" y="4136040"/>
                  <a:ext cx="230760" cy="587520"/>
                  <a:chOff x="2258280" y="4136040"/>
                  <a:chExt cx="230760" cy="5875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332800" y="4160520"/>
                    <a:ext cx="156240" cy="258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258280" y="434304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276280" y="4434480"/>
                    <a:ext cx="12096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313720" y="4525560"/>
                    <a:ext cx="11952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323440" y="4285800"/>
                    <a:ext cx="105480" cy="16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418480" y="4136040"/>
                    <a:ext cx="6228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58000" y="4250520"/>
                    <a:ext cx="756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282400" y="4406760"/>
                    <a:ext cx="8712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4" name=""/>
                <p:cNvSpPr/>
                <p:nvPr/>
              </p:nvSpPr>
              <p:spPr>
                <a:xfrm>
                  <a:off x="2411640" y="419832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52240" y="4038480"/>
                <a:ext cx="831240" cy="990720"/>
                <a:chOff x="2352240" y="4038480"/>
                <a:chExt cx="831240" cy="990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13600" y="4068000"/>
                  <a:ext cx="194760" cy="319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82800" y="4038480"/>
                  <a:ext cx="15588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33280" y="431208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444760" y="4496040"/>
                  <a:ext cx="288720" cy="47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58400" y="4557240"/>
                  <a:ext cx="211680" cy="34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70240" y="4588560"/>
                  <a:ext cx="156240" cy="256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352240" y="4373280"/>
                  <a:ext cx="15516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25680" y="4131000"/>
                  <a:ext cx="252000" cy="410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52120" y="461736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970720" y="4160880"/>
                  <a:ext cx="194400" cy="317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912760" y="4038480"/>
                  <a:ext cx="176400" cy="288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417040" y="4115160"/>
                  <a:ext cx="722880" cy="78732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2428200" y="4509000"/>
              <a:ext cx="1850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440800" y="43434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971800" y="5257800"/>
          <a:ext cx="533520" cy="914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52578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809880" y="5486400"/>
          <a:ext cx="2286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098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52480" y="5105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Home p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4952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4240" y="500364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mpetitor’s 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0360" y="58672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hird-par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5200" y="533412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 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Mobile recommendations November 200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Kimberly Y. De Haan</cp:lastModifiedBy>
  <cp:lastPrinted>2000-11-09T13:38:14Z</cp:lastPrinted>
  <dcterms:modified xsi:type="dcterms:W3CDTF">2000-11-21T10:59:17Z</dcterms:modified>
  <cp:revision>24</cp:revision>
  <dc:subject/>
  <dc:title>Aucun titre de diapositive</dc:title>
</cp:coreProperties>
</file>